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B62D6-21C7-4631-9079-B5D131A89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A7904-B0FD-4FF4-84C3-707943C99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9316F-264C-493A-B407-DE8A79DA5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8C107-7A3F-4017-B5F4-D11A227B1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AA6E26-D1AA-47CF-A6F6-98B411999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FCEEE-A150-41F4-9FEC-590B84A96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09239-8175-443B-BDF0-1E2BBB93B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DA669-43D3-4849-849A-020E80EC3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FE390-F372-4CE0-A62A-7E42907E8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A6209-18F3-49F3-B56D-6B28F72C4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D6EBA-3B32-4FB0-A234-890B7D883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E42A8-EB90-43EA-8A17-61205EBDF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EE93B-9B7D-493E-9498-8ABB2E21E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DC9-1D14-45F3-869E-FFBA4834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0516-6721-4E5D-A26A-C592D061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4B5-492A-4CBF-8720-36C222B4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37B0-250B-4888-9655-A61392882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818-2A5E-40EB-9353-232DC603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0091-DE9F-4B28-90F9-D2DD48A1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37A-4D2A-4953-B520-A330AB4A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8C5-FCE2-4E95-93B4-2E5AA838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692B-EFE0-4F10-B4BF-104480F9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DD0-6ECC-4A9F-A601-18BDB30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735-87B8-4009-93C9-CD15374F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A9DF-E57D-4129-8B28-70388773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8F064-0117-462F-AC8B-28C3E1D36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“Isms”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umber a piece of paper 1-9.  As you see numbered definitions appear on the screen, record the “ism” that corresponds with that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ystem in which the means of production (like factories and farms) and wealth are publicly owned and controlled by the gover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can be implemented completely or partia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ib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Fasc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Naz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49240" y="1722600"/>
            <a:ext cx="87249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any of these terms seem ideologic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pp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ich of these terms seem ideologic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hich of these ideas, if any, do you identify with?  Why do you identify with the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tical system that values democracy, individual rights, privately-owned property, and free market capital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Government control over all aspects of public and private life.  Power is held by just one ruling party or group and they push the country towards a specific ideolo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tical movement that promotes an extreme form of nationalism, a denial of individual rights, and dictatorial one-party r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system tries to eliminate anything that “weakens the sta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ly, it’s a socialist society that exists without a central gover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as never actually existed on a large scal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ypically ends up with a totalitarian state that implements a socialist econo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cy of avoiding political or military involvement with other count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soci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The Fascist policies of the National Socialist German Worker’s par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Based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totalitarian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ggressive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ryan racial supe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who fall outside the national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3:29:05Z</dcterms:created>
  <dc:creator/>
  <dc:description/>
  <dc:language>en-US</dc:language>
  <cp:lastModifiedBy>Dom Lambek</cp:lastModifiedBy>
  <dcterms:modified xsi:type="dcterms:W3CDTF">2018-01-03T12:55:55Z</dcterms:modified>
  <cp:revision>5</cp:revision>
  <dc:subject/>
  <dc:title>20th Century “Isms” Review</dc:title>
</cp:coreProperties>
</file>