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3BFA0-7364-4F09-B836-6EC159323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A6FD1E-10A4-4F9D-9A38-5A9971951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557A6-CF4C-454A-BAD5-2ADAD3581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0457B-893C-4E4D-AF27-6C832896D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85744-7749-4AB4-A591-917D2A3DE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ECD84-F3C9-4F42-B6B3-3DA5E198E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4F103-E5A0-4D84-89FF-37FB990B0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776B0-E0E6-4DFD-B809-EDC3DF23C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21C14-97A0-459C-9998-6515665D5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ED971-0389-4ACE-AFEE-A4CCF914C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91A90-F173-455B-8010-4A3EF1127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FBD36-4E48-42CE-8E96-0D98842F7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2AF960-3C26-48C0-A767-C8D7EB2EC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A28D-6408-465D-895D-C0D2B622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5583-EA1A-4B33-80C7-AE76941E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B9B3-1277-45D5-84B5-4FB97586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F433-FE58-441A-AF2E-FF3550890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0C7B-8383-47D6-BCED-933B98ED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7F00-4238-4A5A-A97F-7E6C6450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0E1D-8608-4580-8CAC-747888C1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1B14-A0D3-42F3-9016-A1FE7A95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4A35-D5BF-443B-9904-84D20504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F2B0-3F3C-477D-B442-A25383D9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3E80-7F1E-4C6B-9F72-EBA33497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BF79-6CB6-4977-9899-D2C083D0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4A464-7EFA-4805-A35C-744A7D3DF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44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“Isms”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umber a piece of paper 1-9.  As you see numbered definitions appear on the screen, record the “ism” that corresponds with that defin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ystem in which the means of production (like factories and farms) and wealth are publicly owned and controlled by the govern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can be implemented completely or partial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Liber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otalitari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Fasc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Commun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Isolatio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Imper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 Naz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 Na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 Soc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Do any of these terms seem ideologically opposed to each other?  Which 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Which of these terms seem ideologically similar to each oth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Which of these ideas, if any, do you identify with?  Why do you identify with them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A political system that values democracy, individual rights, privately-owned property, and free market capitalis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Government control over all aspects of public and private life.  Power is held by just one ruling party or group and they push the country towards a specific ideolog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70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olitical movement that promotes an extreme form of nationalism, a denial of individual rights, and dictatorial one-party ru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system tries to eliminate anything that “weakens the stat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ly, it’s a socialist society that exists without a central govern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has never actually existed on a large scal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typically ends up with a totalitarian state that implements a socialist econom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A policy of avoiding political or military involvement with other countri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a stronger country or empire controls a weaker territory in order to exert political, economic, and/or social infl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The Fascist policies of the National Socialist German Worker’s par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Based 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079640" indent="-21600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Arial Unicode MS"/>
              </a:rPr>
              <a:t>totalitarian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079640" indent="-21600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Arial Unicode MS"/>
              </a:rPr>
              <a:t>aggressive expan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079640" indent="-21600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Arial Unicode MS"/>
              </a:rPr>
              <a:t>Aryan racial superio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#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the people living in a particular region and sharing certain cultural characteristics have a common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dea drives people to act in the interest of their perceived nation, and sometimes to think less of those belonging to other national cul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drives people of a common ethnic group to seek self-rule in their own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23:29:05Z</dcterms:created>
  <dc:creator>Suzanne</dc:creator>
  <dc:description/>
  <dc:language>en-US</dc:language>
  <cp:lastModifiedBy>Suzanne</cp:lastModifiedBy>
  <dcterms:modified xsi:type="dcterms:W3CDTF">2013-12-10T15:37:28Z</dcterms:modified>
  <cp:revision>1</cp:revision>
  <dc:subject/>
  <dc:title>20th Century “Isms” Review</dc:title>
</cp:coreProperties>
</file>