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6D3C6-149C-4AD4-BBB1-D00B0FDB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A4AC4-272E-4FCC-AF64-4A7FF7E1F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4CFD5-62C2-4DD8-A3CC-2C0D8739C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9D909-1843-4642-84FC-E66491924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F3826-A9D3-4B68-A921-971BA6A95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95339-8AE1-4ADD-A099-195D3EC7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0BBB9-35C0-43D0-86FE-B54C0A473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AC3EC-246D-4471-AFFC-E90632B9D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6F31B-38F7-4510-BC4F-4412AEEED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B4CA7-247E-4D30-9908-6CDC77909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5FC52D-58D3-4B25-BA53-B50F43681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42AD1-36B7-4C78-A327-E8A6F78F1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5974D-E11E-4BAC-81B8-CF3AE6D68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F66-953F-47C0-B899-3A2748C8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3EA-D878-4139-877E-72A1A38A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E27A-4430-4E27-B03C-30F61CA2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F40-10AF-4487-B961-4A258C615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86C-AE37-4735-8E30-08ACB510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4428-64D5-4A2A-9CC4-8F98F97C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6B0-85E5-4F86-AF64-4F8F1CFD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E7B-EBD1-4CC8-B26A-A261BA97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46D9-40D6-4B9F-BD1A-4657E9B6C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9BD-2451-4E4E-906A-446794C6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BA4-9EFF-4C68-9CE9-11B01A0B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1C8-75D1-42B3-ACE5-6700F052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E5236-A6C9-4823-A84F-9C01E70A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opposed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similar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079640" indent="-216000">
              <a:lnSpc>
                <a:spcPct val="93000"/>
              </a:lnSpc>
              <a:buClr>
                <a:srgbClr val="000000"/>
              </a:buClr>
              <a:buSzPct val="45000"/>
              <a:buFont typeface="Symbol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Arial Unicode MS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>Suzanne</dc:creator>
  <dc:description/>
  <dc:language>en-US</dc:language>
  <cp:lastModifiedBy>Suzanne</cp:lastModifiedBy>
  <dcterms:modified xsi:type="dcterms:W3CDTF">2013-12-10T15:37:28Z</dcterms:modified>
  <cp:revision>1</cp:revision>
  <dc:subject/>
  <dc:title>20th Century “Isms” Review</dc:title>
</cp:coreProperties>
</file>