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776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176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7212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555120"/>
            <a:ext cx="337176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9E7553-B9EC-4085-8F25-F40EEDA53E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Slide Number Placeholder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002E6D-27BA-42EC-B8DB-3EFB9F29BB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Slide Number Placeholder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FD9F0A-5FEE-4750-898D-BE319B8E80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Slide Number Placeholder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643B81-4591-45CB-8572-7D909D560A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Slide Number Placeholder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554AC3-307B-4D35-ACBF-7BE61D0890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Slide Number Placeholder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6589CF-0EBF-4071-930A-E1B1507A2D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Slide Number Placeholder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89A088-4F58-4993-860F-016ABB76F0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Slide Number Placeholder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DD27A0-491B-4CBD-9354-15542A51E9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lide Number Placeholder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7D6625-31FE-450A-9850-DF508FA416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Slide Number Placeholder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000D3E-0CB3-4D02-8F7F-F75EDCAE58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Slide Number Placeholder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7EDE87-3E6E-4B92-864F-8521F8733E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87455A-5070-4A2F-8122-92414E36E4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lide Number Placeholder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91F911-3838-4E85-9831-D85F9A9C65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64573-2E6E-4AD2-B4D6-B8CB9447D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AD7CC-9568-4963-9B15-68A421857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C5621-3412-4F19-8C13-3F99C1567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274E9-0676-41D1-B0A0-7DF02A0F0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D97FF-A639-44EB-8C71-76E8A38D6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33956-EBCD-4930-A89E-02E9241F3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41DA7-D86E-4FE1-8F6E-9EC497F14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3B410-0F3E-4166-9DCC-FFE247612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58F15-2F52-4EA8-8D81-F96764D05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EE2CB-9875-42A9-94AA-B1CD4E26F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389F3-D112-4A7E-B034-DCD1AFE5B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221FF-3376-4432-BF98-07DE1A9F1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8A9B99-9A0C-449C-BC2C-8926D8DAD8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en-US" sz="4400" spc="-1" strike="noStrike" baseline="33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Century “Isms” Re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re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 Number a piece of paper 1-9.  As you see numbered definitions appear on the screen, record the “ism” that corresponds with that defini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5832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#9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system in which the means of production (like factories and farms) and wealth are publicly owned and controlled by the governmen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can be implemented completely or partially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sw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584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 Liberal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 Totalitarian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 Fascism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 Communism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  Isolation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1600" y="1767960"/>
            <a:ext cx="442584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.  Imperial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.  Naz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.  National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.  Social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pplication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849240" y="1722600"/>
            <a:ext cx="872496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 Do any of these terms seem ideologicall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oppos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each other?  Which on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 Which of these terms seem ideologicall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imila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each other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 Which of these ideas, if any, do you identify with?  Why do you identify with them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Franklin Gothic Book"/>
              </a:rPr>
              <a:t>A political system that values democracy, individual rights, privately-owned property, and free market capitalism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Franklin Gothic Book"/>
              </a:rPr>
              <a:t>Government control over all aspects of public and private life.  Power is held by just one ruling party or group and they push the country towards a specific ideology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9070920" cy="1171440"/>
          </a:xfrm>
          <a:prstGeom prst="rect">
            <a:avLst/>
          </a:prstGeom>
          <a:noFill/>
          <a:ln w="0">
            <a:noFill/>
          </a:ln>
        </p:spPr>
        <p:txBody>
          <a:bodyPr lIns="0" rIns="0" tIns="7056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#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political movement that promotes an extreme form of nationalism, a denial of individual rights, and dictatorial one-party rul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system tries to eliminate anything that “weakens the state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5832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#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oretically, it’s a socialist society that exists without a central governme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s has never actually existed on a large scale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t typically ends up with a totalitarian state that implements a socialist econom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#5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Franklin Gothic Book"/>
              </a:rPr>
              <a:t>A policy of avoiding political or military involvement with other countries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5832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#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en a stronger country or empire controls a weaker territory in order to exert political, economic, and/or social influ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5832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#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Franklin Gothic Book"/>
              </a:rPr>
              <a:t>The Fascist policies of the National Socialist German Worker’s part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Franklin Gothic Book"/>
              </a:rPr>
              <a:t>Based on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4" marL="1434960" indent="-571320">
              <a:lnSpc>
                <a:spcPct val="93000"/>
              </a:lnSpc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Franklin Gothic Book"/>
                <a:ea typeface="ＭＳ Ｐゴシック"/>
              </a:rPr>
              <a:t>totalitarianism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4" marL="1434960" indent="-571320">
              <a:lnSpc>
                <a:spcPct val="93000"/>
              </a:lnSpc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Franklin Gothic Book"/>
                <a:ea typeface="ＭＳ Ｐゴシック"/>
              </a:rPr>
              <a:t>aggressive expans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4" marL="1434960" indent="-571320">
              <a:lnSpc>
                <a:spcPct val="93000"/>
              </a:lnSpc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Franklin Gothic Book"/>
                <a:ea typeface="ＭＳ Ｐゴシック"/>
              </a:rPr>
              <a:t>Aryan racial superior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5292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#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idea that the people living in a particular region and sharing certain cultural characteristics have a common intere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dea drives people to act in the interest of their perceived nation, and sometimes to think less of those who fall outside the national cult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also drives people of a common ethnic group to seek self-rule in their own n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3T23:29:05Z</dcterms:created>
  <dc:creator/>
  <dc:description/>
  <dc:language>en-US</dc:language>
  <cp:lastModifiedBy>Dom Lambek</cp:lastModifiedBy>
  <dcterms:modified xsi:type="dcterms:W3CDTF">2018-01-03T12:55:55Z</dcterms:modified>
  <cp:revision>5</cp:revision>
  <dc:subject/>
  <dc:title>20th Century “Isms” Review</dc:title>
</cp:coreProperties>
</file>