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C6EB4-3D82-40C8-9734-75A1F588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DC533-4696-45D7-93D0-38CD6BE0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0D9B3-F1AF-4377-81BC-94BEB2AEE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787EF-00AF-41E3-A07B-08654DD38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1F403-740C-47B0-9D7A-EFB686D5C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2B698-54EC-4938-8E3D-55408CD75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A6FF0-A73D-4B35-980B-180788228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428BA-1407-40A9-B53E-1D3D71EAF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20003-741D-43CD-AC35-A112E32B5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CA8FD-8178-4530-8D3A-D26905BFC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3ECAC-B7DC-4F73-86CD-2C0769726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D25AA7-C24C-4724-A1C5-3BE0053AF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356E7-9ECB-4647-BB71-052EF561A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E89-EFDA-4F03-AA55-9D9625F9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820-122C-415A-B663-451E54FB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E7CB-01CA-4216-8526-A5E23F26D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87F-7E71-45B0-BBDD-F8CC1342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875-89D2-4A76-8649-AF68732B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774-5064-4294-8BDE-49986186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F33-9F04-4BFB-BAE8-E1895B8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EED-700E-47BE-9843-733CACF8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21C-558F-4C99-9A57-1EA585C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E6F-B372-4297-9FCE-2815B0E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1EA-A2A5-481F-BCB5-B79F8A5D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DDB-22DF-4019-964D-7F79B159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407B-F485-4E38-B376-84EF54599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44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entury “Isms”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umber a piece of paper 1-9.  As you see numbered definitions appear on the screen, record the “ism” that corresponds with that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stem in which the means of production (like factories and farms) and wealth are publicly owned and controlled by the govern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can be implemented completely or partiall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iber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talitari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Fasc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Isola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1600" y="1767960"/>
            <a:ext cx="44258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Imper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Naz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Nation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So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49240" y="1722600"/>
            <a:ext cx="87249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Do any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ppo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Which o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Which of these terms seem ideological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imi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ach other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Which of these ideas, if any, do you identify with?  Why do you identify with them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tical system that values democracy, individual rights, privately-owned property, and free market capitalis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Government control over all aspects of public and private life.  Power is held by just one ruling party or group and they push the country towards a specific ideolog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428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tical movement that promotes an extreme form of nationalism, a denial of individual rights, and dictatorial one-party ru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system tries to eliminate anything that “weakens the stat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etically, it’s a socialist society that exists without a central govern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has never actually existed on a large scal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ypically ends up with a totalitarian state that implements a socialist econom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63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anklin Gothic Book"/>
              </a:rPr>
              <a:t>A policy of avoiding political or military involvement with other countri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soci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#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The Fascist policies of the National Socialist German Worker’s par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</a:rPr>
              <a:t>Based 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totalitarian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ggressive expan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1434960" indent="-571320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ＭＳ Ｐゴシック"/>
              </a:rPr>
              <a:t>Aryan racial supe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#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who fall outside the national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23:29:05Z</dcterms:created>
  <dc:creator/>
  <dc:description/>
  <dc:language>en-US</dc:language>
  <cp:lastModifiedBy>Dom Lambek</cp:lastModifiedBy>
  <dcterms:modified xsi:type="dcterms:W3CDTF">2018-01-03T12:55:55Z</dcterms:modified>
  <cp:revision>5</cp:revision>
  <dc:subject/>
  <dc:title>20th Century “Isms” Review</dc:title>
</cp:coreProperties>
</file>