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620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644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6200" y="868644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E4705F-F4AC-42BC-8F82-AA0C9958D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858A6-14FE-4366-A1FB-BAEB7A77C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56BC69-8ECF-44F4-91D9-0FCACF6E9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8471EB-AFC5-4AF5-8926-B349ED695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coln-Douglas Deb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B52F5B-1467-476A-A0D0-4233D6107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coln-Douglas Deb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5D00A-695B-4D00-89AC-34E7AB91E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Brown 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3A667C-ABBD-4FFF-9704-352340388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FC0E0-396B-4012-831D-A04931422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83EA6C-BE33-443A-B762-B029D23AB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951CD-EB23-4881-B2A5-4EE47125F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B589BE-7D78-4595-AB38-4F2604BAE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7C1752-C6E5-44D7-9D4E-12132FDC1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riet Beecher Sto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AF9DC6-ACA2-44E1-8479-631768ED9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36F08-43A5-45BD-B50B-34EF1A31C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5420F-92A8-405D-884E-A0D246F92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6845-EA8F-415A-B804-D215EC0ED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191A-B8E3-4ECE-B014-A02D5D7C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3D46-BA2C-4EC9-84EF-FCD489073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B6CA-8095-4E24-A016-665914CF4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4468-E957-4FA5-86B9-E6690F54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B686-5D53-4472-9A61-AE9BC7D6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44E1-7607-4942-AFF2-35F41E8C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5697-F0AB-4567-B1AD-5A0C5161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B8DF-326A-4AEB-AEF6-35C8A749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94B8-2887-4B56-9185-A618802E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0203-1A83-4C6C-AE5E-7E8014E9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8CDD-F939-4084-BE57-90056D9C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018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28926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19018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D4AA53-0760-46F2-A82D-2B55EA8193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248520" cy="47545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1905120" y="6858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 Turner’s Rebellion:  Virginia, 183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304920" y="2444760"/>
            <a:ext cx="4800600" cy="2813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5505480" y="990720"/>
            <a:ext cx="3219480" cy="48006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38088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your opinion, which picture is more accura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5089680" y="762120"/>
            <a:ext cx="3825720" cy="5870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4647960" cy="413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2077920" y="304920"/>
            <a:ext cx="492948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0" y="338040"/>
            <a:ext cx="9144000" cy="618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-1219320" y="685800"/>
            <a:ext cx="1082052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216400" cy="55292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"/>
          <p:cNvSpPr/>
          <p:nvPr/>
        </p:nvSpPr>
        <p:spPr>
          <a:xfrm>
            <a:off x="6019920" y="1295280"/>
            <a:ext cx="2743200" cy="30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Liberator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litionist newspaper published by William Lloyd Garri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3987720" cy="60436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2"/>
          <p:cNvSpPr/>
          <p:nvPr/>
        </p:nvSpPr>
        <p:spPr>
          <a:xfrm>
            <a:off x="5334120" y="1676520"/>
            <a:ext cx="274320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riet Tub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er of the “Underground Railroad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rederick Douglass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3124440" cy="4572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5486400" y="2133720"/>
            <a:ext cx="2971800" cy="56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"I would unite with anybody to do right and with nobody to do wrong.“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0" y="1066680"/>
            <a:ext cx="4898880" cy="5562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5030640" y="228600"/>
            <a:ext cx="3907080" cy="624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614840" cy="51051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2"/>
          <p:cNvSpPr/>
          <p:nvPr/>
        </p:nvSpPr>
        <p:spPr>
          <a:xfrm>
            <a:off x="2438280" y="6094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hn Br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1295280" y="-12600"/>
            <a:ext cx="496116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2"/>
          <p:cNvSpPr/>
          <p:nvPr/>
        </p:nvSpPr>
        <p:spPr>
          <a:xfrm>
            <a:off x="5867280" y="54100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ohn Brown in 1859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2292480" y="0"/>
            <a:ext cx="460368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357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6T18:08:13Z</dcterms:created>
  <dc:creator>chsd230</dc:creator>
  <dc:description/>
  <dc:language>en-US</dc:language>
  <cp:lastModifiedBy>Dominic Lambek</cp:lastModifiedBy>
  <dcterms:modified xsi:type="dcterms:W3CDTF">2014-06-03T13:34:13Z</dcterms:modified>
  <cp:revision>11</cp:revision>
  <dc:subject/>
  <dc:title>PowerPoint Presentation</dc:title>
</cp:coreProperties>
</file>