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50259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6200" y="868644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94B9F-3E79-4AC3-A436-DB47386C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1D60B-26C9-4325-8A76-2E4B4CEC0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34828-3D39-4F70-998C-7B836434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4DF3C-A6FB-4604-B22A-F52DDD83E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7C88A2-154C-4168-8327-DB6ABB0E3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coln-Douglas Deb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26BD7-3749-4786-ACCD-4BBDFEF63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Brown 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38FBA-7DF1-42EE-AC3E-87892C9E0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3C8FB-B90A-4FDE-8775-DC7695297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CA901-79DA-4F26-B37C-EE9552FB4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DF2C7-7529-41CC-8DC1-C0FD8E273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BDFD-AE0A-4483-B143-0F78D873E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12BD1-29CA-45FC-99C2-578166344A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Beecher St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1C284-1ABF-4C09-B5E8-316DF207A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64948-B0BE-4889-8E96-AE3EAB2D6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86200" y="868680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F7A7-681C-4590-B373-EF566863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A7E0-CE9C-475B-8F22-B98CA1F2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22E-45B6-4BBF-B885-FDF286B5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9F0-C1D5-4E02-8D31-E46F1229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77C-2263-44FC-AA88-C035F5DB1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522-DC60-4CDF-A596-1EC1C6E6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2C1-4DB3-48E0-84B4-21D80EA4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E3D-BDCE-4F3F-8088-B2174C7E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EB3-ECC6-4E71-AD66-6C77E868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984-69AF-4A5C-8AEC-1BEA2EB3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F4A-16B0-4F27-9E9C-17ACCCE3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1B4-76A8-4085-9E83-6957F79A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3038-EF9B-4167-BD69-1092ADD3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B823F-296F-41D2-83C9-987D59F1EB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24852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1905120" y="6858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 Turner’s Rebellion:  Virginia, 18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304920" y="2444760"/>
            <a:ext cx="4800600" cy="2813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5505480" y="990720"/>
            <a:ext cx="321948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808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your opinion, which picture is more accura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089680" y="762120"/>
            <a:ext cx="3825720" cy="5870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64796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2077920" y="304920"/>
            <a:ext cx="492948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0" y="338040"/>
            <a:ext cx="9144000" cy="618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-1219320" y="685800"/>
            <a:ext cx="108205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5216400" cy="5529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6019920" y="1295280"/>
            <a:ext cx="274320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Liberat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litionist newspaper published by William Lloyd Gar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3987720" cy="6043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5334120" y="1676520"/>
            <a:ext cx="274320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riet Tubm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er of the “Underground Railroa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rederick Douglas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3124440" cy="4572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486400" y="2133720"/>
            <a:ext cx="29718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I would unite with anybody to do right and with nobody to do wrong.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1066680"/>
            <a:ext cx="4898880" cy="556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030640" y="228600"/>
            <a:ext cx="390708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614840" cy="5105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2438280" y="609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Br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1295280" y="-12600"/>
            <a:ext cx="49611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867280" y="54100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ohn Brown in 185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2292480" y="0"/>
            <a:ext cx="4603680" cy="686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357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8:08:13Z</dcterms:created>
  <dc:creator>chsd230</dc:creator>
  <dc:description/>
  <dc:language>en-US</dc:language>
  <cp:lastModifiedBy>Dominic Lambek</cp:lastModifiedBy>
  <dcterms:modified xsi:type="dcterms:W3CDTF">2014-06-03T13:34:13Z</dcterms:modified>
  <cp:revision>11</cp:revision>
  <dc:subject/>
  <dc:title>PowerPoint Presentation</dc:title>
</cp:coreProperties>
</file>