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0.png" ContentType="image/png"/>
  <Override PartName="/ppt/media/image2.jpeg" ContentType="image/jpe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12B0-1F03-4D53-A822-F11D1672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955-3935-4D8D-8123-67FC4CDF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4791-0CE4-4505-BC64-E51B9FCA2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1D6D-6013-406C-8BEB-3747EEC71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5EB-A9DB-4616-8866-DCC062E1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AF8-8A40-4AC2-93F2-2BCBD48C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230-4F53-41B4-BCC4-C59795ADC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7E08-EB76-47B9-86B1-C8C2B90D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ECB-634F-4E07-BBD3-7D99190A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88E8-3B2B-473A-89C0-CABC1D9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D773-46D4-482D-8F15-5345FA6A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A5E-CDF8-46DC-9CBE-B8AFD52C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28926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19018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C317E-B96F-4E3C-97CB-7618A8BC34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KqXu-5jw60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Arms 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3320" y="1919160"/>
            <a:ext cx="8721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uclear weapons became the biggest source of tension in the Cold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.S. used used two nuclear bombs on Japanese cities to end World War II in 19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USSR tested their first nuke in 1949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y the 1950’s, both sides had enough weapons to literally wipe out the other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84280" indent="-5684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D = Mutually Assured 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04920" y="152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- How powerful were these blas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914400"/>
            <a:ext cx="4114800" cy="2975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743200" y="3962520"/>
            <a:ext cx="400068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3520" y="3067200"/>
            <a:ext cx="4495680" cy="3552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04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– How did Japan respo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724280" y="990720"/>
            <a:ext cx="4114800" cy="32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ban Missile Cr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30240"/>
            <a:ext cx="868680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Cold War hit its most tense moment during the Cuban Missi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risis in October of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viets placed missiles in Cuba (90 miles from Flori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fter 13 tense days of negotiation with U.S. President John F. Kennedy, Soviet President Kruschev agreed to remove th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issiles from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as it like to live under the threat of a nuclear att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ck and Cover: 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v=IKqXu-5jw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229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Arms Re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3240" y="2057400"/>
            <a:ext cx="37926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.S. and the USSR signed the START treaty in 19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164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led to both countries reducing the size of their nuclear arse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7400" y="1981080"/>
            <a:ext cx="37922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89360" y="1828800"/>
            <a:ext cx="53546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7240" y="10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uclear weapons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79995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86800" cy="59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2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22860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Q – What is an “atomic bomb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230480"/>
            <a:ext cx="5562720" cy="372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5334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lit into tw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tremendous amount of energy is released (the explo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53352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Then, what is a “hydrogen bomb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63520" y="1523880"/>
            <a:ext cx="4156200" cy="441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52880" y="1830240"/>
            <a:ext cx="3733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ydrogen bomb 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the combining of two unstable elements, releasing a tremendous amoun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533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 – What does the resulting explosion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99896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 – How many times have nuclear weapons been us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4495680" cy="3224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57200" y="4419720"/>
            <a:ext cx="838188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WIC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6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ust 9, 1945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Q - How was the first atomic bomb buil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3417840" cy="432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. Robert Oppenhei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419112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ellCent BdList BT"/>
              </a:rPr>
              <a:t>Manhattan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29200" y="1401840"/>
            <a:ext cx="3505320" cy="25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 – What does an atomic bomb look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66680" y="1065240"/>
            <a:ext cx="6705720" cy="4344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90720" y="568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t Man” and “Little Boy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8600" y="3049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were the atomic bombs dropp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353960"/>
            <a:ext cx="6934320" cy="3446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5800" y="1047600"/>
            <a:ext cx="7543800" cy="535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2860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Q- How much damage did these bombs 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880" cy="3012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6320" y="3576600"/>
            <a:ext cx="4876560" cy="320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6262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gasa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10666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osh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14:23:21Z</dcterms:created>
  <dc:creator>peronto's</dc:creator>
  <dc:description/>
  <dc:language>en-US</dc:language>
  <cp:lastModifiedBy>Emily Dolci</cp:lastModifiedBy>
  <dcterms:modified xsi:type="dcterms:W3CDTF">2008-05-13T13:08:09Z</dcterms:modified>
  <cp:revision>5</cp:revision>
  <dc:subject/>
  <dc:title>PowerPoint Presentation</dc:title>
</cp:coreProperties>
</file>