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CFCD-84FF-4E97-8F44-EBCA0C5B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3ECC-039F-4ADF-BD22-3AE5C42C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27F-B0AE-4C08-BB96-99FA11FB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5C9-B89B-496A-B1EE-023E1F43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5F0-2CBC-49AB-A5AF-3A5BD79D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546E-0A56-4CBD-9487-A9324769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F00-B8EC-4BD0-A260-FC5704A3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80CD-59D5-4D1F-B18B-09ED7B60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E14-245E-43F9-8466-650178A6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00F-ABAE-4607-B9B3-CFFD4095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761-52BA-48CB-93AB-467059DC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CFB-97C4-4090-8E99-875CDDA6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5C1E6-C134-4C92-B963-0982CBBD6F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clear weapons became the biggest source of tension in 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SSR tested their first nuke in 19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1950’s, both sides had enough weapons to literally wipe out the 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 =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- How powerful were these bl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297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40006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67200"/>
            <a:ext cx="4495680" cy="35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– How did Japan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1148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is in October of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viets placed missiles in Cuba (90 miles from Flor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fter 13 tense days of negotiation with U.S. President John F. Kennedy, Soviet President Kruschev agreed to remove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les from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it like to live under the threat of a nuclear att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rms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240" y="205740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S. and the USSR signed the START treaty in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3792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995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 – What is an “atomic bomb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562720" cy="37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into tw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emendous amount of energy is released (the explo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Then, what is a “hydrogen bomb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3520" y="1523880"/>
            <a:ext cx="415620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83024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gen bomb 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he combining of two unstable elements, releasing a tremendous amoun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 – What does the resulting explosion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989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 – How many times have nuclear weapons been u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495680" cy="322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419720"/>
            <a:ext cx="8381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6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9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- How was the first atomic bomb bui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417840" cy="43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 Robert Oppenhe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191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Cent BdList BT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401840"/>
            <a:ext cx="35053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What does an atomic bomb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065240"/>
            <a:ext cx="6705720" cy="43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68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 Man” and “Little Bo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were the atomic bombs drop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353960"/>
            <a:ext cx="6934320" cy="3446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047600"/>
            <a:ext cx="75438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much damage did these bomb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30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320" y="3576600"/>
            <a:ext cx="4876560" cy="32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6262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4:23:21Z</dcterms:created>
  <dc:creator>peronto's</dc:creator>
  <dc:description/>
  <dc:language>en-US</dc:language>
  <cp:lastModifiedBy>Emily Dolci</cp:lastModifiedBy>
  <dcterms:modified xsi:type="dcterms:W3CDTF">2008-05-13T13:08:09Z</dcterms:modified>
  <cp:revision>5</cp:revision>
  <dc:subject/>
  <dc:title>PowerPoint Presentation</dc:title>
</cp:coreProperties>
</file>