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C7AF-5C6D-4EB4-869B-291AFB30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EA5-3161-4EB7-96EF-9CC2853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10CD-0DC6-4FFC-92A0-D8DD2F10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1B05-4B2E-4311-90EE-38E42D90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258-4AA0-4305-A0C5-7C22DF1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369A-A861-490A-B6E3-F5FD2DC2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AE53-468C-4857-8D98-B48C2427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2C1-CE09-40B3-90ED-267EAF17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1B3-711A-47E4-B1E0-395692EC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0197-8B70-45AE-BA08-C39D78E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719-C49D-4C6F-ADC7-7B4811BB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6DAE-9D57-4782-BB66-69435144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0BB4B-B1DD-4FA7-B634-40E87C82A6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clear weapons became the biggest source of tension in 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SSR tested their first nuke in 19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1950’s, both sides had enough weapons to literally wipe out the 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 = Mutually Assur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- How powerful were these bl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14800" cy="297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40006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67200"/>
            <a:ext cx="4495680" cy="35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– How did Japan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411480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is in October of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viets placed missiles in Cuba (90 miles from Flor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fter 13 tense days of negotiation with U.S. President John F. Kennedy, Soviet President Kruschev agreed to remove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les from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it like to live under the threat of a nuclear att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Arms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240" y="205740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S. and the USSR signed the START treaty in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3792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weapons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995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 – What is an “atomic bomb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562720" cy="37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into tw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emendous amount of energy is released (the explo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Then, what is a “hydrogen bomb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3520" y="1523880"/>
            <a:ext cx="415620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83024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gen bomb 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he combining of two unstable elements, releasing a tremendous amoun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 – What does the resulting explosion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989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 – How many times have nuclear weapons been u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495680" cy="322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4419720"/>
            <a:ext cx="8381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6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9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- How was the first atomic bomb bui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417840" cy="43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 Robert Oppenhe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191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Cent BdList BT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1401840"/>
            <a:ext cx="35053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What does an atomic bomb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065240"/>
            <a:ext cx="6705720" cy="434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568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 Man” and “Little Bo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were the atomic bombs drop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353960"/>
            <a:ext cx="6934320" cy="3446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047600"/>
            <a:ext cx="7543800" cy="535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much damage did these bomb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880" cy="301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320" y="3576600"/>
            <a:ext cx="4876560" cy="32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6262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4:23:21Z</dcterms:created>
  <dc:creator>peronto's</dc:creator>
  <dc:description/>
  <dc:language>en-US</dc:language>
  <cp:lastModifiedBy>Emily Dolci</cp:lastModifiedBy>
  <dcterms:modified xsi:type="dcterms:W3CDTF">2008-05-13T13:08:09Z</dcterms:modified>
  <cp:revision>5</cp:revision>
  <dc:subject/>
  <dc:title>PowerPoint Presentation</dc:title>
</cp:coreProperties>
</file>