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DA619-0FB9-4DAC-8D72-C44ADE5B1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38E09-0EE1-452C-97BC-D101464BAC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4F549-ED56-4CCC-A119-4FC091D319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ECC85-E30B-4EF4-A687-40FDFDA025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06D06-3A91-4319-9904-2DEA017A6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3685B-3B21-461A-9F13-2699565EB5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78AF2-A022-49F8-AA5B-32CA790249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2DFF-CE7A-4634-8DB6-77480BA9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1C58-6338-4C1E-96B0-76C40EFA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3A45-D2AC-4BE0-89C2-4266E26D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543-88CE-410E-AC94-FC43653C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67F7-2474-4259-8185-BAF4D99C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0456-95C4-48CF-91E2-328990C6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CFF1-5867-4C6B-92B8-B598D59B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472-9AC2-41F2-92CC-93D2FA06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E868-7AF6-4E00-95E0-6190B394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E658-AB8B-421C-891F-9E92FFA5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F915-9632-402F-BDC8-D1FFDC10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7D8-5FA6-4291-95CF-AA263DC6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1466E-A262-440E-AF86-A8A025FA6EE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:  Colonialism, Imperialism, and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5029200" cy="5715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316080" y="4541760"/>
            <a:ext cx="23619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hodes Coloss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gazine, 189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olitical cartoon depicts British imperialist Cecil Rhodes striding across the continent of Africa, holding a telegraph wi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122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ion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68360" y="1112400"/>
            <a:ext cx="91058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st definition for this un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ief that people of a common ethnicity or culture should have sovereignty (independent, self-rule) over their own 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important definition for national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dea that the people living in a particular region and sharing certain cultural characteristics have a common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128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dea drives people to act in the interest of their perceived nation, and sometimes to think less of those belonging to other national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Unit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did the colonial experience shape the development of modern nations?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58680" y="1979640"/>
            <a:ext cx="10078920" cy="4421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World Colonization, 18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Colonization, 19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2920" y="176832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6629400"/>
            <a:ext cx="9144000" cy="520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366840" y="186516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un never sets on the British Empire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458640" y="1601640"/>
            <a:ext cx="9142560" cy="54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 Colonization, 19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58680" y="2155680"/>
            <a:ext cx="10078920" cy="40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mperialis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16080" y="1767960"/>
            <a:ext cx="9448560" cy="536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policy of extending a country’s power and influence through military force or diploma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idea </a:t>
            </a:r>
            <a:r>
              <a:rPr b="0" lang="mr-IN" sz="3200" spc="-1" strike="noStrike">
                <a:solidFill>
                  <a:srgbClr val="000000"/>
                </a:solidFill>
                <a:latin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ink of the Roman Empire or other empire-building civilizations in the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don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orm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ith total colonial control over another territory)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form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hrough a range of “soft power” methods like ownership of private industries in a foreign territo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906768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lonial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44320" y="1265040"/>
            <a:ext cx="921996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one country establishes control over another territory for the political or economic benefit of the colonizing (“mother”)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re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ttler colon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when many people from the “mother” country move to live in the colony </a:t>
            </a:r>
            <a:r>
              <a:rPr b="0" lang="mr-IN" sz="3200" spc="-1" strike="noStrike">
                <a:solidFill>
                  <a:srgbClr val="000000"/>
                </a:solidFill>
                <a:latin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ke the U.S. or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creat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pendenc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when a smaller number of people from the colonizing country act as administrators over the native population </a:t>
            </a:r>
            <a:r>
              <a:rPr b="0" lang="mr-IN" sz="3200" spc="-1" strike="noStrike">
                <a:solidFill>
                  <a:srgbClr val="000000"/>
                </a:solidFill>
                <a:latin typeface="Arial Unicode MS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ke the British Raj in India in the 1800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there differences between imperialism and colonial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closely related, and we sometimes use them interchangea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of imperialism a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d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colonialism a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act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f a powerful country dominating weaker 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4:51:13Z</dcterms:created>
  <dc:creator/>
  <dc:description/>
  <dc:language>en-US</dc:language>
  <cp:lastModifiedBy>Dom Lambek</cp:lastModifiedBy>
  <dcterms:modified xsi:type="dcterms:W3CDTF">2017-11-16T13:58:46Z</dcterms:modified>
  <cp:revision>14</cp:revision>
  <dc:subject/>
  <dc:title>Unit 2:  Colonization, Imperialism, and Independence</dc:title>
</cp:coreProperties>
</file>