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DBD6B-6053-4763-93BC-E53637F1CD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0398B-C6CE-4DF4-817B-3F417827B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C039A-B917-41FC-A758-C624AF2A5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E58A7-868C-4D53-B445-A816396C9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A3578-DD0D-41B5-9D0E-DB3954F234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7621D-2824-4B3A-A6DF-55D248E63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86108-41AB-4CD9-AA3A-B45DCB04E8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04B-4FE2-423A-90A0-0C030D0B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4109-D907-42CB-9D55-2C4B3D32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EBC2-7339-4BBC-905D-9386F596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7A41-6AF5-41E3-83DC-8BC21A56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6703-F675-467D-A8C9-28FCE03E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F838-7CF4-4E86-B26E-D8873C80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F79-3A6D-4329-BA8A-9C225FAA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56F4-70C6-470B-9F2B-AC296BE3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1D06-2BAB-4446-A0EE-0329EF66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0C24-3A05-480C-8921-0568FF20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43B-0242-4E97-82E6-71CBB77B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1B29-D294-407E-9420-429ECC8F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2361B-72D1-4F49-A002-89EB3217B50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:  Colonialism, Imperialism, and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502920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16080" y="4541760"/>
            <a:ext cx="23619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hodes Coloss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azine, 189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olitical cartoon depicts British imperialist Cecil Rhodes striding across the continent of Africa, holding a telegraph wi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122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68360" y="1112400"/>
            <a:ext cx="91058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t definition for this un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ief that people of a common ethnicity or culture should have sovereignty (independent, self-rule) over their own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important definition for national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the people living in a particular region and sharing certain cultural characteristics have a common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1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dea drives people to act in the interest of their perceived nation, and sometimes to think less of those belonging to other national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Uni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did the colonial experience shape the development of modern nations?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58680" y="1979640"/>
            <a:ext cx="10078920" cy="4421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World Colonization, 18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Colonization, 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920" y="176832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6629400"/>
            <a:ext cx="9144000" cy="52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366840" y="186516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n never sets on the British Empi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58640" y="1601640"/>
            <a:ext cx="9142560" cy="54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Colonization, 19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8680" y="2155680"/>
            <a:ext cx="10078920" cy="40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6080" y="1767960"/>
            <a:ext cx="944856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licy of extending a country’s power and influence through military force or diplom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idea </a:t>
            </a:r>
            <a:r>
              <a:rPr b="0" lang="mr-IN" sz="32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k of the Roman Empire or other empire-building civilizations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don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m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ith total colonial control over another territory)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form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rough a range of “soft power” methods like ownership of private industries in a foreign terri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90676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lonial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44320" y="1265040"/>
            <a:ext cx="921996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one country establishes control over another territory for the political or economic benefit of the colonizing (“mother”)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re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ttler colon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en many people from the “mother” country move to live in the colony </a:t>
            </a:r>
            <a:r>
              <a:rPr b="0" lang="mr-IN" sz="32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ke the U.S. or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re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pendenc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en a smaller number of people from the colonizing country act as administrators over the native population </a:t>
            </a:r>
            <a:r>
              <a:rPr b="0" lang="mr-IN" sz="32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ke the British Raj in India in the 180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there differences between imperialism and colonial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closely related, and we sometimes use them interchange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imperialism a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colonialism a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f a powerful country dominating weaker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4:51:13Z</dcterms:created>
  <dc:creator/>
  <dc:description/>
  <dc:language>en-US</dc:language>
  <cp:lastModifiedBy>Dom Lambek</cp:lastModifiedBy>
  <dcterms:modified xsi:type="dcterms:W3CDTF">2017-11-16T13:58:46Z</dcterms:modified>
  <cp:revision>14</cp:revision>
  <dc:subject/>
  <dc:title>Unit 2:  Colonization, Imperialism, and Independence</dc:title>
</cp:coreProperties>
</file>