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3FFF-C3B7-4FCF-BF38-C70C3F5A0E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FCDED-E193-49D8-83EF-1D30DB221D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E3ACD-6E7C-4E21-A1B3-EECEB4429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A9A26-3E9E-4715-AF04-87F0F26F6D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FF6EC-C7DC-45FC-9399-6CF71C561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9068FC-3DA1-4F31-AFED-5DB60C83C6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2BA34-D211-4D99-BE5B-EC5FBEF89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4AE0-ECEA-4EA6-A9B0-2CDF5DD1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37A8-F5C2-4C6D-A098-74CDDB1F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789B-3692-41BF-8120-EE34B40AC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1DC2-CE8D-4F71-A9C7-5812877F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304-61D7-4855-8BC7-376EA6AB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E43-85BA-48A8-B735-ED90928E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F899-76DF-48CA-BFB0-3AE93573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9BAF-7713-434B-8BD8-2F276D42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CC6-EA2F-4EBD-8C9A-C29B3D4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5F8-0FFD-405A-803D-E8F8BE41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B2A-0800-4823-B717-96BD201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4CC-3DD8-47C5-BE7C-662DA483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CFB4B-C7E1-4D4E-82B7-862F781E8AC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alism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16080" y="4541760"/>
            <a:ext cx="2361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hodes Coloss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azine, 18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litical cartoon depicts British imperialist Cecil Rhodes striding across the continent of Africa, holding a telegraph w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68360" y="1112400"/>
            <a:ext cx="91058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definition for this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people of a common ethnicity or culture should have sovereignty (independent, self-rule) over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definition for nation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1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dea drives people to act in the interest of their perceived nation, and sometimes to think less of those belonging to other national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6080" y="1767960"/>
            <a:ext cx="94485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y of extending a country’s power and influence through military force or diplo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idea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the Roman Empire or other empire-building civilization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total colonial control over another territory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rough a range of “soft power” methods like ownership of private industries in a foreign terr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90676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320" y="1265040"/>
            <a:ext cx="921996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ne country establishes control over another territory for the political or economic benefit of the colonizing (“mother”)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r colon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many people from the “mother” country move to live in the colony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U.S. or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a smaller number of people from the colonizing country act as administrators over the native population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British Raj in India in th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differences between imperialism and colon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losely related, and we sometimes use them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mper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lon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 powerful country dominating weak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 Lambek</cp:lastModifiedBy>
  <dcterms:modified xsi:type="dcterms:W3CDTF">2017-11-16T13:58:46Z</dcterms:modified>
  <cp:revision>14</cp:revision>
  <dc:subject/>
  <dc:title>Unit 2:  Colonization, Imperialism, and Independence</dc:title>
</cp:coreProperties>
</file>