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5A5-FFB4-4319-8343-1A15DAE7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D90-BAB6-4A0B-AC7C-151506D4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40D3-BCCD-449D-B7E9-14FEBF00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36F-6D81-4B84-85EF-D577F180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790-69BF-46A4-9B76-DDDFC4EC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4B1-B7ED-4E5C-B8B5-75797AB4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E59-8B54-4727-B7C6-D08F6371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FCFB-051A-4FA1-B972-0A354EA6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3DD-3080-4291-9FCF-A6554227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A4BE-7D1F-4484-A2D7-70A00F1A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494-EC64-4486-B7E6-53101EBC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643-C704-405E-9870-67835D77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9F5561-FDF3-4E4F-9050-2D1412B027B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Some background on 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623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Colum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talian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n born in Genoa in 14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erchant sailor who lived in Portugal and the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Very interested in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4146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y did he set sa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believed that you could sail </a:t>
            </a:r>
            <a:r>
              <a:rPr b="0" i="1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es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from Europe (across the Atlantic Ocean) to reach Asia more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sia (specifically the major civilizations in China and India) could be a source of wealth from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lso wanted to spread Christianity to other parts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o financed his t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several unsuccessful sales pitches to other European monarchs, Queen Isabella of Spain agreed to pay for th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umbus would become governor of any land he found and could keep 1/1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of th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ll else would belong to the Spanish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339920"/>
            <a:ext cx="3200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 October, 1492, his three ships landed in what is now the Bahamas in the Caribbean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nd his crew explored several islands in the area, including Cuba and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ispaniola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before returning to Sp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4702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 had la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956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thought he landed on islands off the coast of Asia, known to Europeans as “the Indies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herefore, he called the islands the West I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ith whom was his first encou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00320"/>
            <a:ext cx="401652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ir island explorations, the Spanish met the Arawak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e Arawaks were the native people of “the Indies,” Columbus called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 in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ding of Columbus on the Islands of Guanahani, West Indies”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hn Vanderlyn (183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U.S. Capital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1981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barkation at Veracruz”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go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5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National Gallery i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154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3:27:25Z</dcterms:created>
  <dc:creator>Dominic Lambek</dc:creator>
  <dc:description/>
  <dc:language>en-US</dc:language>
  <cp:lastModifiedBy>Dominic Lambek</cp:lastModifiedBy>
  <dcterms:modified xsi:type="dcterms:W3CDTF">2008-09-04T04:00:41Z</dcterms:modified>
  <cp:revision>2</cp:revision>
  <dc:subject/>
  <dc:title>Christopher Columbus and the “discovery” of the New World</dc:title>
</cp:coreProperties>
</file>