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2D0-967B-4AB3-A301-7EA59AC1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BC7-D475-42EA-93EA-8473439C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5CA-81D2-4A67-9173-2A49D1C38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4AAA-AD85-42A7-B7EB-E66F5349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F05-0158-46FD-9ABC-C513745E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551-58DD-4E7A-A298-0952B43B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3211-7689-442E-97EA-CC9B50ED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49E1-D05B-4BBB-981A-90BC170C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76C-EAB8-4C29-8573-5635E774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8ABF-D69D-4D5B-A99C-3B333325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D469-42DA-497F-A6AE-A281D2BF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E642-F16C-4207-8CEB-9711B8DD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A65F584-C8BF-442E-8B42-9DC7626952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Some background on 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623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Columb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talian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n born in Genoa in 14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erchant sailor who lived in Portugal and the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Very interested in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4146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y did he set sa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believed that you could sail </a:t>
            </a:r>
            <a:r>
              <a:rPr b="0" i="1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es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from Europe (across the Atlantic Ocean) to reach Asia more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sia (specifically the major civilizations in China and India) could be a source of wealth from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lso wanted to spread Christianity to other parts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o financed his t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several unsuccessful sales pitches to other European monarchs, Queen Isabella of Spain agreed to pay for the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umbus would become governor of any land he found and could keep 1/1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of th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ll else would belong to the Spanish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339920"/>
            <a:ext cx="3200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 October, 1492, his three ships landed in what is now the Bahamas in the Caribbean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nd his crew explored several islands in the area, including Cuba and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ispaniola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before returning to Sp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4702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 had la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956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thought he landed on islands off the coast of Asia, known to Europeans as “the Indies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herefore, he called the islands the West I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ith whom was his first encou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00320"/>
            <a:ext cx="401652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ir island explorations, the Spanish met the Arawak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e Arawaks were the native people of “the Indies,” Columbus called th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 in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nding of Columbus on the Islands of Guanahani, West Indies”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hn Vanderlyn (183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U.S. Capital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1981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barkation at Veracruz”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go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51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National Gallery i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154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3:27:25Z</dcterms:created>
  <dc:creator>Dominic Lambek</dc:creator>
  <dc:description/>
  <dc:language>en-US</dc:language>
  <cp:lastModifiedBy>Dominic Lambek</cp:lastModifiedBy>
  <dcterms:modified xsi:type="dcterms:W3CDTF">2008-09-04T04:00:41Z</dcterms:modified>
  <cp:revision>2</cp:revision>
  <dc:subject/>
  <dc:title>Christopher Columbus and the “discovery” of the New World</dc:title>
</cp:coreProperties>
</file>