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0FD-F9FE-497A-868F-B231AEBC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D8B-93FA-430F-9557-245E8280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CBA-7C41-4DBF-9120-82418A90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2AE-1DA8-418D-B844-89D66B84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23A8-BF48-4AAA-BE9B-B3A47C25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1F4-AE36-412E-83F2-FD4B64BE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4CF-5AB3-4D72-940B-D341EE40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7F2F-12C9-4C92-9E28-41BCE3F7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F6C1-DEBE-4FAB-87AE-CED3608F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B80-E8F0-4133-B187-60EB8459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655-D0AC-4EDC-8D7C-A618760C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3C71-A13F-4D17-B5FA-CFF67976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13DC959-D7E1-474D-8792-293632B3004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Franklin Gothic Book"/>
                <a:ea typeface="Franklin Gothic Book"/>
              </a:rPr>
              <a:t>Some background on Christopher Colum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76236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was Columb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talian</a:t>
            </a:r>
            <a:r>
              <a:rPr b="0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an born in Genoa in 14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Merchant sailor who lived in Portugal and then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Very interested in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98480" indent="-56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Extremely religious Catho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41464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y did he set sai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64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believed that you could sail </a:t>
            </a:r>
            <a:r>
              <a:rPr b="0" i="1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est</a:t>
            </a: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from Europe (across the Atlantic Ocean) to reach Asia more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sia (specifically the major civilizations in China and India) could be a source of wealth from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-460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also wanted to spread Christianity to other parts of the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4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27080"/>
                <a:tab algn="l" pos="1941480"/>
                <a:tab algn="l" pos="2855880"/>
                <a:tab algn="l" pos="3770280"/>
                <a:tab algn="l" pos="4684680"/>
                <a:tab algn="l" pos="5599080"/>
                <a:tab algn="l" pos="6513480"/>
                <a:tab algn="l" pos="7427880"/>
                <a:tab algn="l" pos="8342280"/>
                <a:tab algn="l" pos="9256680"/>
                <a:tab algn="l" pos="1017108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ho financed his tri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486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fter several unsuccessful sales pitches to other European monarchs, Queen Isabella of Spain agreed to pay for the tr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Columbus would become governor of any land he found and could keep 1/10</a:t>
            </a:r>
            <a:r>
              <a:rPr b="0" lang="en-US" sz="3200" spc="-1" strike="noStrike" baseline="33000">
                <a:solidFill>
                  <a:srgbClr val="000000"/>
                </a:solidFill>
                <a:latin typeface="Franklin Gothic Book"/>
                <a:ea typeface="Franklin Gothic Book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 of the w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4400" indent="-522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68360"/>
                <a:tab algn="l" pos="2282760"/>
                <a:tab algn="l" pos="3197160"/>
                <a:tab algn="l" pos="4111560"/>
                <a:tab algn="l" pos="5025960"/>
                <a:tab algn="l" pos="5940360"/>
                <a:tab algn="l" pos="6854760"/>
                <a:tab algn="l" pos="7769160"/>
                <a:tab algn="l" pos="8683560"/>
                <a:tab algn="l" pos="9597960"/>
                <a:tab algn="l" pos="105123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All else would belong to the Spanish C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86400" y="1339920"/>
            <a:ext cx="3200400" cy="506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he la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In October, 1492, his three ships landed in what is now the Bahamas in the Caribbean Se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and his crew explored several islands in the area, including Cuba and </a:t>
            </a:r>
            <a:r>
              <a:rPr b="0" i="1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ispaniola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, before returning to Spai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401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13080" y="2205000"/>
            <a:ext cx="4702320" cy="35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he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he had la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956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He thought he landed on islands off the coast of Asia, known to Europeans as “the Indies.”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Wingdings 2" charset="2"/>
              <a:buChar char="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Therefore, he called the islands the West In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Franklin Gothic Book"/>
                <a:ea typeface="Franklin Gothic Book"/>
              </a:rPr>
              <a:t>With whom was his first encou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8600" y="2200320"/>
            <a:ext cx="4016520" cy="32860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ir island explorations, the Spanish met the Arawak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the Arawaks were the native people of “the Indies,” Columbus called th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os in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44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nding of Columbus on the Islands of Guanahani, West Indies”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John Vanderlyn (1836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isplay at the U.S. Capital Buil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19810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mbarkation at Veracruz”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go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951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display at the National Gallery in Mexico 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90920" y="152280"/>
            <a:ext cx="6154560" cy="6400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3:27:25Z</dcterms:created>
  <dc:creator>Dominic Lambek</dc:creator>
  <dc:description/>
  <dc:language>en-US</dc:language>
  <cp:lastModifiedBy>Dominic Lambek</cp:lastModifiedBy>
  <dcterms:modified xsi:type="dcterms:W3CDTF">2008-09-04T04:00:41Z</dcterms:modified>
  <cp:revision>2</cp:revision>
  <dc:subject/>
  <dc:title>Christopher Columbus and the “discovery” of the New World</dc:title>
</cp:coreProperties>
</file>