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8A26-5492-4B47-9563-5FB83BB47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24B-8E0F-409E-A4A7-C205171D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D13-976F-4C68-AEF2-52D8C3A7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ACF-6FCB-4534-8E98-AE8E651DB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58B4-855B-4971-B759-1CD13B0A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8A0B-6B9C-4D74-AFEA-CABF340B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206F-72A9-44FB-800E-2F0A24F7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5A5F-7E18-440C-B65D-39929F19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20A8-D50D-468D-B557-9F11308C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B06-5456-4AD7-BCA1-82302E28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0B89-5B00-40E0-BB58-D2FB38D0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5AE4-F8CE-48E7-B720-13CB9DEF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D46DD-AECE-41B5-8EE8-B11C911BF3C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hy come to Americ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Early Colonist's Reas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grims:  Plymouth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1008072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9000"/>
          </a:bodyPr>
          <a:p>
            <a:pPr marL="878400" indent="-543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eparatists:  wanted to be left alone to practice their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8400" indent="-543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fter living in exile in the Netherlands, about 100 Pilgrims set sail on the </a:t>
            </a:r>
            <a:r>
              <a:rPr b="0" i="1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ayflower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in 16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8400" indent="-543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Unlike Jamestown, original settlers were families who moved to practice religion, not to make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8400" indent="-543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alf died in first winter alone, semi-successful relationship with local Natives helped them surv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09440"/>
            <a:ext cx="9575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itans:  Massachusetts Bay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100807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5000"/>
          </a:bodyPr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rrived in Boston in 16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Not separatists like Pilgrims, they wanted to set up a land with a “purified” English chu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trong work ethic, well-organized, well-educ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ost successful of early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Extremely religious (and intolerant of oth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Believed God has chosen them to found a “city on a hill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3800" y="338040"/>
            <a:ext cx="9575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 3:  They were forced to 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6280" y="1828440"/>
            <a:ext cx="9623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War and disease quickly reduced the number of Native Americans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living in the Caribbean Islands and directly along the Atlantic coast.  In thei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desire for cheap labor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, European colonists turned to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09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Middle Passag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228600" y="1371600"/>
            <a:ext cx="10058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iddle Passage” refers to the side of the slave trade triangle from Africa to the New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laves captured in Africa and sold to European slave tr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Brutal conditions on journey over, many died on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laves arrived early on in Jamestown and other Southern colonies to tend plantations, but also lived throughout all colonies, largely as personal servants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Between 10 and 20 million slaves in total were brought to the Am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9154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9154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9372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 1:  Economic Opportunity (Land and Mone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England’s population in the 1600’s grew rapidly.  At the same time, farming technology improved, pushing man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landless peasants out of farm work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and in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poverty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in the increasing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crowded cities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.  Land and economic opportunity were sca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992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town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10080720" cy="641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9000"/>
          </a:bodyPr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Founded in 1607 by 104 men and boys in what is now Virgi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Located on a marshy peninsula (for defense purposes) – infested with mosquitoes carrying ma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Colony also plagued by Indian attacks and bad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Only 25% of the colonists survived the first year – hunger, dysentery, malaria, yellow f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ore colonists came (including families), but second winter harder – “the starving time” – one colonist ate his w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Tobacco crop “saves” Jamestown as it provides a steady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ntured Serv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228600" y="1142640"/>
            <a:ext cx="1005840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To do the intense farmwork required for tobacco cultivation, more workers were nee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Poor young men, ages 18-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ork as servant for 5-7 years in exchange for free voyage, free food and shelter, and 50 acres of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ad few rights, but more than sl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t least 50% of 17</a:t>
            </a:r>
            <a:r>
              <a:rPr b="0" lang="en-US" sz="3600" spc="-1" strike="noStrike" baseline="15000">
                <a:solidFill>
                  <a:srgbClr val="000000"/>
                </a:solidFill>
                <a:latin typeface="Franklin Gothic Book"/>
                <a:ea typeface="Franklin Gothic Book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century European immigrants came as indentured serv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 2:  Religious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Under Henry VIII, the Church of England had become controlled by the Crown.  Some people thought this to be a violation of Christian principles.  For them, government control of religion was impure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The Church of England harassed those who practiced other reli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3:45:56Z</dcterms:created>
  <dc:creator/>
  <dc:description/>
  <dc:language>en-US</dc:language>
  <cp:lastModifiedBy/>
  <cp:revision>1</cp:revision>
  <dc:subject/>
  <dc:title/>
</cp:coreProperties>
</file>