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EEB7-DA99-484B-8FBF-883D39CB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B029-A700-42D7-8E41-A25E47D1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206-876C-47A7-BC58-3F9A0350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6219-C775-45A2-91C8-E2882086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9BC0-1A38-47A0-A584-DD8F0759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019-712A-4EF3-815B-341C7CF3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84B1-995E-4A75-B62F-B7039D49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8C9-1858-43EE-B050-4C4A321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0CD-EAA8-498D-AEEB-30E88308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BA1E-6D2A-4F8A-971C-E8352CF4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2884-6189-4273-823F-6E448616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F153-971C-448F-9F02-E42CE683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81C8E-1A98-4BE6-8509-7278510E30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y come to Americ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arly Colonist's Reas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grims:  Plymouth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100807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9000"/>
          </a:bodyPr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paratists:  wanted to be left alone to practice thei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living in exile in the Netherlands, about 100 Pilgrims set sail on the </a:t>
            </a:r>
            <a:r>
              <a:rPr b="0" i="1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yflower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16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like Jamestown, original settlers were families who moved to practice religion, not to make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lf died in first winter alone, semi-successful relationship with local Natives helped them surv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094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:  Massachusetts Bay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10080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5000"/>
          </a:bodyPr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rrived in Boston in 16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Not separatists like Pilgrims, they wanted to set up a land with a “purified” English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trong work ethic, well-organized, well-edu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st successful of early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(and intolerant of oth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lieved God has chosen them to found a “city on a hil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3800" y="3380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3:  They were forced to 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6280" y="1828440"/>
            <a:ext cx="9623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War and disease quickly reduced the number of Native American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living in the Caribbean Islands and directly along the Atlantic coast.  In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desire for cheap labor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European colonists turned to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228600" y="1371600"/>
            <a:ext cx="10058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iddle Passage” refers to the side of the slave trade triangle from Africa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captured in Africa and sold to European slave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rutal conditions on journey over, many died o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arrived early on in Jamestown and other Southern colonies to tend plantations, but also lived throughout all colonies, largely as personal servant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tween 10 and 20 million slaves in total were brought to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9372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1:  Economic Opportunity (Land and Mone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ngland’s population in the 1600’s grew rapidly.  At the same time, farming technology improved, pushing man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landless peasants out of farm work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and in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the increasing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crowded citi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.  Land and economic opportunity were sca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99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1008072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unded in 1607 by 104 men and boys in what is now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Located on a marshy peninsula (for defense purposes) – infested with mosquitoes carrying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ony also plagued by Indian attacks and bad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Only 25% of the colonists survived the first year – hunger, dysentery, malaria, yellow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re colonists came (including families), but second winter harder – “the starving time” – one colonist ate his w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bacco crop “saves” Jamestown as it provides a stead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ntured Serv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228600" y="1142640"/>
            <a:ext cx="100584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 do the intense farmwork required for tobacco cultivation, more workers wer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Poor young men, ages 18-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ork as servant for 5-7 years in exchange for free voyage, free food and shelter, and 50 acres of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d few rights, but more than sl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t least 50% of 17</a:t>
            </a:r>
            <a:r>
              <a:rPr b="0" lang="en-US" sz="3600" spc="-1" strike="noStrike" baseline="15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century European immigrants came as indentured serv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2:  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der Henry VIII, the Church of England had become controlled by the Crown.  Some people thought this to be a violation of Christian principles.  For them, government control of religion was impure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The Church of England harassed those who practiced other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3:45:56Z</dcterms:created>
  <dc:creator/>
  <dc:description/>
  <dc:language>en-US</dc:language>
  <cp:lastModifiedBy/>
  <cp:revision>1</cp:revision>
  <dc:subject/>
  <dc:title/>
</cp:coreProperties>
</file>