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C05-14D1-4053-95B1-865AAA4D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58EF-6E01-4847-9A73-8567C37B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4CDB-0AC0-4E0E-AEBD-E5A353E2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5BEA-A63C-45DB-ABB1-05727F07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97A-73AE-46D3-A768-2DBCD76E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A662-B055-4BDC-8C12-96C96CD8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73C5-0218-4D15-81FD-7452EAF9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5D2-6147-47D9-84B5-953E9EF3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D493-4F75-42DA-9B1D-13AC23DA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BB9-66F7-449C-907A-E022FAB3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5C1-5F4E-4A52-8788-C1E4CB0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C8D4-8AA1-403A-8E00-5322323D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25877-890F-430E-AA8E-EB6386AE66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Why come to Americ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Early Colonist's 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grims:  Plymouth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807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9000"/>
          </a:bodyPr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eparatists:  wanted to be left alone to practice their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living in exile in the Netherlands, about 100 Pilgrims set sail on the </a:t>
            </a:r>
            <a:r>
              <a:rPr b="0" i="1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yflower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16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like Jamestown, original settlers were families who moved to practice religion, not to make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78400" indent="-543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lf died in first winter alone, semi-successful relationship with local Natives helped them surv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094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itans:  Massachusetts Bay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10080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95000"/>
          </a:bodyPr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rrived in Boston in 16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Not separatists like Pilgrims, they wanted to set up a land with a “purified” English chu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trong work ethic, well-organized, well-edu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st successful of early colo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(and intolerant of o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760" indent="-521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lieved God has chosen them to found a “city on a hill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338040"/>
            <a:ext cx="9575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3:  They were forced to c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6280" y="1828440"/>
            <a:ext cx="9623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War and disease quickly reduced the number of Native American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living in the Caribbean Islands and directly along the Atlantic coast.  In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desire for cheap labor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European colonists turned to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094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228600" y="1371600"/>
            <a:ext cx="100584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iddle Passage” refers to the side of the slave trade triangle from Africa to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captured in Africa and sold to European slave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rutal conditions on journey over, many died on th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Slaves arrived early on in Jamestown and other Southern colonies to tend plantations, but also lived throughout all colonies, largely as personal servants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1760" indent="-5270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Between 10 and 20 million slaves in total were brought to the Ame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9154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9372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1:  Economic Opportunity (Land and Mone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ngland’s population in the 1600’s grew rapidly.  At the same time, farming technology improved, pushing man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landless peasants out of farm work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and in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in the increasing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crowded cities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.  Land and economic opportunity were sca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992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mestown Colo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10080720" cy="6416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9000"/>
          </a:bodyPr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Founded in 1607 by 104 men and boys in what is now Virgi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Located on a marshy peninsula (for defense purposes) – infested with mosquitoes carrying mal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ony also plagued by Indian attacks and bad we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Only 25% of the colonists survived the first year – hunger, dysentery, malaria, yellow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ore colonists came (including families), but second winter harder – “the starving time” – one colonist ate his w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9480" indent="-4888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bacco crop “saves” Jamestown as it provides a steady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ntured Serv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228600" y="1142640"/>
            <a:ext cx="1005840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o do the intense farmwork required for tobacco cultivation, more workers were nee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Poor young men, ages 18-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ork as servant for 5-7 years in exchange for free voyage, free food and shelter, and 50 acres of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ad few rights, but more than sl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87400" indent="-5493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8740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8688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t least 50% of 17</a:t>
            </a:r>
            <a:r>
              <a:rPr b="0" lang="en-US" sz="3600" spc="-1" strike="noStrike" baseline="15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century European immigrants came as indentured serv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 2:  Religious Freed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44680"/>
                <a:tab algn="l" pos="1001880"/>
                <a:tab algn="l" pos="1459080"/>
                <a:tab algn="l" pos="1916280"/>
                <a:tab algn="l" pos="2373480"/>
                <a:tab algn="l" pos="2830680"/>
                <a:tab algn="l" pos="3287880"/>
                <a:tab algn="l" pos="3745080"/>
                <a:tab algn="l" pos="4202280"/>
                <a:tab algn="l" pos="4659480"/>
                <a:tab algn="l" pos="5116680"/>
                <a:tab algn="l" pos="5573880"/>
                <a:tab algn="l" pos="6031080"/>
                <a:tab algn="l" pos="6488280"/>
                <a:tab algn="l" pos="6945480"/>
                <a:tab algn="l" pos="7402680"/>
                <a:tab algn="l" pos="7859880"/>
                <a:tab algn="l" pos="8317080"/>
                <a:tab algn="l" pos="8774280"/>
                <a:tab algn="l" pos="923148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Under Henry VIII, the Church of England had become controlled by the Crown.  Some people thought this to be a violation of Christian principles.  For them, government control of religion was impure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The Church of England harassed those who practiced other relig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3:45:56Z</dcterms:created>
  <dc:creator/>
  <dc:description/>
  <dc:language>en-US</dc:language>
  <cp:lastModifiedBy/>
  <cp:revision>1</cp:revision>
  <dc:subject/>
  <dc:title/>
</cp:coreProperties>
</file>