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4A6A0A-F654-4AF5-BEC0-8303CB999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595CD-5864-46D4-B370-84D584306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BBAED-5EBF-405D-8CA6-D9EBEBE1F1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8DC4F-FF01-48AE-BA22-8704E8025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22051-919F-4321-A45F-4FB56E132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F12F3-6FD8-4409-BA76-E70FAD79C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87AC8-2074-4D92-8F1A-98E1E15D1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C0930-8AD2-4DE1-B5E1-71C285CEF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14A9B-254B-4D37-B4EE-E41AFD413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87D6E-B115-42C1-A9D8-A1EFB9581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FD504-FB8F-4A31-B239-8AA6969FC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D660-092D-48E3-A276-18FBC2BD4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81BC4-FDD7-40BC-9A7B-275F579139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pbs.org/newshour/multimedia/gini/"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5292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rPr>
              <a:t>The Economy Today</a:t>
            </a:r>
            <a:endParaRPr b="0" lang="en-US" sz="60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at words come to mind when you hear the word “econom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5204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our inequality compare to the rest of the world?</a:t>
            </a: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
          <p:cNvSpPr/>
          <p:nvPr/>
        </p:nvSpPr>
        <p:spPr>
          <a:xfrm>
            <a:off x="655560" y="3354480"/>
            <a:ext cx="895356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http://www.pbs.org/newshour/multimedia/gini/</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 what is the solution?</a:t>
            </a: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Great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do more to “level the playing field” by offering more assistance to those at the lower end</a:t>
            </a:r>
            <a:endParaRPr b="0" lang="en-US" sz="2800" spc="-1" strike="noStrike">
              <a:solidFill>
                <a:srgbClr val="000000"/>
              </a:solidFill>
              <a:latin typeface="Arial"/>
            </a:endParaRPr>
          </a:p>
          <a:p>
            <a:pPr lvl="1" marL="743040" indent="0" algn="ctr">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OR</a:t>
            </a:r>
            <a:endParaRPr b="0" lang="en-US" sz="4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mall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get out of the way” to allow the economy to operate on the free market </a:t>
            </a: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65">
                                            <p:txEl>
                                              <p:pRg st="0" end="0"/>
                                            </p:txEl>
                                          </p:spTgt>
                                        </p:tgtEl>
                                        <p:attrNameLst>
                                          <p:attrName>style.visibility</p:attrName>
                                        </p:attrNameLst>
                                      </p:cBhvr>
                                      <p:to>
                                        <p:strVal val="visible"/>
                                      </p:to>
                                    </p:set>
                                  </p:childTnLst>
                                </p:cTn>
                              </p:par>
                              <p:par>
                                <p:cTn id="117" dur="indefinite" nodeType="withEffect" fill="hold" presetClass="entr" presetID="1">
                                  <p:stCondLst>
                                    <p:cond delay="0"/>
                                  </p:stCondLst>
                                  <p:childTnLst>
                                    <p:set>
                                      <p:cBhvr>
                                        <p:cTn id="11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65">
                                            <p:txEl>
                                              <p:pRg st="3" end="3"/>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301680"/>
            <a:ext cx="9066240" cy="12571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xtra credit assignment</a:t>
            </a:r>
            <a:endParaRPr b="0" lang="en-US" sz="4400" spc="-1" strike="noStrike">
              <a:solidFill>
                <a:srgbClr val="000000"/>
              </a:solidFill>
              <a:latin typeface="Arial"/>
            </a:endParaRPr>
          </a:p>
        </p:txBody>
      </p:sp>
      <p:sp>
        <p:nvSpPr>
          <p:cNvPr id="67" name=""/>
          <p:cNvSpPr/>
          <p:nvPr/>
        </p:nvSpPr>
        <p:spPr>
          <a:xfrm>
            <a:off x="503280" y="1768320"/>
            <a:ext cx="9066240" cy="6364440"/>
          </a:xfrm>
          <a:prstGeom prst="rect">
            <a:avLst/>
          </a:prstGeom>
          <a:noFill/>
          <a:ln w="0">
            <a:noFill/>
          </a:ln>
        </p:spPr>
        <p:style>
          <a:lnRef idx="0"/>
          <a:fillRef idx="0"/>
          <a:effectRef idx="0"/>
          <a:fontRef idx="minor"/>
        </p:style>
        <p:txBody>
          <a:bodyPr lIns="0" rIns="0" tIns="28080" bIns="0" anchor="t">
            <a:noAutofit/>
          </a:bodyPr>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ake a copy of the Inequality Pie charts.  Working with a partner (if you'd like), share this chart with a minimum of 5 people and take a poll by asking them two questions:</a:t>
            </a:r>
            <a:endParaRPr b="0" lang="en-US" sz="32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1. Which chart do you think represents the distribution of wealth in the U.S?</a:t>
            </a:r>
            <a:endParaRPr b="0" lang="en-US" sz="28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2. Which (of the three charts) represents the country in which you would most like to live?</a:t>
            </a:r>
            <a:endParaRPr b="0" lang="en-US" sz="2800" spc="-1" strike="noStrike">
              <a:solidFill>
                <a:srgbClr val="000000"/>
              </a:solidFill>
              <a:latin typeface="Arial"/>
            </a:endParaRPr>
          </a:p>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ecord your results in order to share with the clas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65437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Wall Stree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treet in NYC that is the location of the U.S.'s biggest stock market and is home to many of the country's biggest investment bank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y people have criticized our government (for many years now) for creating policies that favor Wall Street over “Main Street” (meaning small, local business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Occupy Wall Street”</a:t>
            </a:r>
            <a:endParaRPr b="0" lang="en-US" sz="4400" spc="-1" strike="noStrike">
              <a:solidFill>
                <a:srgbClr val="000000"/>
              </a:solidFill>
              <a:latin typeface="Arial"/>
            </a:endParaRPr>
          </a:p>
        </p:txBody>
      </p:sp>
      <p:sp>
        <p:nvSpPr>
          <p:cNvPr id="73" name="PlaceHolder 2"/>
          <p:cNvSpPr>
            <a:spLocks noGrp="1"/>
          </p:cNvSpPr>
          <p:nvPr>
            <p:ph/>
          </p:nvPr>
        </p:nvSpPr>
        <p:spPr>
          <a:xfrm>
            <a:off x="502920" y="1768320"/>
            <a:ext cx="9070920" cy="582624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Recent protest movement that began in New York but has spread to many cities in the U.S. and worldwide</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have lots of different problems that they are protesting, but the basic issue behind the protest is the feeling that our government has favored the interests of the very rich over the interests of average people</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would say that the gov't should take a larger responsibility for meeting the basic needs of its average citizens (rather than just the wealthy one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228600" y="685800"/>
            <a:ext cx="9756720" cy="6996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Bailou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Big loans from the U.S. government to large business (like banks or auto companies) that were thought to be “too big to fail”</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TARP</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rouble Asset Relief Program – gov't loaned billions of dollars to keep some large businesses, especially Wall Street banks, from going bankrupt (most of these loans have been payed back)</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his was passed when G.W. Bush was President, but it has been supported by President Obama as well </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326520" cy="577548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Definition:  The system of the production and distribution of goods and services in an area</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What are some things that might indicate if the economy is “healthy?”</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Employment rat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Overall production</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Average incom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Business profit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70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Downturns</a:t>
            </a:r>
            <a:endParaRPr b="0" lang="en-US" sz="4400" spc="-1" strike="noStrike">
              <a:solidFill>
                <a:srgbClr val="000000"/>
              </a:solidFill>
              <a:latin typeface="Arial"/>
            </a:endParaRPr>
          </a:p>
        </p:txBody>
      </p:sp>
      <p:sp>
        <p:nvSpPr>
          <p:cNvPr id="46" name="PlaceHolder 2"/>
          <p:cNvSpPr>
            <a:spLocks noGrp="1"/>
          </p:cNvSpPr>
          <p:nvPr>
            <p:ph/>
          </p:nvPr>
        </p:nvSpPr>
        <p:spPr>
          <a:xfrm>
            <a:off x="456840" y="122868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Recession</a:t>
            </a:r>
            <a:r>
              <a:rPr b="0" lang="en-US" sz="3200" spc="-1" strike="noStrike">
                <a:solidFill>
                  <a:srgbClr val="000000"/>
                </a:solidFill>
                <a:latin typeface="Arial"/>
              </a:rPr>
              <a:t>:  6 straight months of economic decline</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Depression</a:t>
            </a:r>
            <a:r>
              <a:rPr b="0" lang="en-US" sz="3200" spc="-1" strike="noStrike">
                <a:solidFill>
                  <a:srgbClr val="000000"/>
                </a:solidFill>
                <a:latin typeface="Arial"/>
              </a:rPr>
              <a:t>:  2 straight years of economic decline</a:t>
            </a:r>
            <a:endParaRPr b="0" lang="en-US" sz="3200" spc="-1" strike="noStrike">
              <a:solidFill>
                <a:srgbClr val="000000"/>
              </a:solidFill>
              <a:latin typeface="Arial"/>
            </a:endParaRPr>
          </a:p>
        </p:txBody>
      </p:sp>
      <p:pic>
        <p:nvPicPr>
          <p:cNvPr id="47" name="" descr=""/>
          <p:cNvPicPr/>
          <p:nvPr/>
        </p:nvPicPr>
        <p:blipFill>
          <a:blip r:embed="rId1"/>
          <a:stretch/>
        </p:blipFill>
        <p:spPr>
          <a:xfrm>
            <a:off x="914400" y="2378160"/>
            <a:ext cx="7589880" cy="521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Great Recession</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5160960"/>
          </a:xfrm>
          <a:prstGeom prst="rect">
            <a:avLst/>
          </a:prstGeom>
          <a:noFill/>
          <a:ln w="0">
            <a:noFill/>
          </a:ln>
        </p:spPr>
        <p:txBody>
          <a:bodyPr lIns="0" rIns="0" tIns="28080" bIns="0" anchor="t">
            <a:normAutofit fontScale="99000"/>
          </a:bodyPr>
          <a:p>
            <a:pPr marL="419400" indent="-315720">
              <a:lnSpc>
                <a:spcPct val="93000"/>
              </a:lnSpc>
              <a:spcAft>
                <a:spcPts val="1412"/>
              </a:spcAft>
              <a:buClr>
                <a:srgbClr val="000000"/>
              </a:buClr>
              <a:buSzPct val="45000"/>
              <a:buFont typeface="Wingdings"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Economic downturn that started in 2008</a:t>
            </a:r>
            <a:endParaRPr b="0" lang="en-US" sz="3200" spc="-1" strike="noStrike">
              <a:solidFill>
                <a:srgbClr val="000000"/>
              </a:solidFill>
              <a:latin typeface="Arial"/>
            </a:endParaRPr>
          </a:p>
          <a:p>
            <a:pPr marL="419400" indent="-315720">
              <a:lnSpc>
                <a:spcPct val="93000"/>
              </a:lnSpc>
              <a:spcAft>
                <a:spcPts val="1412"/>
              </a:spcAft>
              <a:buClr>
                <a:srgbClr val="000000"/>
              </a:buClr>
              <a:buSzPct val="45000"/>
              <a:buFont typeface="Wingdings 2"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Largely caused by two things:</a:t>
            </a:r>
            <a:endParaRPr b="0" lang="en-US" sz="32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eople taking out loans that they could not re-pay for things like mortgages</a:t>
            </a:r>
            <a:endParaRPr b="0" lang="en-US" sz="28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Large investment banks giving out loans that people could not re-pay</a:t>
            </a:r>
            <a:endParaRPr b="0" lang="en-US" sz="28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This recession affected many countries, not just </a:t>
            </a:r>
            <a:r>
              <a:rPr b="0" lang="en-US" sz="3200" spc="-1" strike="noStrike">
                <a:solidFill>
                  <a:srgbClr val="000000"/>
                </a:solidFill>
                <a:latin typeface="Arial"/>
              </a:rPr>
              <a:t>the U.S.</a:t>
            </a:r>
            <a:endParaRPr b="0" lang="en-US" sz="32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It led to a large increase in unemployment during </a:t>
            </a:r>
            <a:r>
              <a:rPr b="0" lang="en-US" sz="3200" spc="-1" strike="noStrike">
                <a:solidFill>
                  <a:srgbClr val="000000"/>
                </a:solidFill>
                <a:latin typeface="Arial"/>
              </a:rPr>
              <a:t>2008 and 2009</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Recovery</a:t>
            </a:r>
            <a:endParaRPr b="0" lang="en-US" sz="4400" spc="-1" strike="noStrike">
              <a:solidFill>
                <a:srgbClr val="000000"/>
              </a:solidFill>
              <a:latin typeface="Arial"/>
            </a:endParaRPr>
          </a:p>
        </p:txBody>
      </p:sp>
      <p:sp>
        <p:nvSpPr>
          <p:cNvPr id="51"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recession technically ended in 2009</a:t>
            </a:r>
            <a:endParaRPr b="0" lang="en-US" sz="32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Unemployment rates have slowly gone back down, nearly to where they were in 2007</a:t>
            </a:r>
            <a:endParaRPr b="0" lang="en-US" sz="28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National GDP increased slowly but steadily</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o why doesn't it </a:t>
            </a:r>
            <a:r>
              <a:rPr b="0" i="1" lang="en-US" sz="3200" spc="-1" strike="noStrike">
                <a:solidFill>
                  <a:srgbClr val="000000"/>
                </a:solidFill>
                <a:latin typeface="Arial"/>
              </a:rPr>
              <a:t>feel</a:t>
            </a:r>
            <a:r>
              <a:rPr b="0" lang="en-US" sz="3200" spc="-1" strike="noStrike">
                <a:solidFill>
                  <a:srgbClr val="000000"/>
                </a:solidFill>
                <a:latin typeface="Arial"/>
              </a:rPr>
              <a:t> like our economy is health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as the recovery from the recession benefitted everyone?  Or just some?</a:t>
            </a:r>
            <a:endParaRPr b="0" lang="en-US" sz="3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9066240" cy="1257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recovery, for some...</a:t>
            </a:r>
            <a:endParaRPr b="0" lang="en-US" sz="4400" spc="-1" strike="noStrike">
              <a:solidFill>
                <a:srgbClr val="000000"/>
              </a:solidFill>
              <a:latin typeface="Arial"/>
            </a:endParaRPr>
          </a:p>
        </p:txBody>
      </p:sp>
      <p:sp>
        <p:nvSpPr>
          <p:cNvPr id="53" name="PlaceHolder 2"/>
          <p:cNvSpPr>
            <a:spLocks noGrp="1"/>
          </p:cNvSpPr>
          <p:nvPr>
            <p:ph/>
          </p:nvPr>
        </p:nvSpPr>
        <p:spPr>
          <a:xfrm>
            <a:off x="365040" y="1096560"/>
            <a:ext cx="9509040" cy="6188040"/>
          </a:xfrm>
          <a:prstGeom prst="rect">
            <a:avLst/>
          </a:prstGeom>
          <a:noFill/>
          <a:ln w="0">
            <a:noFill/>
          </a:ln>
        </p:spPr>
        <p:txBody>
          <a:bodyPr lIns="0" rIns="0" tIns="28080" bIns="0" anchor="t">
            <a:normAutofit/>
          </a:bodyPr>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ccording to a recent study, 95% of the gains made during the recovery since 2009 have gone to the richest 1% of Americans.     </a:t>
            </a:r>
            <a:r>
              <a:rPr b="0" lang="en-US" sz="1800" spc="-1" strike="noStrike">
                <a:solidFill>
                  <a:srgbClr val="000000"/>
                </a:solidFill>
                <a:latin typeface="Arial"/>
                <a:ea typeface="Arial Unicode MS"/>
              </a:rPr>
              <a:t>(Source:  Emmanuel Saez, 2013)</a:t>
            </a:r>
            <a:endParaRPr b="0" lang="en-US" sz="18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Meanwhile, the other 99% of Americans have seen their incomes increase less than half of a percent (0.4%) during the recovery.</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n other words, the Recession is officially over, but most peoples' economic situation has not improved</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RESULT: </a:t>
            </a:r>
            <a:r>
              <a:rPr b="0" lang="en-US" sz="3200" spc="-1" strike="noStrike">
                <a:solidFill>
                  <a:srgbClr val="000000"/>
                </a:solidFill>
                <a:latin typeface="Arial"/>
                <a:ea typeface="Arial"/>
              </a:rPr>
              <a:t>Our economic inequality, which has been increasing for several decades, was made worse by the Great Recession.</a:t>
            </a:r>
            <a:endParaRPr b="0" lang="en-US" sz="3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228600" y="456840"/>
            <a:ext cx="9347040" cy="793116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Economic Inequality:  </a:t>
            </a:r>
            <a:r>
              <a:rPr b="0" lang="en-US" sz="3200" spc="-1" strike="noStrike">
                <a:solidFill>
                  <a:srgbClr val="000000"/>
                </a:solidFill>
                <a:latin typeface="Arial"/>
              </a:rPr>
              <a:t>When wealth is not evenly distributed in a country</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Example: Small percentage of very rich people control most of the wealth, while a majority of the population might control only a small part of the overall wealth</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What are the effects of income inequality?</a:t>
            </a:r>
            <a:endParaRPr b="0" lang="en-US" sz="32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status </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access to services like health care or </a:t>
            </a:r>
            <a:r>
              <a:rPr b="0" lang="en-US" sz="2800" spc="-1" strike="noStrike">
                <a:solidFill>
                  <a:srgbClr val="000000"/>
                </a:solidFill>
                <a:latin typeface="Arial"/>
              </a:rPr>
              <a:t>education</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influence in politics</a:t>
            </a:r>
            <a:endParaRPr b="0" lang="en-US" sz="28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If we are becoming a more unequal nation (in terms of wealth), is this is a problem?  Why/why not?</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204480"/>
            <a:ext cx="9067680" cy="623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unequal” is the U.S. today?</a:t>
            </a: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822240" y="828720"/>
            <a:ext cx="8869320" cy="6730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ie chart video</a:t>
            </a:r>
            <a:endParaRPr b="0" lang="en-US" sz="4400" spc="-1" strike="noStrike">
              <a:solidFill>
                <a:srgbClr val="000000"/>
              </a:solidFill>
              <a:latin typeface="Arial"/>
            </a:endParaRPr>
          </a:p>
        </p:txBody>
      </p:sp>
      <p:sp>
        <p:nvSpPr>
          <p:cNvPr id="60" name="PlaceHolder 2"/>
          <p:cNvSpPr>
            <a:spLocks noGrp="1"/>
          </p:cNvSpPr>
          <p:nvPr>
            <p:ph/>
          </p:nvPr>
        </p:nvSpPr>
        <p:spPr>
          <a:xfrm>
            <a:off x="503280" y="1768320"/>
            <a:ext cx="9066240" cy="516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mbedded on wikispac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1:53:45Z</dcterms:created>
  <dc:creator/>
  <dc:description/>
  <dc:language>en-US</dc:language>
  <cp:lastModifiedBy/>
  <cp:revision>1</cp:revision>
  <dc:subject/>
  <dc:title/>
</cp:coreProperties>
</file>