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2FEE-91BE-4D01-B550-3813188A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5853-88A2-443A-9FFB-53E4DF0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6034-2E4B-4D61-9B20-832E6C6DF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BDB9-FB5F-43D9-B48B-F2A266B0F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1228-A471-4DB7-840A-FD93B3C8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9C34F-8911-49A8-80AF-F875A916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8950-8451-4E62-98A8-3D6073F7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1DE0-ABB0-4635-AF82-493B764D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C58C-C4AA-4CFE-B1B6-D5DCBE4C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735C-5B06-4EF2-9692-17DC1777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108B-8D1A-48C3-8883-3DA7FA7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8836-5515-4CDF-8847-E4E9BED0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FFFA-868A-4E54-9DE1-98A3CBEB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7FDE-40D2-4621-8735-1A81DDD1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51B8-335B-4754-968A-7A8F2819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06D-24A7-4232-8CF0-5C7EC2D3C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0A80-5E03-465B-B8D7-42D62305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A1E-0960-461D-8D00-2DDA146D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2354-D73C-471A-9B3A-C42E2074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145B-19AF-4DA5-B5B1-3A0AFC87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476-168B-431C-8C3D-21D77566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36F-AC27-43B6-B2EC-BFDEFFAF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2610-B597-470E-A41D-FA8F182F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963-4FFF-4C5D-9521-1632B409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2266200"/>
                <a:chOff x="6273360" y="-21600"/>
                <a:chExt cx="2867400" cy="226620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7200" y="840960"/>
                  <a:ext cx="1061640" cy="1142280"/>
                  <a:chOff x="7837200" y="840960"/>
                  <a:chExt cx="1061640" cy="1142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4120" y="113004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69320"/>
                  <a:ext cx="1266840" cy="1053720"/>
                  <a:chOff x="7845480" y="769320"/>
                  <a:chExt cx="1266840" cy="10537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02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70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2240" y="735120"/>
                  <a:ext cx="1288440" cy="825840"/>
                  <a:chOff x="7842240" y="735120"/>
                  <a:chExt cx="1288440" cy="825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31080" y="92232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3440" y="122400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40080" y="695160"/>
                  <a:ext cx="1300680" cy="666720"/>
                  <a:chOff x="7840080" y="695160"/>
                  <a:chExt cx="1300680" cy="6667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5120" y="8236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672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5560" y="653760"/>
                  <a:ext cx="1222560" cy="420840"/>
                  <a:chOff x="7855560" y="653760"/>
                  <a:chExt cx="1222560" cy="4208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2760" y="70776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488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6280" cy="188280"/>
                  <a:chOff x="7870680" y="631440"/>
                  <a:chExt cx="11062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50520"/>
                    <a:ext cx="720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67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1720" cy="332640"/>
                  <a:chOff x="7844760" y="418680"/>
                  <a:chExt cx="98172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0800" y="45684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240" y="905040"/>
                  <a:ext cx="1068120" cy="1141560"/>
                  <a:chOff x="6537240" y="905040"/>
                  <a:chExt cx="1068120" cy="1141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3200" y="119412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58240"/>
                  <a:ext cx="1267920" cy="1055160"/>
                  <a:chOff x="6303600" y="858240"/>
                  <a:chExt cx="1267920" cy="10551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091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7280"/>
                  <a:ext cx="1292040" cy="823680"/>
                  <a:chOff x="6287040" y="827280"/>
                  <a:chExt cx="1292040" cy="8236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8880" y="1014480"/>
                    <a:ext cx="8910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40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7520" cy="667080"/>
                  <a:chOff x="6273360" y="786960"/>
                  <a:chExt cx="1307520" cy="667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472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1888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9600" y="745920"/>
                  <a:ext cx="1222200" cy="417600"/>
                  <a:chOff x="6339600" y="745920"/>
                  <a:chExt cx="1222200" cy="41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596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840" y="720360"/>
                  <a:ext cx="1109520" cy="188280"/>
                  <a:chOff x="6432840" y="720360"/>
                  <a:chExt cx="110952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944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72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1520" y="509040"/>
                  <a:ext cx="984600" cy="332640"/>
                  <a:chOff x="65815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8200" y="6570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7000" y="5472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4200"/>
                  <a:ext cx="970920" cy="451080"/>
                  <a:chOff x="6636600" y="394200"/>
                  <a:chExt cx="970920" cy="45108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3880"/>
                    <a:ext cx="63180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892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8200" y="222840"/>
                  <a:ext cx="907200" cy="629280"/>
                  <a:chOff x="6748200" y="222840"/>
                  <a:chExt cx="90720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7280" y="30276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4840" y="59040"/>
                  <a:ext cx="823320" cy="764640"/>
                  <a:chOff x="6864840" y="59040"/>
                  <a:chExt cx="823320" cy="764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1360" y="503280"/>
                    <a:ext cx="641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5640" y="155160"/>
                    <a:ext cx="3441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09280" y="21240"/>
                  <a:ext cx="612360" cy="782280"/>
                  <a:chOff x="7109280" y="21240"/>
                  <a:chExt cx="612360" cy="782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2480" y="47988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0720" y="109080"/>
                    <a:ext cx="303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5840" cy="811440"/>
                  <a:chOff x="7289280" y="-21600"/>
                  <a:chExt cx="465840" cy="81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920" y="461520"/>
                    <a:ext cx="5446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632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5440" y="272880"/>
                  <a:ext cx="959040" cy="462240"/>
                  <a:chOff x="7795440" y="272880"/>
                  <a:chExt cx="959040" cy="462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292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4480" y="32976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40360" y="136080"/>
                  <a:ext cx="911520" cy="608760"/>
                  <a:chOff x="7740360" y="136080"/>
                  <a:chExt cx="911520" cy="608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1280" y="47448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116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7280" y="-10080"/>
                  <a:ext cx="496440" cy="793800"/>
                  <a:chOff x="7667280" y="-10080"/>
                  <a:chExt cx="496440" cy="7938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6400" y="471600"/>
                    <a:ext cx="54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4040" y="41040"/>
                  <a:ext cx="783720" cy="747720"/>
                  <a:chOff x="7664040" y="41040"/>
                  <a:chExt cx="783720" cy="747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3000" y="458280"/>
                    <a:ext cx="5922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080" y="12204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3000" y="4320"/>
                  <a:ext cx="175320" cy="742320"/>
                  <a:chOff x="7713000" y="4320"/>
                  <a:chExt cx="175320" cy="742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4360" y="4788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360" y="104040"/>
                    <a:ext cx="2620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08240" y="929160"/>
                  <a:ext cx="919800" cy="1247040"/>
                  <a:chOff x="6708240" y="929160"/>
                  <a:chExt cx="9198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35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1480" y="17848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040" y="977400"/>
                  <a:ext cx="612720" cy="1247400"/>
                  <a:chOff x="7016040" y="977400"/>
                  <a:chExt cx="612720" cy="12474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4080" y="1848600"/>
                    <a:ext cx="4395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5200" y="1001520"/>
                  <a:ext cx="363600" cy="1216800"/>
                  <a:chOff x="7315200" y="1001520"/>
                  <a:chExt cx="363600" cy="12168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39520" y="1328760"/>
                    <a:ext cx="785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55440" y="1876320"/>
                    <a:ext cx="4208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1560" y="907920"/>
                  <a:ext cx="950400" cy="1229400"/>
                  <a:chOff x="7801560" y="907920"/>
                  <a:chExt cx="95040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4640" y="122508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884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520" y="953280"/>
                  <a:ext cx="734400" cy="1261080"/>
                  <a:chOff x="7787520" y="953280"/>
                  <a:chExt cx="73440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920" y="128556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640" y="183636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760" y="1003680"/>
                  <a:ext cx="516960" cy="1240920"/>
                  <a:chOff x="7754760" y="1003680"/>
                  <a:chExt cx="516960" cy="12409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8040" y="1348560"/>
                    <a:ext cx="8204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6160" y="190512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40360" y="1058760"/>
                  <a:ext cx="286200" cy="1151640"/>
                  <a:chOff x="7740360" y="1058760"/>
                  <a:chExt cx="286200" cy="11516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7200" y="1378800"/>
                    <a:ext cx="7556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7520" y="1896480"/>
                    <a:ext cx="404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5640" y="1076760"/>
                  <a:ext cx="276120" cy="1131840"/>
                  <a:chOff x="7505640" y="1076760"/>
                  <a:chExt cx="27612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60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340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328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16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58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436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A2913-CFF3-411C-9079-6D3230577A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1320" y="248760"/>
            <a:ext cx="7118280" cy="8011080"/>
            <a:chOff x="2011320" y="248760"/>
            <a:chExt cx="7118280" cy="80110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1320" y="248760"/>
              <a:ext cx="7118280" cy="7782480"/>
              <a:chOff x="2011320" y="248760"/>
              <a:chExt cx="7118280" cy="7782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1320" y="248760"/>
                <a:ext cx="6891120" cy="5446440"/>
                <a:chOff x="2011320" y="248760"/>
                <a:chExt cx="6891120" cy="54464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1320" y="248760"/>
                  <a:ext cx="6891120" cy="5446440"/>
                  <a:chOff x="2011320" y="248760"/>
                  <a:chExt cx="6891120" cy="54464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3920" cy="2740320"/>
                    <a:chOff x="5761080" y="2323440"/>
                    <a:chExt cx="2563920" cy="2740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808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8440" y="2146680"/>
                    <a:ext cx="3042720" cy="2527560"/>
                    <a:chOff x="5788440" y="2146680"/>
                    <a:chExt cx="3042720" cy="25275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8160" y="274932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6680" y="3719160"/>
                      <a:ext cx="120024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71080"/>
                    <a:ext cx="3098520" cy="1981800"/>
                    <a:chOff x="5776200" y="2071080"/>
                    <a:chExt cx="3098520" cy="19818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992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46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7400"/>
                    <a:ext cx="3133800" cy="1611000"/>
                    <a:chOff x="5768640" y="1967400"/>
                    <a:chExt cx="3133800" cy="16110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664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8600" y="1874160"/>
                    <a:ext cx="2940480" cy="1007280"/>
                    <a:chOff x="5808600" y="1874160"/>
                    <a:chExt cx="2940480" cy="10072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5880" y="200448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0932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811160"/>
                    <a:ext cx="2664000" cy="454320"/>
                    <a:chOff x="5847120" y="1811160"/>
                    <a:chExt cx="2664000" cy="45432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080" y="185220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368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6640" y="1299600"/>
                    <a:ext cx="2365200" cy="799560"/>
                    <a:chOff x="5786640" y="1299600"/>
                    <a:chExt cx="2365200" cy="79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6000" y="1654200"/>
                      <a:ext cx="1520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8880" y="2474280"/>
                    <a:ext cx="2556000" cy="2739600"/>
                    <a:chOff x="2648880" y="2474280"/>
                    <a:chExt cx="2556000" cy="27396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5320" y="429408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6920" y="2365920"/>
                    <a:ext cx="3041280" cy="2527920"/>
                    <a:chOff x="2086920" y="2365920"/>
                    <a:chExt cx="3041280" cy="2527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1080" y="29685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70800" y="39369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6360"/>
                    <a:ext cx="3100320" cy="1985760"/>
                    <a:chOff x="2041920" y="2286360"/>
                    <a:chExt cx="310032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6160" y="2736720"/>
                      <a:ext cx="214164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2480"/>
                      <a:ext cx="114948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1320" y="2185920"/>
                    <a:ext cx="3134160" cy="1609920"/>
                    <a:chOff x="2011320" y="2185920"/>
                    <a:chExt cx="3134160" cy="16099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516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320" y="2093400"/>
                    <a:ext cx="2945880" cy="1007280"/>
                    <a:chOff x="2164320" y="2093400"/>
                    <a:chExt cx="2945880" cy="10072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7800" y="222372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2892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9040" y="2030040"/>
                    <a:ext cx="2659680" cy="454320"/>
                    <a:chOff x="2399040" y="2030040"/>
                    <a:chExt cx="2659680" cy="45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388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55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4480" cy="799560"/>
                    <a:chOff x="2758680" y="1518840"/>
                    <a:chExt cx="236448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244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5040" y="1240560"/>
                    <a:ext cx="2329920" cy="1077120"/>
                    <a:chOff x="2885040" y="1240560"/>
                    <a:chExt cx="2329920" cy="10771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1840" y="1372680"/>
                      <a:ext cx="815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7920" y="831240"/>
                    <a:ext cx="2172600" cy="1511280"/>
                    <a:chOff x="3157920" y="831240"/>
                    <a:chExt cx="2172600" cy="151128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4720" y="10234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6560" y="435960"/>
                    <a:ext cx="1983600" cy="1838880"/>
                    <a:chOff x="3436560" y="435960"/>
                    <a:chExt cx="198360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300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2120" y="667800"/>
                      <a:ext cx="828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3360" y="338760"/>
                    <a:ext cx="1465560" cy="1884240"/>
                    <a:chOff x="4023360" y="338760"/>
                    <a:chExt cx="1465560" cy="188424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28760" y="5493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9960" y="248760"/>
                    <a:ext cx="1118520" cy="1944000"/>
                    <a:chOff x="4449960" y="248760"/>
                    <a:chExt cx="111852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220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7920" y="44352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3520" y="954360"/>
                    <a:ext cx="2314440" cy="1110960"/>
                    <a:chOff x="5663520" y="954360"/>
                    <a:chExt cx="2314440" cy="11109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776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18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1760" y="626760"/>
                    <a:ext cx="2193840" cy="1452600"/>
                    <a:chOff x="5531760" y="626760"/>
                    <a:chExt cx="2193840" cy="1452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6400" y="14317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1240" y="81108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144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440"/>
                    <a:ext cx="1198800" cy="1902600"/>
                    <a:chOff x="5353560" y="271440"/>
                    <a:chExt cx="1198800" cy="19026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236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5280" y="393120"/>
                    <a:ext cx="1890720" cy="1794240"/>
                    <a:chOff x="5345280" y="393120"/>
                    <a:chExt cx="1890720" cy="17942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720" y="139284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1520" y="588240"/>
                      <a:ext cx="7639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2280" y="292680"/>
                    <a:ext cx="426240" cy="1801440"/>
                    <a:chOff x="5462280" y="292680"/>
                    <a:chExt cx="426240" cy="18014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8320" y="145080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57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6120" y="2533320"/>
                    <a:ext cx="2197800" cy="2998080"/>
                    <a:chOff x="3066120" y="2533320"/>
                    <a:chExt cx="2197800" cy="29980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548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16560" y="2700720"/>
                    <a:ext cx="864720" cy="2928600"/>
                    <a:chOff x="4516560" y="2700720"/>
                    <a:chExt cx="864720" cy="2928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087080" y="348696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73640" y="480744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91040" cy="2946960"/>
                    <a:chOff x="5674320" y="2485440"/>
                    <a:chExt cx="2291040" cy="29469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6160" y="44946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3160" y="2711160"/>
                    <a:ext cx="1230840" cy="2984040"/>
                    <a:chOff x="5573160" y="2711160"/>
                    <a:chExt cx="1230840" cy="29840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51160" y="3541320"/>
                      <a:ext cx="197316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790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31400" y="2837160"/>
                    <a:ext cx="686880" cy="2777760"/>
                    <a:chOff x="5531400" y="2837160"/>
                    <a:chExt cx="686880" cy="27777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900320" y="3605040"/>
                      <a:ext cx="18147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7000" y="4860720"/>
                      <a:ext cx="97488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4400" y="2886840"/>
                    <a:ext cx="663120" cy="2717640"/>
                    <a:chOff x="4964400" y="2886840"/>
                    <a:chExt cx="66312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38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960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412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7120"/>
                <a:ext cx="5443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827000"/>
            <a:ext cx="77691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0CF48-D17C-41A0-9BA2-253D20FD162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it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Battles of Lexington and Concord, delegates return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s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s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i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ition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s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ill only help if the war i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o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i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