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093A-9F78-40D8-A94C-C53D39D6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8DCB-ACA8-46C0-86EE-5D6C8C40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905E-3B21-45F4-858A-87C16466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200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92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26A7-CDA8-4F1F-83CE-C93ABD248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5FB9-77B9-47EE-BC36-B33D84BE5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210A-5C17-457C-8FFB-5C2B45C2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BE95-7D2A-47B7-AE67-E0FE159E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F812-4D29-4023-B8EC-848AD365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5226-16AF-41E0-9921-39CEECBB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440" y="301680"/>
            <a:ext cx="776916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077E-A8E4-41BB-AC8D-294D5075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E443-E2ED-41A1-99E0-6A54C377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A2CC-AD80-49E5-A408-CE462CC1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5F1D9-B6BB-44DB-BED4-C2ABF6B7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94E6-8BAC-4038-959B-CF29E59F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E250-7DA1-493A-B384-BB8E32A1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1476-DD6B-4D11-8817-F4231333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200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3892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494D-98C4-4298-ACB1-1EB0E9961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2975-209E-4CA1-BCB8-F8CC6AEC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0794-5B19-4B7D-8369-19AF245C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60BF-F62C-43C0-AEC6-ACC440C7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440" y="301680"/>
            <a:ext cx="776916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B8C1-D598-4786-986F-142E6B03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8585-941D-4CBC-9D65-CF285929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8C3F-54A2-4A34-BDA4-AADF500C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CF8D-DD01-44CD-99A5-74CE7945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33240"/>
            <a:chOff x="6273360" y="-21600"/>
            <a:chExt cx="2962800" cy="333324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1200" cy="141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1200" cy="1411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1200" cy="1411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33240"/>
              <a:chOff x="6273360" y="-21600"/>
              <a:chExt cx="2962800" cy="333324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ffe103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2266200"/>
                <a:chOff x="6273360" y="-21600"/>
                <a:chExt cx="2867400" cy="226620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7200" y="840960"/>
                  <a:ext cx="1061640" cy="1142280"/>
                  <a:chOff x="7837200" y="840960"/>
                  <a:chExt cx="1061640" cy="11422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4120" y="1130040"/>
                    <a:ext cx="88452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4560" y="16009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69320"/>
                  <a:ext cx="1266840" cy="1053720"/>
                  <a:chOff x="7845480" y="769320"/>
                  <a:chExt cx="1266840" cy="10537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02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70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2240" y="735120"/>
                  <a:ext cx="1288440" cy="825840"/>
                  <a:chOff x="7842240" y="735120"/>
                  <a:chExt cx="1288440" cy="82584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31080" y="922320"/>
                    <a:ext cx="89064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3440" y="1224000"/>
                    <a:ext cx="47772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40080" y="695160"/>
                  <a:ext cx="1300680" cy="666720"/>
                  <a:chOff x="7840080" y="695160"/>
                  <a:chExt cx="1300680" cy="66672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5120" y="8236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672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5560" y="653760"/>
                  <a:ext cx="1222560" cy="420840"/>
                  <a:chOff x="7855560" y="653760"/>
                  <a:chExt cx="1222560" cy="4208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2760" y="70776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488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6280" cy="188280"/>
                  <a:chOff x="7870680" y="631440"/>
                  <a:chExt cx="11062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50520"/>
                    <a:ext cx="72072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67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1720" cy="332640"/>
                  <a:chOff x="7844760" y="418680"/>
                  <a:chExt cx="98172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0800" y="45684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240" y="905040"/>
                  <a:ext cx="1068120" cy="1141560"/>
                  <a:chOff x="6537240" y="905040"/>
                  <a:chExt cx="1068120" cy="114156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3200" y="119412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5960" y="166428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58240"/>
                  <a:ext cx="1267920" cy="1055160"/>
                  <a:chOff x="6303600" y="858240"/>
                  <a:chExt cx="1267920" cy="10551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091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7280"/>
                  <a:ext cx="1292040" cy="823680"/>
                  <a:chOff x="6287040" y="827280"/>
                  <a:chExt cx="1292040" cy="82368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8880" y="1014480"/>
                    <a:ext cx="89100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40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7520" cy="667080"/>
                  <a:chOff x="6273360" y="786960"/>
                  <a:chExt cx="1307520" cy="66708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472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1888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9600" y="745920"/>
                  <a:ext cx="1222200" cy="417600"/>
                  <a:chOff x="6339600" y="745920"/>
                  <a:chExt cx="1222200" cy="41760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520" y="799920"/>
                    <a:ext cx="79236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5960"/>
                    <a:ext cx="42552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2840" y="720360"/>
                  <a:ext cx="1109520" cy="188280"/>
                  <a:chOff x="6432840" y="720360"/>
                  <a:chExt cx="110952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944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572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1520" y="509040"/>
                  <a:ext cx="984600" cy="332640"/>
                  <a:chOff x="65815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28200" y="65700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7000" y="5472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4200"/>
                  <a:ext cx="970920" cy="451080"/>
                  <a:chOff x="6636600" y="394200"/>
                  <a:chExt cx="970920" cy="45108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3880"/>
                    <a:ext cx="63180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892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8200" y="222840"/>
                  <a:ext cx="907200" cy="629280"/>
                  <a:chOff x="6748200" y="222840"/>
                  <a:chExt cx="90720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7280" y="30276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4840" y="59040"/>
                  <a:ext cx="823320" cy="764640"/>
                  <a:chOff x="6864840" y="59040"/>
                  <a:chExt cx="823320" cy="76464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1360" y="503280"/>
                    <a:ext cx="6415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5640" y="155160"/>
                    <a:ext cx="3441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09280" y="21240"/>
                  <a:ext cx="612360" cy="782280"/>
                  <a:chOff x="7109280" y="21240"/>
                  <a:chExt cx="612360" cy="78228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2480" y="47988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0720" y="109080"/>
                    <a:ext cx="303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9280" y="-21600"/>
                  <a:ext cx="465840" cy="811440"/>
                  <a:chOff x="7289280" y="-21600"/>
                  <a:chExt cx="465840" cy="81144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920" y="461520"/>
                    <a:ext cx="5446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632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5440" y="272880"/>
                  <a:ext cx="959040" cy="462240"/>
                  <a:chOff x="7795440" y="272880"/>
                  <a:chExt cx="959040" cy="4622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2920" y="511200"/>
                    <a:ext cx="6318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4480" y="32976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40360" y="136080"/>
                  <a:ext cx="911520" cy="608760"/>
                  <a:chOff x="7740360" y="136080"/>
                  <a:chExt cx="911520" cy="60876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21280" y="474480"/>
                    <a:ext cx="6332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116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4000" y="101160"/>
                  <a:ext cx="282600" cy="117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7280" y="-10080"/>
                  <a:ext cx="496440" cy="793800"/>
                  <a:chOff x="7667280" y="-10080"/>
                  <a:chExt cx="496440" cy="7938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6400" y="471600"/>
                    <a:ext cx="5443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240" y="7956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4040" y="41040"/>
                  <a:ext cx="783720" cy="747720"/>
                  <a:chOff x="7664040" y="41040"/>
                  <a:chExt cx="783720" cy="747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3000" y="458280"/>
                    <a:ext cx="5922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080" y="12204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3000" y="4320"/>
                  <a:ext cx="175320" cy="742320"/>
                  <a:chOff x="7713000" y="4320"/>
                  <a:chExt cx="175320" cy="7423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4360" y="4788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4360" y="104040"/>
                    <a:ext cx="26208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08240" y="929160"/>
                  <a:ext cx="919800" cy="1247040"/>
                  <a:chOff x="6708240" y="929160"/>
                  <a:chExt cx="9198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35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1480" y="178488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040" y="977400"/>
                  <a:ext cx="612720" cy="1247400"/>
                  <a:chOff x="7016040" y="977400"/>
                  <a:chExt cx="612720" cy="12474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1920" y="1306080"/>
                    <a:ext cx="8175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4080" y="1848600"/>
                    <a:ext cx="4395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5200" y="1001520"/>
                  <a:ext cx="363600" cy="1216800"/>
                  <a:chOff x="7315200" y="1001520"/>
                  <a:chExt cx="363600" cy="12168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7139520" y="1328760"/>
                    <a:ext cx="78588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7255440" y="1876320"/>
                    <a:ext cx="420840" cy="22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801560" y="907920"/>
                  <a:ext cx="950400" cy="1229400"/>
                  <a:chOff x="7801560" y="907920"/>
                  <a:chExt cx="950400" cy="12294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4640" y="122508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884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520" y="953280"/>
                  <a:ext cx="734400" cy="1261080"/>
                  <a:chOff x="7787520" y="953280"/>
                  <a:chExt cx="73440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920" y="1285560"/>
                    <a:ext cx="8460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1640" y="1836360"/>
                    <a:ext cx="45396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760" y="1003680"/>
                  <a:ext cx="516960" cy="1240920"/>
                  <a:chOff x="7754760" y="1003680"/>
                  <a:chExt cx="516960" cy="12409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8040" y="1348560"/>
                    <a:ext cx="8204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6160" y="190512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40360" y="1058760"/>
                  <a:ext cx="286200" cy="1151640"/>
                  <a:chOff x="7740360" y="1058760"/>
                  <a:chExt cx="286200" cy="115164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7200" y="1378800"/>
                    <a:ext cx="75564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7520" y="1896480"/>
                    <a:ext cx="40464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5640" y="1076760"/>
                  <a:ext cx="276120" cy="1131840"/>
                  <a:chOff x="7505640" y="1076760"/>
                  <a:chExt cx="27612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60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340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20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5400" y="906480"/>
                <a:ext cx="2179440" cy="2405160"/>
              </a:xfrm>
              <a:custGeom>
                <a:avLst/>
                <a:gdLst>
                  <a:gd name="textAreaLeft" fmla="*/ 1090080 w 2179440"/>
                  <a:gd name="textAreaRight" fmla="*/ 2179800 w 2179440"/>
                  <a:gd name="textAreaTop" fmla="*/ 42840 h 2405160"/>
                  <a:gd name="textAreaBottom" fmla="*/ 1224360 h 24051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5800" cy="2398680"/>
              </a:xfrm>
              <a:custGeom>
                <a:avLst/>
                <a:gdLst>
                  <a:gd name="textAreaLeft" fmla="*/ 318960 w 955800"/>
                  <a:gd name="textAreaRight" fmla="*/ 955800 w 9558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1160" cy="2398680"/>
              </a:xfrm>
              <a:custGeom>
                <a:avLst/>
                <a:gdLst>
                  <a:gd name="textAreaLeft" fmla="*/ 180000 w 911160"/>
                  <a:gd name="textAreaRight" fmla="*/ 911160 w 91116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768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3280" y="1102680"/>
                <a:ext cx="2253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816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784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52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5200"/>
                  <a:gd name="textAreaBottom" fmla="*/ 1182600 h 23652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160" y="1285920"/>
                <a:ext cx="555480" cy="780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160" y="45720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1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7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39840" cy="734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588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436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EFA31-AEDA-4F77-BC2C-60233A96CD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1320" y="248760"/>
            <a:ext cx="7118280" cy="8011080"/>
            <a:chOff x="2011320" y="248760"/>
            <a:chExt cx="7118280" cy="80110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1320" y="248760"/>
              <a:ext cx="7118280" cy="7782480"/>
              <a:chOff x="2011320" y="248760"/>
              <a:chExt cx="7118280" cy="77824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1320" y="248760"/>
                <a:ext cx="6891120" cy="5446440"/>
                <a:chOff x="2011320" y="248760"/>
                <a:chExt cx="6891120" cy="544644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fe103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1320" y="248760"/>
                  <a:ext cx="6891120" cy="5446440"/>
                  <a:chOff x="2011320" y="248760"/>
                  <a:chExt cx="6891120" cy="544644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3920" cy="2740320"/>
                    <a:chOff x="5761080" y="2323440"/>
                    <a:chExt cx="2563920" cy="274032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8080" y="4144320"/>
                      <a:ext cx="11397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8440" y="2146680"/>
                    <a:ext cx="3042720" cy="2527560"/>
                    <a:chOff x="5788440" y="2146680"/>
                    <a:chExt cx="3042720" cy="25275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8160" y="2749320"/>
                      <a:ext cx="2237040" cy="42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6680" y="3719160"/>
                      <a:ext cx="120024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71080"/>
                    <a:ext cx="3098520" cy="1981800"/>
                    <a:chOff x="5776200" y="2071080"/>
                    <a:chExt cx="3098520" cy="19818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9920" y="252108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4680" y="3243240"/>
                      <a:ext cx="114912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7400"/>
                    <a:ext cx="3133800" cy="1611000"/>
                    <a:chOff x="5768640" y="1967400"/>
                    <a:chExt cx="3133800" cy="161100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6640"/>
                      <a:ext cx="206712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8600" y="1874160"/>
                    <a:ext cx="2940480" cy="1007280"/>
                    <a:chOff x="5808600" y="1874160"/>
                    <a:chExt cx="2940480" cy="10072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5880" y="200448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0932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7120" y="1811160"/>
                    <a:ext cx="2664000" cy="454320"/>
                    <a:chOff x="5847120" y="1811160"/>
                    <a:chExt cx="2664000" cy="45432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1080" y="1852200"/>
                      <a:ext cx="173052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3680" y="1827000"/>
                      <a:ext cx="930240" cy="42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6640" y="1299600"/>
                    <a:ext cx="2365200" cy="799560"/>
                    <a:chOff x="5786640" y="1299600"/>
                    <a:chExt cx="2365200" cy="79956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6000" y="1654200"/>
                      <a:ext cx="15206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560" y="139176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8880" y="2474280"/>
                    <a:ext cx="2556000" cy="2739600"/>
                    <a:chOff x="2648880" y="2474280"/>
                    <a:chExt cx="2556000" cy="273960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5320" y="429408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6920" y="2365920"/>
                    <a:ext cx="3041280" cy="2527920"/>
                    <a:chOff x="2086920" y="2365920"/>
                    <a:chExt cx="3041280" cy="25279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1080" y="296856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70800" y="39369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6360"/>
                    <a:ext cx="3100320" cy="1985760"/>
                    <a:chOff x="2041920" y="2286360"/>
                    <a:chExt cx="310032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6160" y="2736720"/>
                      <a:ext cx="2141640" cy="37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2480"/>
                      <a:ext cx="114948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1320" y="2185920"/>
                    <a:ext cx="3134160" cy="1609920"/>
                    <a:chOff x="2011320" y="2185920"/>
                    <a:chExt cx="3134160" cy="160992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516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4040" y="2991960"/>
                      <a:ext cx="1111320" cy="64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320" y="2093400"/>
                    <a:ext cx="2945880" cy="1007280"/>
                    <a:chOff x="2164320" y="2093400"/>
                    <a:chExt cx="2945880" cy="100728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7800" y="2223720"/>
                      <a:ext cx="190476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28920"/>
                      <a:ext cx="10224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399040" y="2030040"/>
                    <a:ext cx="2659680" cy="454320"/>
                    <a:chOff x="2399040" y="2030040"/>
                    <a:chExt cx="2659680" cy="4543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3880" y="2069640"/>
                      <a:ext cx="173052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5520" y="2045880"/>
                      <a:ext cx="930240" cy="42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4480" cy="799560"/>
                    <a:chOff x="2758680" y="1518840"/>
                    <a:chExt cx="236448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244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120" y="161100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5040" y="1240560"/>
                    <a:ext cx="2329920" cy="1077120"/>
                    <a:chOff x="2885040" y="1240560"/>
                    <a:chExt cx="2329920" cy="10771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1840" y="1372680"/>
                      <a:ext cx="8157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7920" y="831240"/>
                    <a:ext cx="2172600" cy="1511280"/>
                    <a:chOff x="3157920" y="831240"/>
                    <a:chExt cx="2172600" cy="151128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4720" y="10234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6560" y="435960"/>
                    <a:ext cx="1983600" cy="1838880"/>
                    <a:chOff x="3436560" y="435960"/>
                    <a:chExt cx="198360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300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2120" y="667800"/>
                      <a:ext cx="828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3360" y="338760"/>
                    <a:ext cx="1465560" cy="1884240"/>
                    <a:chOff x="4023360" y="338760"/>
                    <a:chExt cx="1465560" cy="188424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9080" y="144540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28760" y="5493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9960" y="248760"/>
                    <a:ext cx="1118520" cy="1944000"/>
                    <a:chOff x="4449960" y="248760"/>
                    <a:chExt cx="111852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220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7920" y="443520"/>
                      <a:ext cx="7034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3520" y="954360"/>
                    <a:ext cx="2314440" cy="1110960"/>
                    <a:chOff x="5663520" y="954360"/>
                    <a:chExt cx="2314440" cy="111096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7760" y="15253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1880"/>
                      <a:ext cx="8161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1760" y="626760"/>
                    <a:ext cx="2193840" cy="1452600"/>
                    <a:chOff x="5531760" y="626760"/>
                    <a:chExt cx="2193840" cy="145260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6400" y="14317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1240" y="81108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6640"/>
                    <a:ext cx="1266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1440"/>
                    <a:ext cx="680760" cy="28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440"/>
                    <a:ext cx="1198800" cy="1902600"/>
                    <a:chOff x="5353560" y="271440"/>
                    <a:chExt cx="1198800" cy="19026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236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6720"/>
                      <a:ext cx="701640" cy="35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5280" y="393120"/>
                    <a:ext cx="1890720" cy="1794240"/>
                    <a:chOff x="5345280" y="393120"/>
                    <a:chExt cx="1890720" cy="179424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720" y="1392840"/>
                      <a:ext cx="14238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1520" y="588240"/>
                      <a:ext cx="76392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2280" y="292680"/>
                    <a:ext cx="426240" cy="1801440"/>
                    <a:chOff x="5462280" y="292680"/>
                    <a:chExt cx="426240" cy="18014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8320" y="1450800"/>
                      <a:ext cx="117648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57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6120" y="2533320"/>
                    <a:ext cx="2197800" cy="2998080"/>
                    <a:chOff x="3066120" y="2533320"/>
                    <a:chExt cx="2197800" cy="29980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5480" y="4590360"/>
                      <a:ext cx="11397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440"/>
                    <a:ext cx="1473120" cy="3002400"/>
                    <a:chOff x="3794400" y="2647440"/>
                    <a:chExt cx="1473120" cy="300240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160" y="3439080"/>
                      <a:ext cx="19670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3640" y="4745520"/>
                      <a:ext cx="105588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16560" y="2700720"/>
                    <a:ext cx="864720" cy="2928600"/>
                    <a:chOff x="4516560" y="2700720"/>
                    <a:chExt cx="864720" cy="29286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4087080" y="348696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4373640" y="4807440"/>
                      <a:ext cx="1013040" cy="54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91040" cy="2946960"/>
                    <a:chOff x="5674320" y="2485440"/>
                    <a:chExt cx="2291040" cy="294696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6160" y="4494600"/>
                      <a:ext cx="11397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3000" y="2594880"/>
                    <a:ext cx="1765440" cy="3030120"/>
                    <a:chOff x="5643000" y="2594880"/>
                    <a:chExt cx="1765440" cy="303012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720" y="3394800"/>
                      <a:ext cx="20336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840" y="4718880"/>
                      <a:ext cx="10904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3160" y="2711160"/>
                    <a:ext cx="1230840" cy="2984040"/>
                    <a:chOff x="5573160" y="2711160"/>
                    <a:chExt cx="1230840" cy="29840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51160" y="3541320"/>
                      <a:ext cx="197316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790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31400" y="2837160"/>
                    <a:ext cx="686880" cy="2777760"/>
                    <a:chOff x="5531400" y="2837160"/>
                    <a:chExt cx="686880" cy="277776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900320" y="3605040"/>
                      <a:ext cx="18147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7000" y="4860720"/>
                      <a:ext cx="97488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4400" y="2886840"/>
                    <a:ext cx="663120" cy="2717640"/>
                    <a:chOff x="4964400" y="2886840"/>
                    <a:chExt cx="66312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38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960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4840" cy="7348680"/>
                <a:chOff x="2174760" y="682560"/>
                <a:chExt cx="69548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4840" cy="7348680"/>
                  <a:chOff x="2174760" y="682560"/>
                  <a:chExt cx="69548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28880" cy="5045040"/>
                  </a:xfrm>
                  <a:custGeom>
                    <a:avLst/>
                    <a:gdLst>
                      <a:gd name="textAreaLeft" fmla="*/ 340920 w 3728880"/>
                      <a:gd name="textAreaRight" fmla="*/ 3505680 w 37288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2120" y="2270160"/>
                    <a:ext cx="3517920" cy="5761080"/>
                  </a:xfrm>
                  <a:custGeom>
                    <a:avLst/>
                    <a:gdLst>
                      <a:gd name="textAreaLeft" fmla="*/ 1032480 w 3517920"/>
                      <a:gd name="textAreaRight" fmla="*/ 3517920 w 35179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560" y="2184120"/>
                  <a:ext cx="5443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240" y="32353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2240" cy="5783400"/>
              </a:xfrm>
              <a:custGeom>
                <a:avLst/>
                <a:gdLst>
                  <a:gd name="textAreaLeft" fmla="*/ 2615760 w 5232240"/>
                  <a:gd name="textAreaRight" fmla="*/ 5232240 w 523224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10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1080"/>
                  <a:gd name="textAreaBottom" fmla="*/ 2932920 h 57610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840" y="2157120"/>
                <a:ext cx="5443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827000"/>
            <a:ext cx="7769160" cy="16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26C66-D7CF-4B0E-B423-78D7DF4D7B0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rom Rebellion to Independence in America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nit Question:  Under what circumstances is it acceptable to rebel against your government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301320"/>
            <a:ext cx="8001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2nd Continental Congress – May 1775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fter Battles of Lexington and Concord, delegates return to Philadelphia to meet agai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assachusetts asks for funding and support for their “war” against the British Arm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9800" indent="-28260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ongress approves the creation of an official “regular” arm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39800" indent="-28260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orge Washington (a well-known general) is appointed Commander of the Continental Arm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Black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Continental Congress cont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gress split on issue of independen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ome delegates want to reconcile with England, with full rights restored to the colonis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etition sent to King George III demanding these righ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King George III rejects the petition, saying that the colonists were traitors who had started a war and must be fully defeat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on Sense”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omas Paine, who had only just moved to the colonies, wrote a popular pamphlet called “Common Sense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 argued that becoming independent was the only way for the colonists to secure their righ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War Effo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fter their early losses in Massachusetts, British hire German mercenary soldiers – called Hessia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lonists need support from France, especially the French nav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rance will only help if the war is for independen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y don’t want to help their rival Great Britain by “putting it back together”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claring Independen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pring 1776 – Committee formed in Congress to draft a declaration of independ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mittee headed by Thomas Jefferson of Virgini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is draft is edited by John Adams and other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eclaration of Independence unanimously approved by Congress on July 4, 1776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23:30:39Z</dcterms:created>
  <dc:creator>Dominic Lambek</dc:creator>
  <dc:description/>
  <dc:language>en-US</dc:language>
  <cp:lastModifiedBy>Dominic Lambek</cp:lastModifiedBy>
  <dcterms:modified xsi:type="dcterms:W3CDTF">2009-12-14T00:22:28Z</dcterms:modified>
  <cp:revision>2</cp:revision>
  <dc:subject/>
  <dc:title>From Rebellion to Independence in America</dc:title>
</cp:coreProperties>
</file>