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0ACE1-CC31-474F-81EC-04A9CBF0A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FE076-DD47-4FDF-8CC6-3B20452F5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7D02F6-876E-46EC-B1E4-533CCF458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52FDEA-DB9D-4638-B724-B3F00618F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58232-58B8-4A6D-AC22-BC3F98E3C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6C6F-A2BC-428A-ABAD-5A2B17234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816B-DADE-4650-A36C-BF34806B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5130-354C-40F5-BC16-E6CBBAC04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D0E0-8295-4E1E-8A16-1EA6E0228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AB37-6B79-4527-B0DE-0351EB4D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1F05-F0FC-46AB-A69F-8D4F1240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DD34-E9C3-4967-B0AE-105DC7A5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2DB9-573F-471C-B26C-402D91FA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DE51-9009-46B5-80C5-79807337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54F2-A28D-4A06-91A0-668D7E2C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82CB-BACB-4529-8233-50CE7CF3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79AC-394D-49B4-BF12-B81D4F40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EBAAB-004C-48AF-9AD3-63ED4709B39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9920" y="17316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ns, Germs, &amp; Steel”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so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lonialism and Germ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view ques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: World Health Organization “50 Facts: Global Health Situation and Trends 1955-2025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1:  Multiple Cho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29920" y="1480680"/>
            <a:ext cx="9070920" cy="560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deaths in children under age 5 are du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infectious diseases and malnutr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premature birth/birth de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ccidents/inju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 A - More than 5 million each year die from diseases such as pneumonia and dysentery (diarrhea leading to malnutrition), mostly in developing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29920" y="1588680"/>
            <a:ext cx="9070920" cy="5970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ue or False: At least 40% of the deaths in children under age 5 that occur worldwide each year could be prevented by administering existing vaccines to young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  True.  Of the 5 million+ children under five who die each year, 2 million deaths could be prevented by administering existing vaccines and most of the rest would be preventable by other means (i.e. good nutrition, hygiene, clean water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6353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5 most deadly infectious diseases worldw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cute Lower Respiratory Infections/Pneumoni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.7 million deaths per ye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uberculosis (2.9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Dysentery (Diarrhea) (2.5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HIV/AIDS (2.3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Malaria (1.5-2.7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Symbol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but HIV/AIDS are easily preventable and/or trea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4680" y="198360"/>
            <a:ext cx="9067680" cy="8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39760" y="1265400"/>
            <a:ext cx="9524880" cy="629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52520" indent="-452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e you surprised by the answers to any of the questions? If so, which ones, and wh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 person living in the U.S., would you expect to suffer from the infectious diseases that are the top killers worldwide? Wh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n age where so much medical technology is available, particularly in the form of medications and vaccines, why do you think so many people are still dying from preventable diseas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it make you feel when you think about people in developing countries dying from these types of diseases at alarmingly high ra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should be responsible for helping to eradicate these diseases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04:18:23Z</dcterms:created>
  <dc:creator/>
  <dc:description/>
  <dc:language>en-US</dc:language>
  <cp:lastModifiedBy>Dominic Lambek</cp:lastModifiedBy>
  <dcterms:modified xsi:type="dcterms:W3CDTF">2013-12-06T19:02:48Z</dcterms:modified>
  <cp:revision>3</cp:revision>
  <dc:subject/>
  <dc:title>“Guns, Germs, &amp; Steel” Episode 3</dc:title>
</cp:coreProperties>
</file>