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6EDABC-2AB5-4536-9990-EA513EA5D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9A69BF-BEE5-4E27-8CD1-AD61AAFF5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6B7BE4-BAAF-4461-8CE3-A52FAF6FB6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F83494-3D4B-4347-9E66-A7B1BECCF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CD1227-A219-4C89-925A-0FE28CA14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D169-93F3-47F5-BCF6-ABFEEB56B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49D4-4136-463C-B371-D3F8B210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A37A-24D3-410B-A7B6-E6DB1487C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072D-F6A2-4160-B84B-E423563B7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EC86-4FD3-42E0-B550-254EFA8F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165F-2270-4739-B117-62459C7C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D74F-C0D5-495A-82CB-C7AD8330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698D-E98A-40EF-92B6-1146AD6B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9A51-3C9E-4FAD-9B66-5B3C06BB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D085-6704-4327-B453-715F2223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B305-26DE-4A5E-86B8-13F94DDE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8920-56BE-4044-A4B7-5656002A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6438D-4324-4825-B2D7-AC1911CD187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9920" y="17316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ns, Germs, &amp; Steel”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so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lonialism and Germ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view ques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: World Health Organization “50 Facts: Global Health Situation and Trends 1955-2025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1:  Multiple Cho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29920" y="1480680"/>
            <a:ext cx="9070920" cy="560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deaths in children under age 5 are due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infectious diseases and malnutr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premature birth/birth de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ccidents/inju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: A - More than 5 million each year die from diseases such as pneumonia and dysentery (diarrhea leading to malnutrition), mostly in developing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29920" y="1588680"/>
            <a:ext cx="9070920" cy="59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or False: At least 40% of the deaths in children under age 5 that occur worldwide each year could be prevented by administering existing vaccines to young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:  True.  Of the 5 million+ children under five who die each year, 2 million deaths could be prevented by administering existing vaccines and most of the rest would be preventable by other means (i.e. good nutrition, hygiene, clean water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6353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5 most deadly infectious diseases worldw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cute Lower Respiratory Infections/Pneumoni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.7 million deaths per ye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uberculosis (2.9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Dysentery (Diarrhea) (2.5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HIV/AIDS (2.3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 Malaria (1.5-2.7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Symbol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but HIV/AIDS are easily preventable and/or trea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4680" y="198360"/>
            <a:ext cx="9067680" cy="8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39760" y="1265400"/>
            <a:ext cx="9524880" cy="629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52520" indent="-452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re you surprised by the answers to any of the questions? If so, which ones, and wh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 person living in the U.S., would you expect to suffer from the infectious diseases that are the top killers worldwide? Wh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n age where so much medical technology is available, particularly in the form of medications and vaccines, why do you think so many people are still dying from preventable disea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it make you feel when you think about people in developing countries dying from these types of diseases at alarmingly high ra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should be responsible for helping to eradicate these diseases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04:18:23Z</dcterms:created>
  <dc:creator/>
  <dc:description/>
  <dc:language>en-US</dc:language>
  <cp:lastModifiedBy>Dominic Lambek</cp:lastModifiedBy>
  <dcterms:modified xsi:type="dcterms:W3CDTF">2013-12-06T19:02:48Z</dcterms:modified>
  <cp:revision>3</cp:revision>
  <dc:subject/>
  <dc:title>“Guns, Germs, &amp; Steel” Episode 3</dc:title>
</cp:coreProperties>
</file>