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0544E-1FAF-407D-974A-AA81D4BEB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805D0-D039-4EE7-A483-C51F7367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D1EBD-456D-4477-97EE-C15747E5E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636B2-8997-4157-B06C-BA8FC50FC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4BE59-6DDA-49EF-836C-B943F2E5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E95-61D8-4E00-B3C1-D5D86C6F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5ECA-D632-4298-9A53-3BE73D0B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747-7C7D-470D-B124-9CB17B41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3A1-4EBA-485A-A87E-44A230C1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50B-A333-404A-8BF6-A276AF52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99E9-DC86-429B-A10A-ADFA45C1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9725-C4C0-4A9C-924D-99CF0818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BF6B-EDAD-4EAD-8354-8D1AA2B71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E4D-4D19-4E1F-BB6D-2FDAB25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CDD-F9AF-46B5-980B-BB1C1324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B79-ECA9-4127-8668-CB127BE5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2D4-42CC-473F-BB1B-3B0AC073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4892-4DD4-4DBE-88D1-9540E163163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73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s, Germs, &amp; Steel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ism and G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World Health Organization “50 Facts: Global Health Situation and Trends 1955-2025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:  Multipl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1480680"/>
            <a:ext cx="907092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aths in children under age 5 ar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fectious diseases an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emature birth/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idents/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A - More than 5 million each year die from diseases such as pneumonia and dysentery (diarrhea leading to malnutrition), mostly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1588680"/>
            <a:ext cx="9070920" cy="59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At least 40% of the deaths in children under age 5 that occur worldwide each year could be prevented by administering existing vaccines to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True.  Of the 5 million+ children under five who die each year, 2 million deaths could be prevented by administering existing vaccines and most of the rest would be preventable by other means (i.e. good nutrition, hygiene, clean wat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ost deadly infectious diseases world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ute Lower Respiratory Infections/Pneumon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7 million death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uberculosis (2.9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ysentery (Diarrhea) (2.5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IV/AIDS (2.3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Malaria (1.5-2.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HIV/AIDS are easily preventable and/or tre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4680" y="198360"/>
            <a:ext cx="90676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9760" y="1265400"/>
            <a:ext cx="95248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surprised by the answers to any of the questions? If so, which ones,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erson living in the U.S., would you expect to suffer from the infectious diseases that are the top killers worldwide?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ge where so much medical technology is available, particularly in the form of medications and vaccines, why do you think so many people are still dying from preventable dis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make you feel when you think about people in developing countries dying from these types of diseases at alarmingly hig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responsible for helping to eradicate these diseas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4:18:23Z</dcterms:created>
  <dc:creator/>
  <dc:description/>
  <dc:language>en-US</dc:language>
  <cp:lastModifiedBy>Dominic Lambek</cp:lastModifiedBy>
  <dcterms:modified xsi:type="dcterms:W3CDTF">2013-12-06T19:02:48Z</dcterms:modified>
  <cp:revision>3</cp:revision>
  <dc:subject/>
  <dc:title>“Guns, Germs, &amp; Steel” Episode 3</dc:title>
</cp:coreProperties>
</file>