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992C3-AFE8-4D68-8302-B25CD66CCA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62C15-CAAE-49A0-8FF4-AACFE0948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0605A-3181-4376-8511-AAA8A04B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C2339-1AAC-47D6-AABE-090F52E32C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96972-60E9-4ADC-83AB-6F7AB01FD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A2794-8136-40FF-B17B-59823F546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34B6B-861A-408D-A186-2D5C0F909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3BC1D-E2E8-4124-B57A-7D969293F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EC347-A390-4785-8B60-05161A05D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24B9C-18A6-4322-A144-0B4325688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69C38-BBC5-4D2F-A3A1-66FACF6CB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5E2A0-FB55-478E-BB25-9B4AF1EDB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4360"/>
            <a:ext cx="2131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71772EE-CEDB-4329-835D-E5B84B2E6B1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ushistory.org/tour/first-bank.htm" TargetMode="External"/><Relationship Id="rId2" Type="http://schemas.openxmlformats.org/officeDocument/2006/relationships/hyperlink" Target="http://davidavery.files.wordpress.com/2009/02/thomas-jefferson-picture.jpg" TargetMode="External"/><Relationship Id="rId3" Type="http://schemas.openxmlformats.org/officeDocument/2006/relationships/hyperlink" Target="http://wigwags.files.wordpress.com/2009/02/ahamilton.jpg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76440" y="1600200"/>
            <a:ext cx="2391120" cy="215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8eb4e3"/>
                </a:solidFill>
                <a:latin typeface="Blackadder ITC"/>
              </a:rPr>
              <a:t>The National Bank Deb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5715000" y="441972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Engravers MT"/>
              </a:rPr>
              <a:t>Part 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898989"/>
                </a:solidFill>
                <a:latin typeface="Calibri"/>
              </a:rPr>
              <a:t>A PowerPoint by Elise Stevens Wils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e8f5"/>
            </a:gs>
            <a:gs pos="100000">
              <a:srgbClr val="9ab5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opperplate Gothic Bold"/>
              </a:rPr>
              <a:t>Washington’s Deci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ltimately Washington agreed with Hamilton and the first national bank was chartered for 20 years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y spirited entrepreneurs took advantage of the loans from the bank and America’s economy grew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943600" y="4343400"/>
            <a:ext cx="2057400" cy="25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dur="indefinite" fill="hold">
                      <p:stCondLst>
                        <p:cond delay="indefinite"/>
                      </p:stCondLst>
                      <p:childTnLst>
                        <p:par>
                          <p:cTn id="1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0" dur="2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dur="indefinite" fill="hold">
                      <p:stCondLst>
                        <p:cond delay="indefinite"/>
                      </p:stCondLst>
                      <p:childTnLst>
                        <p:par>
                          <p:cTn id="1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5" dur="2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e8f5"/>
            </a:gs>
            <a:gs pos="100000">
              <a:srgbClr val="9ab5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opperplate Gothic Bold"/>
              </a:rPr>
              <a:t>Do you agree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as a national bank necessary for the U.S. at the time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you believe Jefferson or Hamilton was correct in interpreting the Constitution with respect to the bank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you generally think Congress has too much power or not enough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dur="indefinite" fill="hold">
                      <p:stCondLst>
                        <p:cond delay="indefinite"/>
                      </p:stCondLst>
                      <p:childTnLst>
                        <p:par>
                          <p:cTn id="1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2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dur="indefinite" fill="hold">
                      <p:stCondLst>
                        <p:cond delay="indefinite"/>
                      </p:stCondLst>
                      <p:childTnLst>
                        <p:par>
                          <p:cTn id="1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dur="indefinite" fill="hold">
                      <p:stCondLst>
                        <p:cond delay="indefinite"/>
                      </p:stCondLst>
                      <p:childTnLst>
                        <p:par>
                          <p:cTn id="1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ictures Bibliogra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ww.swordfoxdesign.co.nz/library/branding/1791-diamonds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ww.archives.gov/historical-docs/document.html?doc=3&amp;title.raw=Constitution%20of%20the%20United%20Sta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//mises.org/images4/12penceMass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people.cohums.ohio-state.edu/childs1/387%20Syllabus%20Wi%2009_files/image006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http://www.ushistory.org/tour/first-bank.ht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http://davidavery.files.wordpress.com/2009/02/thomas-jefferson-picture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Calibri"/>
                <a:hlinkClick r:id="rId3"/>
              </a:rPr>
              <a:t>http://wigwags.files.wordpress.com/2009/02/ahamilton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blogs.geniocity.com/friedman/wp-content/uploads/2010/02/George-Washington.jp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228600" y="-228600"/>
            <a:ext cx="9982080" cy="1207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Copperplate Gothic Bold"/>
              </a:rPr>
              <a:t>The U.S. Constitution</a:t>
            </a:r>
            <a:br>
              <a:rPr sz="4000"/>
            </a:br>
            <a:r>
              <a:rPr b="1" lang="en-US" sz="4000" spc="-1" strike="noStrike">
                <a:solidFill>
                  <a:srgbClr val="1f497d"/>
                </a:solidFill>
                <a:latin typeface="Copperplate Gothic Bold"/>
              </a:rPr>
              <a:t>Article I Section 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Enumerated Powers: Those powers given to U.S. government expressly listed in the Constitutio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General Powers: Those powers given to the U.S. government to serve the general welfare of the people.  These powers are not specific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Arial Unicode MS"/>
              </a:rPr>
              <a:t>General Welfare Clause: Allows Congress to enact laws that it sees fit to support the common goo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Arial Unicode MS"/>
              </a:rPr>
              <a:t>Necessary and Proper Clause: Allows Congress to enact laws that are necessary to carry out its enumerated power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2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dur="indefinite" fill="hold">
                      <p:stCondLst>
                        <p:cond delay="indefinite"/>
                      </p:stCondLst>
                      <p:childTnLst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" dur="2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257800" y="4363920"/>
            <a:ext cx="2743200" cy="2494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opperplate Gothic Bold"/>
              </a:rPr>
              <a:t>Problems in 179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volutionary War Debt – Many states owed money after the Revolutionary W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on Currency – Before and during the Revolutionary War each state had its own system of currency. There was no uniformity in Americ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2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opperplate Gothic Bold"/>
              </a:rPr>
              <a:t>Problems Continued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 a new country America needed to develop its economy.  Should America focus on agriculture, which it had in the past, or should it develop its trade and manufacturing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886200" y="3657600"/>
            <a:ext cx="4952880" cy="310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129528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ederali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>
            <a:off x="4648320" y="129528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publican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981080"/>
            <a:ext cx="40402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exander Hamilt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rong federal govern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the states’ debt should be absorbed by the national government, and it will pay off the deb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nce the states are now one country there should be one currency, and it should be paper.  It makes life easier since gold and silver are hard to come by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cessary and proper” means whatever the government needs to do to solve problem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me powers are not prohibited in the government, but ar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mplied power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>
            <a:off x="4648320" y="1905120"/>
            <a:ext cx="40417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omas Jeffers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mall, local govern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t all the states have the same amount of debt and it is unfair to have states will little debt pay other state’s debt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eople don’t trust that paper can be valuable and used instead of gold and silve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ecessary and proper” means only whatever is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absolutely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necessary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opperplate Gothic Bold"/>
              </a:rPr>
              <a:t>The first 2 parties Develo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dur="indefinite" fill="hold">
                      <p:stCondLst>
                        <p:cond delay="indefinite"/>
                      </p:stCondLst>
                      <p:childTnLst>
                        <p:par>
                          <p:cTn id="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dur="indefinite" fill="hold">
                      <p:stCondLst>
                        <p:cond delay="indefinite"/>
                      </p:stCondLst>
                      <p:childTnLst>
                        <p:par>
                          <p:cTn id="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dur="indefinite" fill="hold">
                      <p:stCondLst>
                        <p:cond delay="indefinite"/>
                      </p:stCondLst>
                      <p:childTnLst>
                        <p:par>
                          <p:cTn id="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dur="indefinite" fill="hold">
                      <p:stCondLst>
                        <p:cond delay="indefinite"/>
                      </p:stCondLst>
                      <p:childTnLst>
                        <p:par>
                          <p:cTn id="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dur="indefinite" fill="hold">
                      <p:stCondLst>
                        <p:cond delay="indefinite"/>
                      </p:stCondLst>
                      <p:childTnLst>
                        <p:par>
                          <p:cTn id="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dur="indefinite" fill="hold">
                      <p:stCondLst>
                        <p:cond delay="indefinite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dur="indefinite" fill="hold">
                      <p:stCondLst>
                        <p:cond delay="indefinite"/>
                      </p:stCondLst>
                      <p:childTnLst>
                        <p:par>
                          <p:cTn id="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dur="indefinite" fill="hold">
                      <p:stCondLst>
                        <p:cond delay="indefinite"/>
                      </p:stCondLst>
                      <p:childTnLst>
                        <p:par>
                          <p:cTn id="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dur="indefinite" fill="hold">
                      <p:stCondLst>
                        <p:cond delay="indefinite"/>
                      </p:stCondLst>
                      <p:childTnLst>
                        <p:par>
                          <p:cTn id="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274680"/>
            <a:ext cx="8229600" cy="39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  <a:ea typeface="Arial"/>
              </a:rPr>
              <a:t>Some people thought that a bank would help in solving the problems in 1791.  Based on your knowledge of the Constitution, does Congress have the right to create this bank? Why or why not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19520" y="4114800"/>
            <a:ext cx="355752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6915240" cy="6243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8580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8eb4e3"/>
                </a:solidFill>
                <a:latin typeface="Blackadder ITC"/>
              </a:rPr>
              <a:t>The National Bank Deb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2438280" y="6248520"/>
            <a:ext cx="6400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898989"/>
                </a:solidFill>
                <a:latin typeface="Calibri"/>
              </a:rPr>
              <a:t>A PowerPoint by Elise Stevens Wils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>
            <a:off x="5715000" y="441972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Engravers MT"/>
              </a:rPr>
              <a:t>Part 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e8f5"/>
            </a:gs>
            <a:gs pos="100000">
              <a:srgbClr val="9ab5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opperplate Gothic Bold"/>
              </a:rPr>
              <a:t>Jeffers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efferson did not see the need for the ban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also worried that if Congress created a bank, then they were abusing power and would do so in the futur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715000" y="3886200"/>
            <a:ext cx="320040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dur="indefinite" fill="hold">
                      <p:stCondLst>
                        <p:cond delay="indefinite"/>
                      </p:stCondLst>
                      <p:childTnLst>
                        <p:par>
                          <p:cTn id="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dur="indefinite" fill="hold">
                      <p:stCondLst>
                        <p:cond delay="indefinite"/>
                      </p:stCondLst>
                      <p:childTnLst>
                        <p:par>
                          <p:cTn id="1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" dur="2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1e8f5"/>
            </a:gs>
            <a:gs pos="100000">
              <a:srgbClr val="9ab5e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opperplate Gothic Bold"/>
              </a:rPr>
              <a:t>Hamilt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1600200"/>
            <a:ext cx="40384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ving a bank would aid the government in paying off the debt, coining money, and collecting tax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ability to charter a bank is a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mplied pow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 The Constitution does not prohibit its creation and it would help Congress carry out its duti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bank will also allow people to borrow money to start businesses which helps the econom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546880" y="3657600"/>
            <a:ext cx="2682720" cy="307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dur="indefinite" fill="hold">
                      <p:stCondLst>
                        <p:cond delay="indefinite"/>
                      </p:stCondLst>
                      <p:childTnLst>
                        <p:par>
                          <p:cTn id="1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dur="indefinite" fill="hold">
                      <p:stCondLst>
                        <p:cond delay="indefinite"/>
                      </p:stCondLst>
                      <p:childTnLst>
                        <p:par>
                          <p:cTn id="1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8" dur="2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dur="indefinite" fill="hold">
                      <p:stCondLst>
                        <p:cond delay="indefinite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3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5T21:55:39Z</dcterms:created>
  <dc:creator>wilson</dc:creator>
  <dc:description/>
  <dc:language>en-US</dc:language>
  <cp:lastModifiedBy>Karina Gaige</cp:lastModifiedBy>
  <dcterms:modified xsi:type="dcterms:W3CDTF">2010-06-11T14:51:25Z</dcterms:modified>
  <cp:revision>6</cp:revision>
  <dc:subject/>
  <dc:title>The National Bank Debate</dc:title>
</cp:coreProperties>
</file>