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DD62E-DBE5-449C-80B1-495C18FBA9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5161B-4177-4B49-A1AA-8C9C94D5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4459B-EDFD-460C-97B1-D0E5A46D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02DA4-5989-4E80-A866-45F2336AB4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6EB24-3A4D-4440-9203-E95AE571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105C3-CBED-445D-AF18-8937621D6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D2CA0-9CA7-4616-A1C8-31ED20BA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95F2E-1BA8-4766-886B-53EE87D6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78BC9-32B5-4EAD-A4B4-F5B3600A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9D711-44B0-40BF-B2DB-421E1DBF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E5C28-5BA3-4B83-92CF-CBE1C9F2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92322-4C82-44F3-9A2C-54F2E8BD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6574A7-6576-4302-B7C1-D1D0DC436DA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ushistory.org/tour/first-bank.htm" TargetMode="External"/><Relationship Id="rId2" Type="http://schemas.openxmlformats.org/officeDocument/2006/relationships/hyperlink" Target="http://davidavery.files.wordpress.com/2009/02/thomas-jefferson-picture.jpg" TargetMode="External"/><Relationship Id="rId3" Type="http://schemas.openxmlformats.org/officeDocument/2006/relationships/hyperlink" Target="http://wigwags.files.wordpress.com/2009/02/ahamilton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76440" y="1600200"/>
            <a:ext cx="2391120" cy="215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8eb4e3"/>
                </a:solidFill>
                <a:latin typeface="Blackadder ITC"/>
              </a:rPr>
              <a:t>The National Bank Deb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5715000" y="4419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Engravers MT"/>
              </a:rPr>
              <a:t>Part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A PowerPoint by Elise Stevens Wils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9ab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Washington’s Dec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timately Washington agreed with Hamilton and the first national bank was chartered for 20 year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spirited entrepreneurs took advantage of the loans from the bank and America’s economy grew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20574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9ab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Do you agree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s a national bank necessary for the U.S. at the tim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believe Jefferson or Hamilton was correct in interpreting the Constitution with respect to the ban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generally think Congress has too much power or not enough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 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swordfoxdesign.co.nz/library/branding/1791-diamonds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archives.gov/historical-docs/document.html?doc=3&amp;title.raw=Constitution%20of%20the%20United%20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//mises.org/images4/12penceMass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people.cohums.ohio-state.edu/childs1/387%20Syllabus%20Wi%2009_files/image00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www.ushistory.org/tour/first-bank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davidavery.files.wordpress.com/2009/02/thomas-jefferson-picture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http://wigwags.files.wordpress.com/2009/02/ahamilton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blogs.geniocity.com/friedman/wp-content/uploads/2010/02/George-Washington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982080" cy="1207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opperplate Gothic Bold"/>
              </a:rPr>
              <a:t>The U.S. Constitution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Copperplate Gothic Bold"/>
              </a:rPr>
              <a:t>Article I Section 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Enumerated Powers: Those powers given to U.S. government expressly listed in the Constitu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General Powers: Those powers given to the U.S. government to serve the general welfare of the people.  These powers are not specifi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General Welfare Clause: Allows Congress to enact laws that it sees fit to support the common goo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Necessary and Proper Clause: Allows Congress to enact laws that are necessary to carry out its enumerated pow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57800" y="4363920"/>
            <a:ext cx="2743200" cy="249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Problems in 179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olutionary War Debt – Many states owed money after the Revolutionary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urrency – Before and during the Revolutionary War each state had its own system of currency. There was no uniformity in Amer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Problems Continu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new country America needed to develop its economy.  Should America focus on agriculture, which it had in the past, or should it develop its trade and manufacturing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4952880" cy="31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29528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der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129528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ublica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81080"/>
            <a:ext cx="4040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exander Hamil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ong federal gover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the states’ debt should be absorbed by the national government, and it will pay off the deb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ce the states are now one country there should be one currency, and it should be paper.  It makes life easier since gold and silver are hard to come b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cessary and proper” means whatever the government needs to do to solve probl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powers are not prohibited in the government, but a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ied pow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905120"/>
            <a:ext cx="4041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mall, local gover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all the states have the same amount of debt and it is unfair to have states will little debt pay other state’s deb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ople don’t trust that paper can be valuable and used instead of gold and silv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cessary and proper” means only whatever 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absolutel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necessar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opperplate Gothic Bold"/>
              </a:rPr>
              <a:t>The first 2 parties Develo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  <a:ea typeface="Arial"/>
              </a:rPr>
              <a:t>Some people thought that a bank would help in solving the problems in 1791.  Based on your knowledge of the Constitution, does Congress have the right to create this bank? Why or why not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35575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915240" cy="6243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8eb4e3"/>
                </a:solidFill>
                <a:latin typeface="Blackadder ITC"/>
              </a:rPr>
              <a:t>The National Bank Deb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62485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A PowerPoint by Elise Stevens Wils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4419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Engravers MT"/>
              </a:rPr>
              <a:t>Part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9ab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Jeffer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fferson did not see the need for the ban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also worried that if Congress created a bank, then they were abusing power and would do so in the futu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32004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9ab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Hamil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4038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ing a bank would aid the government in paying off the debt, coining money, and collecting tax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ility to charter a bank is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ied p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The Constitution does not prohibit its creation and it would help Congress carry out its du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nk will also allow people to borrow money to start businesses which helps the econom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546880" y="3657600"/>
            <a:ext cx="2682720" cy="30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21:55:39Z</dcterms:created>
  <dc:creator>wilson</dc:creator>
  <dc:description/>
  <dc:language>en-US</dc:language>
  <cp:lastModifiedBy>Karina Gaige</cp:lastModifiedBy>
  <dcterms:modified xsi:type="dcterms:W3CDTF">2010-06-11T14:51:25Z</dcterms:modified>
  <cp:revision>6</cp:revision>
  <dc:subject/>
  <dc:title>The National Bank Debate</dc:title>
</cp:coreProperties>
</file>