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CA85E-AF8F-45F7-ACAE-12D596A5E8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E94C5-9214-4B3C-9EE4-B46A4B83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B8BA-A6B8-4123-9D69-8794F836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611E-A2DE-440B-8655-B6A513AA92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0CB57-CEFF-4944-BDEA-EC819ED9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579A-D5C1-423C-874A-D6264C1C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E65C-55FF-4616-909F-FF32FF2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780A-74B6-4A2E-A1EE-B437589BF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283FA-F49D-4D89-A40A-39CCA9B6B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52F5-99A5-4CA1-8056-73708207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A8C6-760F-403B-9BF9-9265E585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6EF92-5EC1-4506-94E9-150C3CA7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D7A85-4E16-4472-81F5-A118874A893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shistory.org/tour/first-bank.htm" TargetMode="External"/><Relationship Id="rId2" Type="http://schemas.openxmlformats.org/officeDocument/2006/relationships/hyperlink" Target="http://davidavery.files.wordpress.com/2009/02/thomas-jefferson-picture.jpg" TargetMode="External"/><Relationship Id="rId3" Type="http://schemas.openxmlformats.org/officeDocument/2006/relationships/hyperlink" Target="http://wigwags.files.wordpress.com/2009/02/ahamilton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76440" y="1600200"/>
            <a:ext cx="2391120" cy="21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Washington’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Washington agreed with Hamilton and the first national bank was chartered for 20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pirited entrepreneurs took advantage of the loans from the bank and America’s economy gre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Do you agre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a national bank necessary for the U.S. at the ti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believe Jefferson or Hamilton was correct in interpreting the Constitution with respect to the ban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generally think Congress has too much power or not enoug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swordfoxdesign.co.nz/library/branding/1791-diamond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archives.gov/historical-docs/document.html?doc=3&amp;title.raw=Constitution%20of%20the%20United%20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//mises.org/images4/12penceMas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ople.cohums.ohio-state.edu/childs1/387%20Syllabus%20Wi%2009_files/image00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ushistory.org/tour/first-bank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davidavery.files.wordpress.com/2009/02/thomas-jefferson-picture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wigwags.files.wordpress.com/2009/02/ahamil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logs.geniocity.com/friedman/wp-content/uploads/2010/02/George-Washing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982080" cy="1207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The U.S. Constitution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Article I Section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Enumerated Powers: Those powers given to U.S. government expressly listed in the Constit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General Powers: Those powers given to the U.S. government to serve the general welfare of the people.  These powers are not specif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General Welfare Clause: Allows Congress to enact laws that it sees fit to support the common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Necessary and Proper Clause: Allows Congress to enact laws that are necessary to carry out its enumerated pow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4363920"/>
            <a:ext cx="2743200" cy="24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in 17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ary War Debt – Many states owed money after the Revolutionary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urrency – Before and during the Revolutionary War each state had its own system of currency. There was no uniformity in Ame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w country America needed to develop its economy.  Should America focus on agriculture, which it had in the past, or should it develop its trade and manufactu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952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95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der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2952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81080"/>
            <a:ext cx="4040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ander Hamil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ederal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states’ debt should be absorbed by the national government, and it will pay off the deb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states are now one country there should be one currency, and it should be paper.  It makes life easier since gold and silver are hard to come 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cessary and proper” means whatever the government needs to do to solve probl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owers are not prohibited in the government, but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ied pow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, local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ll the states have the same amount of debt and it is unfair to have states will little debt pay other state’s deb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don’t trust that paper can be valuable and used instead of gold and sil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cessary and proper” means only whatever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bsolute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pperplate Gothic Bold"/>
              </a:rPr>
              <a:t>The first 2 partie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Some people thought that a bank would help in solving the problems in 1791.  Based on your knowledge of the Constitution, does Congress have the right to create this bank? Why or why no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557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15240" cy="624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did not see the need for the ba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lso worried that if Congress created a bank, then they were abusing power and would do so in the fu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Hamil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bank would aid the government in paying off the debt, coining money, and collecting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charter a bank is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ied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 Constitution does not prohibit its creation and it would help Congress carry out its du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nk will also allow people to borrow money to start businesses which helps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46880" y="3657600"/>
            <a:ext cx="268272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1:55:39Z</dcterms:created>
  <dc:creator>wilson</dc:creator>
  <dc:description/>
  <dc:language>en-US</dc:language>
  <cp:lastModifiedBy>Karina Gaige</cp:lastModifiedBy>
  <dcterms:modified xsi:type="dcterms:W3CDTF">2010-06-11T14:51:25Z</dcterms:modified>
  <cp:revision>6</cp:revision>
  <dc:subject/>
  <dc:title>The National Bank Debate</dc:title>
</cp:coreProperties>
</file>