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0B982-57ED-46D9-BB58-E6E5EB2C5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CDEB6-188E-40D6-B660-6BC75219F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4E394-D2C6-4F37-AA7E-971472B00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877A5-D3E2-4615-A731-4507AAC51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B5642-E1B8-41C3-A290-A21832070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B428F-673A-403E-98A0-DB9A90C6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AA37A-6578-4387-8911-85C394B3F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C33C7-1053-4BC2-B068-C2775BB04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38828-94D5-4B3B-A666-74873C66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47F9-5446-421C-92B4-0FE07679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699A-742B-44D1-A0BA-DD5DBD73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7DF-6171-4B88-B385-7CC7B160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ECA-57B7-4198-BF03-538F42BA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3E83-51E5-4DEA-9877-18559B30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33F-D0A6-46FA-A90C-ED36C54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2BF-4AC7-4C31-992E-CB8ED65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56F-7C0E-48CC-99C9-8374AF1D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B8C-EC69-4CFE-AD5B-87D60BD5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4982-BE5C-4D3F-B1C4-A098B3C8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EEC-FEBB-428E-9DB7-5F5DE827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98D-9CFC-4927-A41C-7B47D105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B82F1-04A3-4304-931B-73677C7F607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zation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580760"/>
            <a:ext cx="90709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“mother country” uses political and military force to establish control of territories (“colonies”) beyond its natural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typically have “subordinate” status to the mother country – for example, Hawaii is no longer considered an American colony because it has full state status, but from 1893 to 1954 (when it gained statehood) it was “ruled” as a colony by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cultur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(independence)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inic Lambek</cp:lastModifiedBy>
  <dcterms:modified xsi:type="dcterms:W3CDTF">2013-11-05T00:57:33Z</dcterms:modified>
  <cp:revision>5</cp:revision>
  <dc:subject/>
  <dc:title>Unit 2:  Colonization, Imperialism, and Independence</dc:title>
</cp:coreProperties>
</file>