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F232BF-C52C-438B-BFB6-2127DD4AC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1561C-DDCC-4927-AD3A-397E67C07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3419B-FE40-40C0-AE68-1470A2FA0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D3D37-9973-4621-B48D-5A2582FB0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FCC6-EAED-410B-AB62-26C76493F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5CEB2-CD20-46D5-A862-49FBA6FEC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11E4E-F403-4D02-8B8C-E4BCB6C3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81FB6-A921-4FEE-8392-8C406543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719BF-83E1-48B0-8007-4BF356FE4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B3A-9AD0-4B48-9A53-385B56AA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161-1F06-48BD-A002-BB84C71C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B7B-5E44-4F01-AC54-570C76E15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FA9-045E-4DC8-90E4-C6B519B3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A22-14A1-491D-8E04-491BBF39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3AB-0088-47D1-9DCD-C602FFCE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FDD6-C812-4D33-AD79-7D25E5A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915-DAD1-4AB9-9FB6-AA5735504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0F6-0B6B-47D0-B85F-1AC59B9F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C2FF-17C0-48C6-8F93-578CFBF4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2A2-F85D-4089-8255-AB65680D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F02-69CC-4E3F-9C03-96406AB1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52C71-14DB-4992-8EEF-BE3EF177E5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zation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580760"/>
            <a:ext cx="90709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“mother country” uses political and military force to establish control of territories (“colonies”) beyond its natural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typically have “subordinate” status to the mother country – for example, Hawaii is no longer considered an American colony because it has full state status, but from 1893 to 1954 (when it gained statehood) it was “ruled” as a colony by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cultur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(independence)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inic Lambek</cp:lastModifiedBy>
  <dcterms:modified xsi:type="dcterms:W3CDTF">2013-11-05T00:57:33Z</dcterms:modified>
  <cp:revision>5</cp:revision>
  <dc:subject/>
  <dc:title>Unit 2:  Colonization, Imperialism, and Independence</dc:title>
</cp:coreProperties>
</file>