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C92C3-FDCA-45C1-9602-6C7354E51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48CB5-3B31-4DDA-9A67-C48E865D7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D1FDE-1E60-4643-9689-A7D694265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38B59-6736-43B1-92D0-78D77B77B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41857-8441-46BC-973B-C3BDA83DC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EEA7F-16A4-45AB-8A43-F553E5897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68EE9-0D7D-4C63-8917-7CA243F5F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4ED63-CDF4-4E04-B97F-2F9DCF153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CABDFE-2284-4297-9DAE-AB788A3FC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CF3A-21F0-4D12-B8B7-D204D5F1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3429-878F-4F68-8C4E-F2B65B80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3C72-79B8-457D-B936-65B7FCC9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41BE-4357-4C92-AE38-214F27C8E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B879-BFE1-40AE-8FDC-D14D918E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5AFC-F39F-4C00-BFDF-B3172E2F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5A0B-D959-4AE3-89CE-D14452A1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F7E5-0E14-43E4-A929-1CC4B995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E161-FC0E-4364-8C1C-B2E3A8AE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4EE3-360E-4A0A-89E1-3F5DED58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CA29-22A3-4C36-AAD0-BA11A50C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5CF3-D010-4A7E-8B24-1A6EAD2D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3CD4A-B2E6-4F49-BCBD-3D34DC58D96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:  Colonization, Imperialism, and 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2920" y="1768320"/>
            <a:ext cx="9070920" cy="4989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2743200" y="1600200"/>
            <a:ext cx="50292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Unit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ow did the colonial experience shape the development of modern nations?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58680" y="1979640"/>
            <a:ext cx="10078920" cy="44211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of World Colonization, 18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Colonization, 19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2920" y="1768320"/>
            <a:ext cx="90709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57200" y="6629400"/>
            <a:ext cx="9144000" cy="520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366840" y="186516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un never sets on the British Empir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2920" y="1768320"/>
            <a:ext cx="9070920" cy="4989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458640" y="1601640"/>
            <a:ext cx="9142560" cy="548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Colonization, 19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58680" y="2155680"/>
            <a:ext cx="10078920" cy="40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oloniza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02920" y="1580760"/>
            <a:ext cx="9070920" cy="53643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a “mother country” uses political and military force to establish control of territories (“colonies”) beyond its natural bound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es typically have “subordinate” status to the mother country – for example, Hawaii is no longer considered an American colony because it has full state status, but from 1893 to 1954 (when it gained statehood) it was “ruled” as a colony by the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mperialis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a stronger country or empire controls a weaker territory in order to exert political, economic, and/or cultural infl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02920" y="1757160"/>
            <a:ext cx="9070920" cy="501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-341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that the people living in a particular region and sharing certain cultural characteristics have a common inte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dea drives people to act in the interest of their perceived nation, and sometimes to think less of those belonging to other national cul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drives people of a common ethnic group to seek self-rule (independence) in their own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4:51:13Z</dcterms:created>
  <dc:creator/>
  <dc:description/>
  <dc:language>en-US</dc:language>
  <cp:lastModifiedBy>Dominic Lambek</cp:lastModifiedBy>
  <dcterms:modified xsi:type="dcterms:W3CDTF">2013-11-05T00:57:33Z</dcterms:modified>
  <cp:revision>5</cp:revision>
  <dc:subject/>
  <dc:title>Unit 2:  Colonization, Imperialism, and Independence</dc:title>
</cp:coreProperties>
</file>