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4CAA3-EEC5-4B15-BBF5-294089440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1818-F80B-42DD-BC0E-8D7A2630A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09B79-A0ED-44D2-9957-871CE79D9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3B602-A7FC-4095-B41E-71648BB4D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8BCF-800E-43C8-9477-9807F791B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3B455-3401-4749-B615-CE1772665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D9F3-F513-4A0C-8FE4-40EB68098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2AAEC-2858-45D9-90BE-1946747E2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43D34-BA44-4B7D-B8E0-59D1DB348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471F-93F6-452F-885B-61631E43B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095C-5E30-421B-9978-5D1D5B163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B7E90-48A4-4205-BCFB-E455C926E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1BC05-8427-4BBE-8B74-95936396C5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Unit Ques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424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000000"/>
                </a:solidFill>
                <a:latin typeface="Arial"/>
              </a:rPr>
              <a:t>When should the United States use military intervention?</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ilitarism</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r threat) of military force in order to control a foreign territor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builds a powerful military in order to force Country Y to obey its wish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dur="indefinite" fill="hold">
                      <p:stCondLst>
                        <p:cond delay="indefinite"/>
                      </p:stCondLst>
                      <p:childTnLst>
                        <p:par>
                          <p:cTn id="101" dur="indefinite"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umanitarianism</a:t>
            </a:r>
            <a:endParaRPr b="0" lang="en-US" sz="4400" spc="-1" strike="noStrike">
              <a:solidFill>
                <a:srgbClr val="000000"/>
              </a:solidFill>
              <a:latin typeface="Arial"/>
            </a:endParaRPr>
          </a:p>
        </p:txBody>
      </p:sp>
      <p:sp>
        <p:nvSpPr>
          <p:cNvPr id="62" name="PlaceHolder 2"/>
          <p:cNvSpPr>
            <a:spLocks noGrp="1"/>
          </p:cNvSpPr>
          <p:nvPr>
            <p:ph/>
          </p:nvPr>
        </p:nvSpPr>
        <p:spPr>
          <a:xfrm>
            <a:off x="456840" y="1828440"/>
            <a:ext cx="9070920" cy="500364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 should take action to prevent human suffering</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sends soldiers to Country Y in order to protect citizens of Country Y from genocidal violenc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dur="indefinite" fill="hold">
                      <p:stCondLst>
                        <p:cond delay="indefinite"/>
                      </p:stCondLst>
                      <p:childTnLst>
                        <p:par>
                          <p:cTn id="111" dur="indefinite"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plomacy</a:t>
            </a: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use of negotiations between countries to work out differen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xample:  Country X sends a team of diplomats to Country Y in order to set up a peace treaty between the two natio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ne method of diplomacy:</a:t>
            </a:r>
            <a:r>
              <a:rPr b="0" lang="en-US" sz="4400" spc="-1" strike="noStrike">
                <a:solidFill>
                  <a:srgbClr val="000000"/>
                </a:solidFill>
                <a:latin typeface="Arial"/>
              </a:rPr>
              <a:t>  “Dollar Diplomacy”</a:t>
            </a: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600" spc="-1" strike="noStrike">
                <a:solidFill>
                  <a:srgbClr val="000000"/>
                </a:solidFill>
                <a:latin typeface="Franklin Gothic Book"/>
                <a:ea typeface="Franklin Gothic Book"/>
              </a:rPr>
              <a:t>Using economic power to control another country</a:t>
            </a:r>
            <a:endParaRPr b="0" lang="en-US" sz="3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provides large loans to Country Y in gain influence over Country Y's governmen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other method of diplomacy: </a:t>
            </a:r>
            <a:r>
              <a:rPr b="0" lang="en-US" sz="4400" spc="-1" strike="noStrike">
                <a:solidFill>
                  <a:srgbClr val="000000"/>
                </a:solidFill>
                <a:latin typeface="Arial"/>
              </a:rPr>
              <a:t> Sanctions</a:t>
            </a: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The use of economic, political, or social </a:t>
            </a:r>
            <a:r>
              <a:rPr b="0" lang="en-US" sz="3200" spc="-1" strike="noStrike">
                <a:solidFill>
                  <a:srgbClr val="000000"/>
                </a:solidFill>
                <a:latin typeface="Arial"/>
              </a:rPr>
              <a:t>punishments to show disapproval of another country's action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Example:  Country X cuts off all trade with </a:t>
            </a:r>
            <a:r>
              <a:rPr b="0" lang="en-US" sz="3200" spc="-1" strike="noStrike">
                <a:solidFill>
                  <a:srgbClr val="000000"/>
                </a:solidFill>
                <a:latin typeface="Arial"/>
              </a:rPr>
              <a:t>Country Y because of Country Y's human rights violation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is this an important question?</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As the world's largest military power, we are often faced with the question of when, if ever, to use our military abroad.</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While nearly everybody would agree that it is okay to use military force to defend one's own country from an outside attack, there is more disagreement about when to use military power as an </a:t>
            </a:r>
            <a:r>
              <a:rPr b="0" i="1" lang="en-US" sz="3200" spc="-1" strike="noStrike">
                <a:solidFill>
                  <a:srgbClr val="000000"/>
                </a:solidFill>
                <a:latin typeface="Arial"/>
              </a:rPr>
              <a:t>offensive</a:t>
            </a:r>
            <a:r>
              <a:rPr b="0" lang="en-US" sz="3200" spc="-1" strike="noStrike">
                <a:solidFill>
                  <a:srgbClr val="000000"/>
                </a:solidFill>
                <a:latin typeface="Arial"/>
              </a:rPr>
              <a:t> force. </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hould we use military intervention...</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save human lives from violence?</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otect democratic value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assist in times of natural disast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keep one country from invading anoth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event another country from developing powerful weapon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capture international criminal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help American businesses make money?</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3" presetSubtype="16">
                                  <p:stCondLst>
                                    <p:cond delay="0"/>
                                  </p:stCondLst>
                                  <p:childTnLst>
                                    <p:set>
                                      <p:cBhvr>
                                        <p:cTn id="26"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27" dur="2000" fill="hold"/>
                                        <p:tgtEl>
                                          <p:spTgt spid="48">
                                            <p:txEl>
                                              <p:pRg st="1" end="1"/>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
                                  <p:stCondLst>
                                    <p:cond delay="0"/>
                                  </p:stCondLst>
                                  <p:childTnLst>
                                    <p:set>
                                      <p:cBhvr>
                                        <p:cTn id="43"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1">
                                  <p:stCondLst>
                                    <p:cond delay="0"/>
                                  </p:stCondLst>
                                  <p:childTnLst>
                                    <p:set>
                                      <p:cBhvr>
                                        <p:cTn id="47"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tervention “isms”</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decision to use (or not use) military force is guided by the ideologies, or worldviews, of those people making the decisions. Such deeply-held beliefs often end in the letters “ism.” </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How do the following worldviews shape the action that one takes?</a:t>
            </a:r>
            <a:endParaRPr b="0" lang="en-US" sz="32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erialism</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f military force to control another country’s natural resour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invades Country Y in order to control Country Y's valuable oil resources.</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olationism</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a country should not get involved in issues beyond its own border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chooses to reduce its military and economic involvement with other countri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ifism</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50040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using violence on others is morally unacceptabl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Japan includes an article in its constitution forbidding the country from making “acts of war.”</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ationalism</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r actions should be only in your own country’s interest, and that you should not be influenced by the world communit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objects to the presence of foreign influences (such as American businesses or American military bases) within its borders.</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1:35:59Z</dcterms:created>
  <dc:creator/>
  <dc:description/>
  <dc:language>en-US</dc:language>
  <cp:lastModifiedBy/>
  <cp:revision>1</cp:revision>
  <dc:subject/>
  <dc:title/>
</cp:coreProperties>
</file>