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3.png" ContentType="image/png"/>
  <Override PartName="/ppt/media/image52.png" ContentType="image/png"/>
  <Override PartName="/ppt/media/image49.wmf" ContentType="image/x-wmf"/>
  <Override PartName="/ppt/media/image47.jpeg" ContentType="image/jpeg"/>
  <Override PartName="/ppt/media/image35.png" ContentType="image/png"/>
  <Override PartName="/ppt/media/image5.png" ContentType="image/png"/>
  <Override PartName="/ppt/media/image17.png" ContentType="image/png"/>
  <Override PartName="/ppt/media/image57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26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25.png" ContentType="image/png"/>
  <Override PartName="/ppt/media/image31.png" ContentType="image/png"/>
  <Override PartName="/ppt/media/image64.wmf" ContentType="image/x-wmf"/>
  <Override PartName="/ppt/media/image24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9.wmf" ContentType="image/x-wmf"/>
  <Override PartName="/ppt/media/image20.png" ContentType="image/png"/>
  <Override PartName="/ppt/media/image10.png" ContentType="image/png"/>
  <Override PartName="/ppt/media/image50.wmf" ContentType="image/x-wmf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51.wmf" ContentType="image/x-wmf"/>
  <Override PartName="/ppt/media/image2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2F1F1-B189-40E0-A2E0-C839B3985D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C9EC3-D22A-4B92-B162-95B696D8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8FEBD-7C30-4369-B292-EF184A7C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8B30D-24E8-4B3B-B72F-61019E563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7024D-0E2A-46A4-819A-7AA4F84BD1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78D55-6B40-4B7A-8345-FAC1C789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D6D29-5813-4014-8420-C141E06E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663F4-7A7A-4424-929E-17BDBFFA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6A112-4ADB-4C03-A7F8-A432E8C6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FD117-9967-4C66-9906-913915F1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81FAB-3358-46FB-B477-BB880D8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8A533-1C5B-41E7-BB90-5CBC9A12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D1D4E-8A0E-45E7-A0DC-DAD1621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7D63-E666-4E3C-8069-273CB87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33F00-0DF4-45FA-843B-8420D237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6E568-32AE-46F4-BDB8-0BA27473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33723-83B6-4FDD-81DB-F43E4C6BD4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2160-B16A-4553-A530-F755EAD0AB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A564-D6BB-4CEB-B5D6-A6B78F3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E7D4-5F51-4972-9D32-516A0D01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4BEB-4FE0-412C-8E91-8CF7B02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D5BF-08A5-4342-86E5-184F5FC4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1895-0D16-4081-B6DC-55CF0DAF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0FDB-4B1E-4900-B9FD-4BE3B935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BF8A-09F8-48B4-8736-D9D151EE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CE69-9B49-4E38-A3E3-57D53A54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6E61-00A6-4A09-9B6E-50BB4FDB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98F9-3F7B-4090-BAAC-8526A266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19C7-614E-4A1C-B445-95A4804B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09DB-3230-4290-918D-A0F2AD49FC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9C69DA-2EE5-40C4-AC56-7560DFF786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04AB2-4351-4125-8DC7-FA61CA0A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C964AB-6D7F-4392-9086-EC216157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99354-05FD-4C59-9057-93396DD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E241F3-0815-485C-BA1D-2B3F2FB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0F06C-7EBA-428F-A379-6113521AD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A30B3-D3FF-4F9F-82E2-CA10552E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C435D-4492-4210-BAA0-AEDCD19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9D9D1-C908-4CA0-AB20-40CDE858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EB6D3-48FB-45A8-AC2B-A9206A9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674908-AB0E-4767-B3C7-02FA2FC98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89BD4E-76B8-46ED-9DA0-F45EDC3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5E73B-CF8C-4CF9-B881-158003E6678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76B55D-7F83-4176-85E8-D797D1AA74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4AC0A-D514-48FB-9D04-4F469C55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BB5BA6-D905-4A11-8A4E-41034253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2F386-8EC3-4F3E-9113-E0E69246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D7B8F-7A19-423B-A7DA-7201F9B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161FF-3C67-4C05-8567-E2A942A0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977839-EED2-4058-8DA0-DE13DB71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97622-1ECA-4C4E-BC28-222CA253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CDAF73-AA71-4B91-9C47-3B5A7581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886F24-2120-4BD2-8CAF-C959B71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396ED4-958F-4BE9-9ACB-62592F7A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48353B-7D3A-4EE5-81CC-686A66B2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05686-D48A-458B-A1B0-D4A11688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BDC4C1-2C2B-4C69-BAF7-7C2B6A65D0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F277E-3657-4DB2-9A91-343E09D17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2E100-C6A8-486F-AE4D-EEF19838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73EA-7C0C-4D6D-BD98-202653AD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04158-2247-4AE9-B8BC-11E59066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83DCF-3C24-4B88-AF7B-4EAA3605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6D6F-8C6D-45CD-AA60-07281F941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0B28-DA3B-4205-86AB-C81C751A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23DE2-32E9-4C5C-9D4A-52B6922C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7A4F-DF11-4E28-B54E-32509274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D0765-1FDC-4816-8B78-C104CD2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D7F18-CE02-4A93-9F73-0523AC2F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113A9-EEA7-4F45-BDE1-DADE5372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3EC8-1935-40A9-A34F-E75F325B8C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B8588E-E911-4C31-8993-3F5E2357C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EBC01-687B-4A52-B05C-7DCE792E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6E0C65-A2EE-4ECE-AA90-777805C7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87146-D13D-4F2E-85E0-F07D61BF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E70CA5-C7C8-4452-A201-124DB09F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19D33A-DF2B-45B3-B024-9528ABEB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BC303-2E4F-4819-A375-83459BFE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806A-3BE7-41DD-86C5-3EC6DA2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DB1DF-AAB2-4C1E-BE8F-9A942B87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E6B2A6-F79A-4C1E-AF23-4B4103F3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E0D5BA-FAE6-4993-956B-CAEAE8CB0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8F345-F8AC-4291-8F17-6BC2219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54690-3F8C-4AE8-ABEE-3331534E97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99AE7-A025-460C-BEBC-CB012621A4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08F0F-90FF-44D5-9358-11C04276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3C43AE-E186-4067-9697-A8B6E31D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EF9194-58D9-48FC-BFEF-CAB3F5A9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7BFEC2-2629-4717-80D3-FB2B5A8D1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E7F9-9C33-4D2D-AE62-C544621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457200" y="150480"/>
            <a:ext cx="8228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0A62C-548F-4163-A44C-AAA59B6A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50FA0-2CF2-4E22-8FD3-A9F940FE5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1BDF67-6A68-462A-A0C8-174D0C0B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78BF8F-6219-4E49-A78D-BE418EF8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7200" y="3890520"/>
            <a:ext cx="822816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66536-57D2-459F-8066-2205A62A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44756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520" y="3890520"/>
            <a:ext cx="401508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7BF11-89A3-46BA-8346-71E905C1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3928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21360" y="144756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5720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3928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21360" y="3890520"/>
            <a:ext cx="2649240" cy="22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F95877-40C5-4E2A-AB74-75D1B198D6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image" Target="../media/image26.png"/><Relationship Id="rId30" Type="http://schemas.openxmlformats.org/officeDocument/2006/relationships/slideLayout" Target="../slideLayouts/slideLayout13.xml"/><Relationship Id="rId31" Type="http://schemas.openxmlformats.org/officeDocument/2006/relationships/slideLayout" Target="../slideLayouts/slideLayout14.xml"/><Relationship Id="rId32" Type="http://schemas.openxmlformats.org/officeDocument/2006/relationships/slideLayout" Target="../slideLayouts/slideLayout15.xml"/><Relationship Id="rId33" Type="http://schemas.openxmlformats.org/officeDocument/2006/relationships/slideLayout" Target="../slideLayouts/slideLayout16.xml"/><Relationship Id="rId34" Type="http://schemas.openxmlformats.org/officeDocument/2006/relationships/slideLayout" Target="../slideLayouts/slideLayout17.xml"/><Relationship Id="rId35" Type="http://schemas.openxmlformats.org/officeDocument/2006/relationships/slideLayout" Target="../slideLayouts/slideLayout18.xml"/><Relationship Id="rId36" Type="http://schemas.openxmlformats.org/officeDocument/2006/relationships/slideLayout" Target="../slideLayouts/slideLayout19.xml"/><Relationship Id="rId37" Type="http://schemas.openxmlformats.org/officeDocument/2006/relationships/slideLayout" Target="../slideLayouts/slideLayout20.xml"/><Relationship Id="rId38" Type="http://schemas.openxmlformats.org/officeDocument/2006/relationships/slideLayout" Target="../slideLayouts/slideLayout21.xml"/><Relationship Id="rId39" Type="http://schemas.openxmlformats.org/officeDocument/2006/relationships/slideLayout" Target="../slideLayouts/slideLayout22.xml"/><Relationship Id="rId40" Type="http://schemas.openxmlformats.org/officeDocument/2006/relationships/slideLayout" Target="../slideLayouts/slideLayout23.xml"/><Relationship Id="rId4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8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41.png"/><Relationship Id="rId16" Type="http://schemas.openxmlformats.org/officeDocument/2006/relationships/slideLayout" Target="../slideLayouts/slideLayout73.xml"/><Relationship Id="rId17" Type="http://schemas.openxmlformats.org/officeDocument/2006/relationships/slideLayout" Target="../slideLayouts/slideLayout74.xml"/><Relationship Id="rId18" Type="http://schemas.openxmlformats.org/officeDocument/2006/relationships/slideLayout" Target="../slideLayouts/slideLayout75.xml"/><Relationship Id="rId19" Type="http://schemas.openxmlformats.org/officeDocument/2006/relationships/slideLayout" Target="../slideLayouts/slideLayout76.xml"/><Relationship Id="rId20" Type="http://schemas.openxmlformats.org/officeDocument/2006/relationships/slideLayout" Target="../slideLayouts/slideLayout77.xml"/><Relationship Id="rId21" Type="http://schemas.openxmlformats.org/officeDocument/2006/relationships/slideLayout" Target="../slideLayouts/slideLayout78.xml"/><Relationship Id="rId22" Type="http://schemas.openxmlformats.org/officeDocument/2006/relationships/slideLayout" Target="../slideLayouts/slideLayout79.xml"/><Relationship Id="rId23" Type="http://schemas.openxmlformats.org/officeDocument/2006/relationships/slideLayout" Target="../slideLayouts/slideLayout80.xml"/><Relationship Id="rId24" Type="http://schemas.openxmlformats.org/officeDocument/2006/relationships/slideLayout" Target="../slideLayouts/slideLayout81.xml"/><Relationship Id="rId25" Type="http://schemas.openxmlformats.org/officeDocument/2006/relationships/slideLayout" Target="../slideLayouts/slideLayout82.xml"/><Relationship Id="rId26" Type="http://schemas.openxmlformats.org/officeDocument/2006/relationships/slideLayout" Target="../slideLayouts/slideLayout83.xml"/><Relationship Id="rId2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9.png"/><Relationship Id="rId3" Type="http://schemas.openxmlformats.org/officeDocument/2006/relationships/image" Target="../media/image1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35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36.png"/><Relationship Id="rId16" Type="http://schemas.openxmlformats.org/officeDocument/2006/relationships/slideLayout" Target="../slideLayouts/slideLayout85.xml"/><Relationship Id="rId17" Type="http://schemas.openxmlformats.org/officeDocument/2006/relationships/slideLayout" Target="../slideLayouts/slideLayout86.xml"/><Relationship Id="rId18" Type="http://schemas.openxmlformats.org/officeDocument/2006/relationships/slideLayout" Target="../slideLayouts/slideLayout87.xml"/><Relationship Id="rId19" Type="http://schemas.openxmlformats.org/officeDocument/2006/relationships/slideLayout" Target="../slideLayouts/slideLayout88.xml"/><Relationship Id="rId20" Type="http://schemas.openxmlformats.org/officeDocument/2006/relationships/slideLayout" Target="../slideLayouts/slideLayout89.xml"/><Relationship Id="rId21" Type="http://schemas.openxmlformats.org/officeDocument/2006/relationships/slideLayout" Target="../slideLayouts/slideLayout90.xml"/><Relationship Id="rId22" Type="http://schemas.openxmlformats.org/officeDocument/2006/relationships/slideLayout" Target="../slideLayouts/slideLayout91.xml"/><Relationship Id="rId23" Type="http://schemas.openxmlformats.org/officeDocument/2006/relationships/slideLayout" Target="../slideLayouts/slideLayout92.xml"/><Relationship Id="rId24" Type="http://schemas.openxmlformats.org/officeDocument/2006/relationships/slideLayout" Target="../slideLayouts/slideLayout93.xml"/><Relationship Id="rId25" Type="http://schemas.openxmlformats.org/officeDocument/2006/relationships/slideLayout" Target="../slideLayouts/slideLayout94.xml"/><Relationship Id="rId26" Type="http://schemas.openxmlformats.org/officeDocument/2006/relationships/slideLayout" Target="../slideLayouts/slideLayout95.xml"/><Relationship Id="rId2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7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6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9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2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8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1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4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7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0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43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46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49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2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5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8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1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4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7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70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sldNum" idx="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00ECB-6D6B-4689-9378-2B5FDE8CD9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12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12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12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13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13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13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14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14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14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15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15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15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15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16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16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17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17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17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18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18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7"/>
          <a:stretch/>
        </p:blipFill>
        <p:spPr>
          <a:xfrm>
            <a:off x="-6480" y="243216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8"/>
          <a:stretch/>
        </p:blipFill>
        <p:spPr>
          <a:xfrm>
            <a:off x="-6480" y="907920"/>
            <a:ext cx="9156960" cy="153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9"/>
          <a:stretch/>
        </p:blipFill>
        <p:spPr>
          <a:xfrm>
            <a:off x="0" y="460440"/>
            <a:ext cx="9144000" cy="58658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4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7C3AD4A6-2D9D-4086-B010-E39DC8784F25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0"/>
    <p:sldLayoutId id="2147483663" r:id="rId31"/>
    <p:sldLayoutId id="2147483664" r:id="rId32"/>
    <p:sldLayoutId id="2147483665" r:id="rId33"/>
    <p:sldLayoutId id="2147483666" r:id="rId34"/>
    <p:sldLayoutId id="2147483667" r:id="rId35"/>
    <p:sldLayoutId id="2147483668" r:id="rId36"/>
    <p:sldLayoutId id="2147483669" r:id="rId37"/>
    <p:sldLayoutId id="2147483670" r:id="rId38"/>
    <p:sldLayoutId id="2147483671" r:id="rId39"/>
    <p:sldLayoutId id="2147483672" r:id="rId40"/>
    <p:sldLayoutId id="2147483673" r:id="rId4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233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236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251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254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260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263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266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269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272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275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278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281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284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287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290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293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296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299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1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sldNum" idx="6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8FFD108D-F83F-4705-AAEA-E0CF187157FB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347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350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356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359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362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365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371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374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377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380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383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386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389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392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395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398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401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404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407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410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413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27"/>
          <a:stretch/>
        </p:blipFill>
        <p:spPr>
          <a:xfrm>
            <a:off x="-6480" y="4950000"/>
            <a:ext cx="9156960" cy="4698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8"/>
          <a:stretch/>
        </p:blipFill>
        <p:spPr>
          <a:xfrm>
            <a:off x="-6480" y="3425760"/>
            <a:ext cx="9156960" cy="153684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7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8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8A4BADC-84F8-46D6-B8D2-14DF30A39255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459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462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465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468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471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474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477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480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483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486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489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492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495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498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501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504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507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510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513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516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519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522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525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528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0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9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sldNum" idx="10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EC77109-1643-49B4-8BF1-6555400CB840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895320" y="2273400"/>
            <a:ext cx="2773440" cy="2157480"/>
            <a:chOff x="895320" y="2273400"/>
            <a:chExt cx="2773440" cy="2157480"/>
          </a:xfrm>
        </p:grpSpPr>
        <p:pic>
          <p:nvPicPr>
            <p:cNvPr id="573" name="" descr=""/>
            <p:cNvPicPr/>
            <p:nvPr/>
          </p:nvPicPr>
          <p:blipFill>
            <a:blip r:embed="rId3"/>
            <a:stretch/>
          </p:blipFill>
          <p:spPr>
            <a:xfrm>
              <a:off x="895320" y="2273400"/>
              <a:ext cx="2773440" cy="21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14400" y="2292480"/>
              <a:ext cx="2741760" cy="21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955960" y="5052960"/>
            <a:ext cx="1790640" cy="1766880"/>
            <a:chOff x="2955960" y="5052960"/>
            <a:chExt cx="1790640" cy="1766880"/>
          </a:xfrm>
        </p:grpSpPr>
        <p:pic>
          <p:nvPicPr>
            <p:cNvPr id="576" name="" descr=""/>
            <p:cNvPicPr/>
            <p:nvPr/>
          </p:nvPicPr>
          <p:blipFill>
            <a:blip r:embed="rId4"/>
            <a:stretch/>
          </p:blipFill>
          <p:spPr>
            <a:xfrm>
              <a:off x="2955960" y="5052960"/>
              <a:ext cx="1790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"/>
            <p:cNvSpPr/>
            <p:nvPr/>
          </p:nvSpPr>
          <p:spPr>
            <a:xfrm>
              <a:off x="3235320" y="5326200"/>
              <a:ext cx="1241280" cy="12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241960" y="-19080"/>
            <a:ext cx="3913200" cy="3078360"/>
            <a:chOff x="5241960" y="-19080"/>
            <a:chExt cx="3913200" cy="3078360"/>
          </a:xfrm>
        </p:grpSpPr>
        <p:pic>
          <p:nvPicPr>
            <p:cNvPr id="579" name="" descr=""/>
            <p:cNvPicPr/>
            <p:nvPr/>
          </p:nvPicPr>
          <p:blipFill>
            <a:blip r:embed="rId5"/>
            <a:stretch/>
          </p:blipFill>
          <p:spPr>
            <a:xfrm>
              <a:off x="5241960" y="-19080"/>
              <a:ext cx="3913200" cy="30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5257800" y="0"/>
              <a:ext cx="3884760" cy="30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-19080" y="4095720"/>
            <a:ext cx="2389320" cy="2492280"/>
            <a:chOff x="-19080" y="4095720"/>
            <a:chExt cx="2389320" cy="2492280"/>
          </a:xfrm>
        </p:grpSpPr>
        <p:pic>
          <p:nvPicPr>
            <p:cNvPr id="582" name="" descr=""/>
            <p:cNvPicPr/>
            <p:nvPr/>
          </p:nvPicPr>
          <p:blipFill>
            <a:blip r:embed="rId6"/>
            <a:stretch/>
          </p:blipFill>
          <p:spPr>
            <a:xfrm>
              <a:off x="-19080" y="4095720"/>
              <a:ext cx="23893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4114800"/>
              <a:ext cx="236052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57640" y="2371680"/>
            <a:ext cx="2205000" cy="2205000"/>
            <a:chOff x="4157640" y="2371680"/>
            <a:chExt cx="2205000" cy="2205000"/>
          </a:xfrm>
        </p:grpSpPr>
        <p:pic>
          <p:nvPicPr>
            <p:cNvPr id="585" name="" descr=""/>
            <p:cNvPicPr/>
            <p:nvPr/>
          </p:nvPicPr>
          <p:blipFill>
            <a:blip r:embed="rId7"/>
            <a:stretch/>
          </p:blipFill>
          <p:spPr>
            <a:xfrm>
              <a:off x="4157640" y="2371680"/>
              <a:ext cx="2205000" cy="22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4497480" y="2708280"/>
              <a:ext cx="153504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6364440" y="5821200"/>
            <a:ext cx="1041120" cy="1041480"/>
            <a:chOff x="6364440" y="5821200"/>
            <a:chExt cx="1041120" cy="1041480"/>
          </a:xfrm>
        </p:grpSpPr>
        <p:pic>
          <p:nvPicPr>
            <p:cNvPr id="588" name="" descr=""/>
            <p:cNvPicPr/>
            <p:nvPr/>
          </p:nvPicPr>
          <p:blipFill>
            <a:blip r:embed="rId8"/>
            <a:stretch/>
          </p:blipFill>
          <p:spPr>
            <a:xfrm>
              <a:off x="6364440" y="5821200"/>
              <a:ext cx="10411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6532560" y="5991120"/>
              <a:ext cx="714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303960" y="1407960"/>
            <a:ext cx="2076480" cy="2076480"/>
            <a:chOff x="6303960" y="1407960"/>
            <a:chExt cx="2076480" cy="2076480"/>
          </a:xfrm>
        </p:grpSpPr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6303960" y="1407960"/>
              <a:ext cx="207648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6622920" y="1727280"/>
              <a:ext cx="144468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6840" y="4784760"/>
            <a:ext cx="1986120" cy="1985760"/>
            <a:chOff x="96840" y="4784760"/>
            <a:chExt cx="1986120" cy="1985760"/>
          </a:xfrm>
        </p:grpSpPr>
        <p:pic>
          <p:nvPicPr>
            <p:cNvPr id="594" name="" descr=""/>
            <p:cNvPicPr/>
            <p:nvPr/>
          </p:nvPicPr>
          <p:blipFill>
            <a:blip r:embed="rId10"/>
            <a:stretch/>
          </p:blipFill>
          <p:spPr>
            <a:xfrm>
              <a:off x="96840" y="4784760"/>
              <a:ext cx="1986120" cy="19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01760" y="5089680"/>
              <a:ext cx="1384200" cy="13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004840" y="4559400"/>
            <a:ext cx="1054440" cy="1058760"/>
            <a:chOff x="2004840" y="4559400"/>
            <a:chExt cx="1054440" cy="1058760"/>
          </a:xfrm>
        </p:grpSpPr>
        <p:pic>
          <p:nvPicPr>
            <p:cNvPr id="597" name="" descr=""/>
            <p:cNvPicPr/>
            <p:nvPr/>
          </p:nvPicPr>
          <p:blipFill>
            <a:blip r:embed="rId11"/>
            <a:stretch/>
          </p:blipFill>
          <p:spPr>
            <a:xfrm>
              <a:off x="2004840" y="4559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171880" y="4729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151160" y="4608360"/>
            <a:ext cx="1546200" cy="1425600"/>
            <a:chOff x="4151160" y="4608360"/>
            <a:chExt cx="1546200" cy="1425600"/>
          </a:xfrm>
        </p:grpSpPr>
        <p:pic>
          <p:nvPicPr>
            <p:cNvPr id="600" name="" descr=""/>
            <p:cNvPicPr/>
            <p:nvPr/>
          </p:nvPicPr>
          <p:blipFill>
            <a:blip r:embed="rId12"/>
            <a:stretch/>
          </p:blipFill>
          <p:spPr>
            <a:xfrm>
              <a:off x="4151160" y="4608360"/>
              <a:ext cx="15462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4394160" y="4830840"/>
              <a:ext cx="10699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-19080" y="341280"/>
            <a:ext cx="2541600" cy="2419560"/>
            <a:chOff x="-19080" y="341280"/>
            <a:chExt cx="2541600" cy="2419560"/>
          </a:xfrm>
        </p:grpSpPr>
        <p:pic>
          <p:nvPicPr>
            <p:cNvPr id="603" name="" descr=""/>
            <p:cNvPicPr/>
            <p:nvPr/>
          </p:nvPicPr>
          <p:blipFill>
            <a:blip r:embed="rId13"/>
            <a:stretch/>
          </p:blipFill>
          <p:spPr>
            <a:xfrm>
              <a:off x="-19080" y="341280"/>
              <a:ext cx="2541600" cy="241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1440" y="361800"/>
              <a:ext cx="25117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279440" y="-19080"/>
            <a:ext cx="1548000" cy="639720"/>
            <a:chOff x="1279440" y="-19080"/>
            <a:chExt cx="1548000" cy="639720"/>
          </a:xfrm>
        </p:grpSpPr>
        <p:pic>
          <p:nvPicPr>
            <p:cNvPr id="606" name="" descr=""/>
            <p:cNvPicPr/>
            <p:nvPr/>
          </p:nvPicPr>
          <p:blipFill>
            <a:blip r:embed="rId14"/>
            <a:stretch/>
          </p:blipFill>
          <p:spPr>
            <a:xfrm>
              <a:off x="1279440" y="-19080"/>
              <a:ext cx="1548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1295280" y="0"/>
              <a:ext cx="15224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2840" y="195120"/>
            <a:ext cx="2046240" cy="2052720"/>
            <a:chOff x="42840" y="195120"/>
            <a:chExt cx="2046240" cy="2052720"/>
          </a:xfrm>
        </p:grpSpPr>
        <p:pic>
          <p:nvPicPr>
            <p:cNvPr id="609" name="" descr=""/>
            <p:cNvPicPr/>
            <p:nvPr/>
          </p:nvPicPr>
          <p:blipFill>
            <a:blip r:embed="rId15"/>
            <a:stretch/>
          </p:blipFill>
          <p:spPr>
            <a:xfrm>
              <a:off x="42840" y="195120"/>
              <a:ext cx="20462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355680" y="507960"/>
              <a:ext cx="142884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60480" y="3943440"/>
            <a:ext cx="919080" cy="919080"/>
            <a:chOff x="60480" y="3943440"/>
            <a:chExt cx="919080" cy="919080"/>
          </a:xfrm>
        </p:grpSpPr>
        <p:pic>
          <p:nvPicPr>
            <p:cNvPr id="612" name="" descr=""/>
            <p:cNvPicPr/>
            <p:nvPr/>
          </p:nvPicPr>
          <p:blipFill>
            <a:blip r:embed="rId16"/>
            <a:stretch/>
          </p:blipFill>
          <p:spPr>
            <a:xfrm>
              <a:off x="60480" y="3943440"/>
              <a:ext cx="91908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06280" y="4092480"/>
              <a:ext cx="62892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2103480" y="1487520"/>
            <a:ext cx="1430280" cy="1430280"/>
            <a:chOff x="2103480" y="1487520"/>
            <a:chExt cx="1430280" cy="1430280"/>
          </a:xfrm>
        </p:grpSpPr>
        <p:pic>
          <p:nvPicPr>
            <p:cNvPr id="615" name="" descr=""/>
            <p:cNvPicPr/>
            <p:nvPr/>
          </p:nvPicPr>
          <p:blipFill>
            <a:blip r:embed="rId17"/>
            <a:stretch/>
          </p:blipFill>
          <p:spPr>
            <a:xfrm>
              <a:off x="2103480" y="1487520"/>
              <a:ext cx="1430280" cy="14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327400" y="1712880"/>
              <a:ext cx="9889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3352680" y="450720"/>
            <a:ext cx="1619280" cy="1621080"/>
            <a:chOff x="3352680" y="450720"/>
            <a:chExt cx="1619280" cy="1621080"/>
          </a:xfrm>
        </p:grpSpPr>
        <p:pic>
          <p:nvPicPr>
            <p:cNvPr id="618" name="" descr=""/>
            <p:cNvPicPr/>
            <p:nvPr/>
          </p:nvPicPr>
          <p:blipFill>
            <a:blip r:embed="rId18"/>
            <a:stretch/>
          </p:blipFill>
          <p:spPr>
            <a:xfrm>
              <a:off x="3352680" y="450720"/>
              <a:ext cx="1619280" cy="16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3603600" y="700200"/>
              <a:ext cx="112572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5168880" y="2951280"/>
            <a:ext cx="3267000" cy="3259080"/>
            <a:chOff x="5168880" y="2951280"/>
            <a:chExt cx="3267000" cy="3259080"/>
          </a:xfrm>
        </p:grpSpPr>
        <p:pic>
          <p:nvPicPr>
            <p:cNvPr id="621" name="" descr=""/>
            <p:cNvPicPr/>
            <p:nvPr/>
          </p:nvPicPr>
          <p:blipFill>
            <a:blip r:embed="rId19"/>
            <a:stretch/>
          </p:blipFill>
          <p:spPr>
            <a:xfrm>
              <a:off x="5168880" y="2951280"/>
              <a:ext cx="326700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5664240" y="3441600"/>
              <a:ext cx="228420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5546880" y="-12600"/>
            <a:ext cx="1054080" cy="1058760"/>
            <a:chOff x="5546880" y="-12600"/>
            <a:chExt cx="1054080" cy="1058760"/>
          </a:xfrm>
        </p:grpSpPr>
        <p:pic>
          <p:nvPicPr>
            <p:cNvPr id="624" name="" descr=""/>
            <p:cNvPicPr/>
            <p:nvPr/>
          </p:nvPicPr>
          <p:blipFill>
            <a:blip r:embed="rId20"/>
            <a:stretch/>
          </p:blipFill>
          <p:spPr>
            <a:xfrm>
              <a:off x="554688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57135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6931080" y="4645080"/>
            <a:ext cx="2224080" cy="2224080"/>
            <a:chOff x="6931080" y="4645080"/>
            <a:chExt cx="2224080" cy="2224080"/>
          </a:xfrm>
        </p:grpSpPr>
        <p:pic>
          <p:nvPicPr>
            <p:cNvPr id="627" name="" descr=""/>
            <p:cNvPicPr/>
            <p:nvPr/>
          </p:nvPicPr>
          <p:blipFill>
            <a:blip r:embed="rId21"/>
            <a:stretch/>
          </p:blipFill>
          <p:spPr>
            <a:xfrm>
              <a:off x="6931080" y="4645080"/>
              <a:ext cx="2224080" cy="22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272360" y="4986360"/>
              <a:ext cx="15494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79680" y="3687840"/>
            <a:ext cx="1228680" cy="1224000"/>
            <a:chOff x="1579680" y="3687840"/>
            <a:chExt cx="1228680" cy="1224000"/>
          </a:xfrm>
        </p:grpSpPr>
        <p:pic>
          <p:nvPicPr>
            <p:cNvPr id="630" name="" descr=""/>
            <p:cNvPicPr/>
            <p:nvPr/>
          </p:nvPicPr>
          <p:blipFill>
            <a:blip r:embed="rId22"/>
            <a:stretch/>
          </p:blipFill>
          <p:spPr>
            <a:xfrm>
              <a:off x="1579680" y="3687840"/>
              <a:ext cx="122868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1774800" y="3881520"/>
              <a:ext cx="84456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08640" y="212760"/>
            <a:ext cx="846360" cy="852480"/>
            <a:chOff x="6308640" y="212760"/>
            <a:chExt cx="846360" cy="852480"/>
          </a:xfrm>
        </p:grpSpPr>
        <p:pic>
          <p:nvPicPr>
            <p:cNvPr id="633" name="" descr=""/>
            <p:cNvPicPr/>
            <p:nvPr/>
          </p:nvPicPr>
          <p:blipFill>
            <a:blip r:embed="rId23"/>
            <a:stretch/>
          </p:blipFill>
          <p:spPr>
            <a:xfrm>
              <a:off x="6308640" y="212760"/>
              <a:ext cx="8463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6445080" y="349200"/>
              <a:ext cx="579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8058240" y="-12600"/>
            <a:ext cx="1054080" cy="1058760"/>
            <a:chOff x="8058240" y="-12600"/>
            <a:chExt cx="1054080" cy="1058760"/>
          </a:xfrm>
        </p:grpSpPr>
        <p:pic>
          <p:nvPicPr>
            <p:cNvPr id="636" name="" descr=""/>
            <p:cNvPicPr/>
            <p:nvPr/>
          </p:nvPicPr>
          <p:blipFill>
            <a:blip r:embed="rId24"/>
            <a:stretch/>
          </p:blipFill>
          <p:spPr>
            <a:xfrm>
              <a:off x="805824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8228160" y="157320"/>
              <a:ext cx="72360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394240" y="6308640"/>
            <a:ext cx="1548000" cy="560520"/>
            <a:chOff x="5394240" y="6308640"/>
            <a:chExt cx="1548000" cy="560520"/>
          </a:xfrm>
        </p:grpSpPr>
        <p:pic>
          <p:nvPicPr>
            <p:cNvPr id="639" name="" descr=""/>
            <p:cNvPicPr/>
            <p:nvPr/>
          </p:nvPicPr>
          <p:blipFill>
            <a:blip r:embed="rId25"/>
            <a:stretch/>
          </p:blipFill>
          <p:spPr>
            <a:xfrm>
              <a:off x="5394240" y="6308640"/>
              <a:ext cx="15480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410080" y="6324480"/>
              <a:ext cx="1522440" cy="5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2992320" y="-12600"/>
            <a:ext cx="1054080" cy="1058760"/>
            <a:chOff x="2992320" y="-12600"/>
            <a:chExt cx="1054080" cy="1058760"/>
          </a:xfrm>
        </p:grpSpPr>
        <p:pic>
          <p:nvPicPr>
            <p:cNvPr id="642" name="" descr=""/>
            <p:cNvPicPr/>
            <p:nvPr/>
          </p:nvPicPr>
          <p:blipFill>
            <a:blip r:embed="rId26"/>
            <a:stretch/>
          </p:blipFill>
          <p:spPr>
            <a:xfrm>
              <a:off x="2992320" y="-12600"/>
              <a:ext cx="105408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3162240" y="157320"/>
              <a:ext cx="723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44" name="" descr=""/>
          <p:cNvPicPr/>
          <p:nvPr/>
        </p:nvPicPr>
        <p:blipFill>
          <a:blip r:embed="rId27"/>
          <a:stretch/>
        </p:blipFill>
        <p:spPr>
          <a:xfrm>
            <a:off x="-6480" y="1298520"/>
            <a:ext cx="9156960" cy="540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11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12"/>
          </p:nvPr>
        </p:nvSpPr>
        <p:spPr>
          <a:xfrm>
            <a:off x="155160" y="631476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5DCE391-76DB-404B-A827-FD61C3B2F8F7}" type="slidenum">
              <a:rPr b="0" lang="en-US" sz="2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687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690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693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696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699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02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05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08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711" name="" descr=""/>
            <p:cNvPicPr/>
            <p:nvPr/>
          </p:nvPicPr>
          <p:blipFill>
            <a:blip r:embed="rId10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14" name="" descr=""/>
            <p:cNvPicPr/>
            <p:nvPr/>
          </p:nvPicPr>
          <p:blipFill>
            <a:blip r:embed="rId11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17" name="" descr=""/>
            <p:cNvPicPr/>
            <p:nvPr/>
          </p:nvPicPr>
          <p:blipFill>
            <a:blip r:embed="rId12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720" name="" descr=""/>
            <p:cNvPicPr/>
            <p:nvPr/>
          </p:nvPicPr>
          <p:blipFill>
            <a:blip r:embed="rId13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723" name="" descr=""/>
            <p:cNvPicPr/>
            <p:nvPr/>
          </p:nvPicPr>
          <p:blipFill>
            <a:blip r:embed="rId14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13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286000" y="6357960"/>
            <a:ext cx="34290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4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2BFE0494-398A-4C45-BD51-7C7746DDF247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6"/>
    <p:sldLayoutId id="2147483728" r:id="rId17"/>
    <p:sldLayoutId id="2147483729" r:id="rId18"/>
    <p:sldLayoutId id="2147483730" r:id="rId19"/>
    <p:sldLayoutId id="2147483731" r:id="rId20"/>
    <p:sldLayoutId id="2147483732" r:id="rId21"/>
    <p:sldLayoutId id="2147483733" r:id="rId22"/>
    <p:sldLayoutId id="2147483734" r:id="rId23"/>
    <p:sldLayoutId id="2147483735" r:id="rId24"/>
    <p:sldLayoutId id="2147483736" r:id="rId25"/>
    <p:sldLayoutId id="2147483737" r:id="rId26"/>
    <p:sldLayoutId id="2147483738" r:id="rId2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035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"/>
          <p:cNvGrpSpPr/>
          <p:nvPr/>
        </p:nvGrpSpPr>
        <p:grpSpPr>
          <a:xfrm>
            <a:off x="-19080" y="-19080"/>
            <a:ext cx="2621160" cy="6888240"/>
            <a:chOff x="-19080" y="-19080"/>
            <a:chExt cx="2621160" cy="6888240"/>
          </a:xfrm>
        </p:grpSpPr>
        <p:pic>
          <p:nvPicPr>
            <p:cNvPr id="770" name="" descr=""/>
            <p:cNvPicPr/>
            <p:nvPr/>
          </p:nvPicPr>
          <p:blipFill>
            <a:blip r:embed="rId2"/>
            <a:stretch/>
          </p:blipFill>
          <p:spPr>
            <a:xfrm>
              <a:off x="-19080" y="-19080"/>
              <a:ext cx="2621160" cy="688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0" y="0"/>
              <a:ext cx="2589120" cy="685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1547640" y="4316400"/>
            <a:ext cx="1054440" cy="1058760"/>
            <a:chOff x="1547640" y="4316400"/>
            <a:chExt cx="1054440" cy="1058760"/>
          </a:xfrm>
        </p:grpSpPr>
        <p:pic>
          <p:nvPicPr>
            <p:cNvPr id="773" name="" descr=""/>
            <p:cNvPicPr/>
            <p:nvPr/>
          </p:nvPicPr>
          <p:blipFill>
            <a:blip r:embed="rId3"/>
            <a:stretch/>
          </p:blipFill>
          <p:spPr>
            <a:xfrm>
              <a:off x="1547640" y="4316400"/>
              <a:ext cx="1054440" cy="105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1714680" y="4487760"/>
              <a:ext cx="723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-19080" y="360360"/>
            <a:ext cx="2163960" cy="2417760"/>
            <a:chOff x="-19080" y="360360"/>
            <a:chExt cx="2163960" cy="2417760"/>
          </a:xfrm>
        </p:grpSpPr>
        <p:pic>
          <p:nvPicPr>
            <p:cNvPr id="776" name="" descr=""/>
            <p:cNvPicPr/>
            <p:nvPr/>
          </p:nvPicPr>
          <p:blipFill>
            <a:blip r:embed="rId4"/>
            <a:stretch/>
          </p:blipFill>
          <p:spPr>
            <a:xfrm>
              <a:off x="-19080" y="360360"/>
              <a:ext cx="2163960" cy="241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0" y="380880"/>
              <a:ext cx="2131920" cy="23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427040" y="-19080"/>
            <a:ext cx="1204920" cy="663480"/>
            <a:chOff x="1427040" y="-19080"/>
            <a:chExt cx="1204920" cy="663480"/>
          </a:xfrm>
        </p:grpSpPr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1427040" y="-19080"/>
              <a:ext cx="12049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1447920" y="0"/>
              <a:ext cx="11728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2840" y="-19080"/>
            <a:ext cx="2333520" cy="2406600"/>
            <a:chOff x="42840" y="-19080"/>
            <a:chExt cx="2333520" cy="2406600"/>
          </a:xfrm>
        </p:grpSpPr>
        <p:pic>
          <p:nvPicPr>
            <p:cNvPr id="782" name="" descr=""/>
            <p:cNvPicPr/>
            <p:nvPr/>
          </p:nvPicPr>
          <p:blipFill>
            <a:blip r:embed="rId6"/>
            <a:stretch/>
          </p:blipFill>
          <p:spPr>
            <a:xfrm>
              <a:off x="42840" y="-19080"/>
              <a:ext cx="2333520" cy="24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396720" y="347760"/>
              <a:ext cx="1627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-19080" y="3260880"/>
            <a:ext cx="919080" cy="912600"/>
            <a:chOff x="-19080" y="3260880"/>
            <a:chExt cx="919080" cy="912600"/>
          </a:xfrm>
        </p:grpSpPr>
        <p:pic>
          <p:nvPicPr>
            <p:cNvPr id="785" name="" descr=""/>
            <p:cNvPicPr/>
            <p:nvPr/>
          </p:nvPicPr>
          <p:blipFill>
            <a:blip r:embed="rId7"/>
            <a:stretch/>
          </p:blipFill>
          <p:spPr>
            <a:xfrm>
              <a:off x="-19080" y="3260880"/>
              <a:ext cx="919080" cy="9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130320" y="3406680"/>
              <a:ext cx="6285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774720" y="1700280"/>
            <a:ext cx="1430280" cy="1438200"/>
            <a:chOff x="774720" y="1700280"/>
            <a:chExt cx="1430280" cy="1438200"/>
          </a:xfrm>
        </p:grpSpPr>
        <p:pic>
          <p:nvPicPr>
            <p:cNvPr id="788" name="" descr=""/>
            <p:cNvPicPr/>
            <p:nvPr/>
          </p:nvPicPr>
          <p:blipFill>
            <a:blip r:embed="rId8"/>
            <a:stretch/>
          </p:blipFill>
          <p:spPr>
            <a:xfrm>
              <a:off x="774720" y="1700280"/>
              <a:ext cx="14302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98640" y="1927080"/>
              <a:ext cx="99036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590400" y="4022640"/>
            <a:ext cx="1584360" cy="1584360"/>
            <a:chOff x="590400" y="4022640"/>
            <a:chExt cx="1584360" cy="1584360"/>
          </a:xfrm>
        </p:grpSpPr>
        <p:pic>
          <p:nvPicPr>
            <p:cNvPr id="791" name="" descr=""/>
            <p:cNvPicPr/>
            <p:nvPr/>
          </p:nvPicPr>
          <p:blipFill>
            <a:blip r:embed="rId9"/>
            <a:stretch/>
          </p:blipFill>
          <p:spPr>
            <a:xfrm>
              <a:off x="590400" y="4022640"/>
              <a:ext cx="158436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836640" y="4265640"/>
              <a:ext cx="109836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731960" y="365040"/>
            <a:ext cx="485640" cy="487440"/>
            <a:chOff x="1731960" y="365040"/>
            <a:chExt cx="485640" cy="487440"/>
          </a:xfrm>
        </p:grpSpPr>
        <p:pic>
          <p:nvPicPr>
            <p:cNvPr id="794" name="" descr=""/>
            <p:cNvPicPr/>
            <p:nvPr/>
          </p:nvPicPr>
          <p:blipFill>
            <a:blip r:embed="rId10"/>
            <a:stretch/>
          </p:blipFill>
          <p:spPr>
            <a:xfrm>
              <a:off x="1731960" y="365040"/>
              <a:ext cx="4856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1819440" y="44784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560520" y="2498760"/>
            <a:ext cx="2041560" cy="2041560"/>
            <a:chOff x="560520" y="2498760"/>
            <a:chExt cx="2041560" cy="2041560"/>
          </a:xfrm>
        </p:grpSpPr>
        <p:pic>
          <p:nvPicPr>
            <p:cNvPr id="797" name="" descr=""/>
            <p:cNvPicPr/>
            <p:nvPr/>
          </p:nvPicPr>
          <p:blipFill>
            <a:blip r:embed="rId11"/>
            <a:stretch/>
          </p:blipFill>
          <p:spPr>
            <a:xfrm>
              <a:off x="560520" y="2498760"/>
              <a:ext cx="20415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8" name=""/>
            <p:cNvSpPr/>
            <p:nvPr/>
          </p:nvSpPr>
          <p:spPr>
            <a:xfrm>
              <a:off x="873000" y="2809800"/>
              <a:ext cx="1420920" cy="14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-19080" y="5699160"/>
            <a:ext cx="1627200" cy="1170000"/>
            <a:chOff x="-19080" y="5699160"/>
            <a:chExt cx="1627200" cy="1170000"/>
          </a:xfrm>
        </p:grpSpPr>
        <p:pic>
          <p:nvPicPr>
            <p:cNvPr id="800" name="" descr=""/>
            <p:cNvPicPr/>
            <p:nvPr/>
          </p:nvPicPr>
          <p:blipFill>
            <a:blip r:embed="rId12"/>
            <a:stretch/>
          </p:blipFill>
          <p:spPr>
            <a:xfrm>
              <a:off x="-19080" y="5699160"/>
              <a:ext cx="16272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0" y="5715000"/>
              <a:ext cx="159876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305000" y="5857920"/>
            <a:ext cx="760320" cy="760320"/>
            <a:chOff x="1305000" y="5857920"/>
            <a:chExt cx="760320" cy="760320"/>
          </a:xfrm>
        </p:grpSpPr>
        <p:pic>
          <p:nvPicPr>
            <p:cNvPr id="803" name="" descr=""/>
            <p:cNvPicPr/>
            <p:nvPr/>
          </p:nvPicPr>
          <p:blipFill>
            <a:blip r:embed="rId13"/>
            <a:stretch/>
          </p:blipFill>
          <p:spPr>
            <a:xfrm>
              <a:off x="1305000" y="5857920"/>
              <a:ext cx="760320" cy="76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4" name=""/>
            <p:cNvSpPr/>
            <p:nvPr/>
          </p:nvSpPr>
          <p:spPr>
            <a:xfrm>
              <a:off x="1430280" y="5981760"/>
              <a:ext cx="51588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12600" y="5194440"/>
            <a:ext cx="1675080" cy="1674720"/>
            <a:chOff x="12600" y="5194440"/>
            <a:chExt cx="1675080" cy="1674720"/>
          </a:xfrm>
        </p:grpSpPr>
        <p:pic>
          <p:nvPicPr>
            <p:cNvPr id="806" name="" descr=""/>
            <p:cNvPicPr/>
            <p:nvPr/>
          </p:nvPicPr>
          <p:blipFill>
            <a:blip r:embed="rId14"/>
            <a:stretch/>
          </p:blipFill>
          <p:spPr>
            <a:xfrm>
              <a:off x="12600" y="5194440"/>
              <a:ext cx="1675080" cy="16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>
              <a:off x="271440" y="5452920"/>
              <a:ext cx="1162080" cy="11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133200" y="2346480"/>
            <a:ext cx="487440" cy="487080"/>
            <a:chOff x="133200" y="2346480"/>
            <a:chExt cx="487440" cy="487080"/>
          </a:xfrm>
        </p:grpSpPr>
        <p:pic>
          <p:nvPicPr>
            <p:cNvPr id="809" name="" descr=""/>
            <p:cNvPicPr/>
            <p:nvPr/>
          </p:nvPicPr>
          <p:blipFill>
            <a:blip r:embed="rId15"/>
            <a:stretch/>
          </p:blipFill>
          <p:spPr>
            <a:xfrm>
              <a:off x="133200" y="2346480"/>
              <a:ext cx="48744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219240" y="2428920"/>
              <a:ext cx="322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8160" cy="46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fff9e5"/>
              </a:solidFill>
              <a:latin typeface="Constantia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15"/>
          </p:nvPr>
        </p:nvSpPr>
        <p:spPr>
          <a:xfrm>
            <a:off x="5790960" y="6357960"/>
            <a:ext cx="2973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133720" y="6357960"/>
            <a:ext cx="35812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sldNum" idx="16"/>
          </p:nvPr>
        </p:nvSpPr>
        <p:spPr>
          <a:xfrm>
            <a:off x="155160" y="6318000"/>
            <a:ext cx="1187640" cy="45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DCE7489A-22DD-4D2A-8F6A-737334DD28DF}" type="slidenum"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6"/>
    <p:sldLayoutId id="2147483741" r:id="rId17"/>
    <p:sldLayoutId id="2147483742" r:id="rId18"/>
    <p:sldLayoutId id="2147483743" r:id="rId19"/>
    <p:sldLayoutId id="2147483744" r:id="rId20"/>
    <p:sldLayoutId id="2147483745" r:id="rId21"/>
    <p:sldLayoutId id="2147483746" r:id="rId22"/>
    <p:sldLayoutId id="2147483747" r:id="rId23"/>
    <p:sldLayoutId id="2147483748" r:id="rId24"/>
    <p:sldLayoutId id="2147483749" r:id="rId25"/>
    <p:sldLayoutId id="2147483750" r:id="rId26"/>
    <p:sldLayoutId id="2147483751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wmf"/><Relationship Id="rId3" Type="http://schemas.openxmlformats.org/officeDocument/2006/relationships/image" Target="../media/image60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ndrew Jacks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Nullification Cri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ariff of 1828 – Tariff of Abominations – on impor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outh argues it’s unconstitutional – enriches North at the expense of the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ullification – (like VA &amp; KY Resolu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C threatens to secede – Calhoun resign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ce Act – Congress gives Jackson right to collect tariff by force if necessar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GREAT COMPROMIS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6031080" y="4495680"/>
            <a:ext cx="2917800" cy="21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Bank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icholas Biddle (banker from Philadelphia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fforts to renew charter of Second Bank of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enew early &amp; Jackson vetoes – tool of the privileged el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ckfires on Biddle &amp; Bank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thdraws federal money and puts it in state bank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t banks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2"/>
          <a:stretch/>
        </p:blipFill>
        <p:spPr>
          <a:xfrm>
            <a:off x="6465960" y="4637160"/>
            <a:ext cx="22208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522360" y="574560"/>
            <a:ext cx="8164440" cy="58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36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higs – former Federalists, evangelical reform churches, favor government intervention in economic and social affairs, commercial agriculture and industri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emocrat – Martin Van Buren – w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mall farmer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Urban workers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ppose rapid industrialization, factory work and commercial agricultur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7388280" y="2987640"/>
            <a:ext cx="12985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ransportation Revolu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tween 1800 and 18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vate investment - Turnpi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tes provided funding for roads, canals, railro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Road – only federally funded ro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yland to Illinoi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5602320" y="4272120"/>
            <a:ext cx="308448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Indian Remov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57200" y="1523880"/>
            <a:ext cx="41799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Removal Act – all Indians must move west of the Mississippi Ri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res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herokee v. Georgia, Worcester v. Georg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rail of T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4,000 of 18,000 die along the wa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4" name="" descr=""/>
          <p:cNvPicPr/>
          <p:nvPr/>
        </p:nvPicPr>
        <p:blipFill>
          <a:blip r:embed="rId2"/>
          <a:stretch/>
        </p:blipFill>
        <p:spPr>
          <a:xfrm>
            <a:off x="4629240" y="2035080"/>
            <a:ext cx="4057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anals &amp; Steambo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rie Canal – connected Hudson River with the Great La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in the West were linked to the nation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cilitated movement West into Louisiana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boats allowed upstream tra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obert Fulton – first in U.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2"/>
          <a:stretch/>
        </p:blipFill>
        <p:spPr>
          <a:xfrm>
            <a:off x="6329520" y="4917960"/>
            <a:ext cx="181764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Railroad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de wealthy investors even more mon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&amp;O Railroad – Baltimore &amp; Oh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attle of gauge resolved by 1850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andard gauge vs. narrow gaug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2"/>
          <a:stretch/>
        </p:blipFill>
        <p:spPr>
          <a:xfrm>
            <a:off x="5854680" y="3429000"/>
            <a:ext cx="3129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4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ommercial Agriculture in the Old Northw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could now ship to previously unreachable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armers specialize – different regions grew different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owever, farmers became dependent on distant markets and cred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nov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Deere – steel plo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yrus McCormick – mechanical reap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2"/>
          <a:stretch/>
        </p:blipFill>
        <p:spPr>
          <a:xfrm>
            <a:off x="5865840" y="3819600"/>
            <a:ext cx="2157480" cy="1447560"/>
          </a:xfrm>
          <a:prstGeom prst="rect">
            <a:avLst/>
          </a:prstGeom>
          <a:ln w="0">
            <a:noFill/>
          </a:ln>
        </p:spPr>
      </p:pic>
      <p:pic>
        <p:nvPicPr>
          <p:cNvPr id="904" name="" descr=""/>
          <p:cNvPicPr/>
          <p:nvPr/>
        </p:nvPicPr>
        <p:blipFill>
          <a:blip r:embed="rId3"/>
          <a:stretch/>
        </p:blipFill>
        <p:spPr>
          <a:xfrm>
            <a:off x="6993000" y="5197320"/>
            <a:ext cx="215100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ffects of the Transportation Revolution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ational pride &amp; identity – no longer contained in the E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k-taking mentality – spurs innovation and inve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Greater mo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2"/>
          <a:stretch/>
        </p:blipFill>
        <p:spPr>
          <a:xfrm>
            <a:off x="5504040" y="3487680"/>
            <a:ext cx="1865160" cy="2608200"/>
          </a:xfrm>
          <a:prstGeom prst="rect">
            <a:avLst/>
          </a:prstGeom>
          <a:ln w="0">
            <a:noFill/>
          </a:ln>
        </p:spPr>
      </p:pic>
      <p:pic>
        <p:nvPicPr>
          <p:cNvPr id="908" name="" descr=""/>
          <p:cNvPicPr/>
          <p:nvPr/>
        </p:nvPicPr>
        <p:blipFill>
          <a:blip r:embed="rId3"/>
          <a:stretch/>
        </p:blipFill>
        <p:spPr>
          <a:xfrm>
            <a:off x="830160" y="4371840"/>
            <a:ext cx="181620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xpansion &amp; the Limits of Suffrag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efore 1800 only white, male, property owners could vote in most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al power was concentrated in hands of a f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20, most states dropped property qual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y 1840, 90% of adult white males could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omen &amp; African-Americans still barred from voting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ost liberal voting policy in the worl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6688080" y="5119560"/>
            <a:ext cx="177336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Creating a National American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team powered p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Telegraph – communications rev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692280" y="3978360"/>
            <a:ext cx="2427120" cy="1785960"/>
          </a:xfrm>
          <a:prstGeom prst="rect">
            <a:avLst/>
          </a:prstGeom>
          <a:ln w="0">
            <a:noFill/>
          </a:ln>
        </p:spPr>
      </p:pic>
      <p:pic>
        <p:nvPicPr>
          <p:cNvPr id="912" name="" descr=""/>
          <p:cNvPicPr/>
          <p:nvPr/>
        </p:nvPicPr>
        <p:blipFill>
          <a:blip r:embed="rId3"/>
          <a:stretch/>
        </p:blipFill>
        <p:spPr>
          <a:xfrm>
            <a:off x="4572000" y="3059280"/>
            <a:ext cx="3422520" cy="34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Election of 1824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End of Era of Good Feel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ur candi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ndrew Jackson – gets most popular vote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Quincy Adams – winner in House of Rep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becomes Adams’ Secretary of Sta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William Crawford– not a facto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rrupt Bargain?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0" name="" descr=""/>
          <p:cNvPicPr/>
          <p:nvPr/>
        </p:nvPicPr>
        <p:blipFill>
          <a:blip r:embed="rId2"/>
          <a:stretch/>
        </p:blipFill>
        <p:spPr>
          <a:xfrm>
            <a:off x="6230880" y="4518000"/>
            <a:ext cx="1808280" cy="157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New Popular Democratic Cult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New state organizations of political pa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arty loyalty was st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ss campaig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rint media got information to mor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olitics became part of everyday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Rise of sectional politici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Daniel Webster – New Englan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nry Clay –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ohn Calhoun - South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2"/>
          <a:stretch/>
        </p:blipFill>
        <p:spPr>
          <a:xfrm>
            <a:off x="6075360" y="4713120"/>
            <a:ext cx="2611440" cy="138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The Election of 1828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.Q. Adams vs. Andrew Jack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Jackson wins easily – John Calhoun is V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Andrew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ng Mob – Inauguration Party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alition of North, South and Wes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38280" indent="-273240">
              <a:lnSpc>
                <a:spcPct val="100000"/>
              </a:lnSpc>
              <a:spcBef>
                <a:spcPts val="601"/>
              </a:spcBef>
              <a:buClr>
                <a:srgbClr val="cc4757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“</a:t>
            </a:r>
            <a:r>
              <a:rPr b="0" lang="en-US" sz="25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mmon Man”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2"/>
          <a:stretch/>
        </p:blipFill>
        <p:spPr>
          <a:xfrm>
            <a:off x="6796080" y="3741840"/>
            <a:ext cx="223380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 Backgroun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Orphaned by age 14 – spotty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lashed by British soldier in Revolution when he refused to polish the soldier’s bo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Both brothers and his mother died in Revolution – mom was nursing sold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Country lawyer, merchant, planter – owned sla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Marriage controvers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13 duels – one man killed – let the other guy shoot first and Jackson was hit in the ribs but returned f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Popular Figur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57200" y="1523880"/>
            <a:ext cx="4049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ndian Figh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Hero of the Battle of New Orle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Actions in Seminole War helped gain Flo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2"/>
          <a:stretch/>
        </p:blipFill>
        <p:spPr>
          <a:xfrm>
            <a:off x="5216400" y="1908000"/>
            <a:ext cx="36435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Jacksonian Democrac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" y="1523880"/>
            <a:ext cx="5016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For the “common ma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Spoils System – give government jobs to friends and loyal suppor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Peggy Eaton (w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ife of Sec. of War)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 and the “Petticoat Affair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2"/>
          <a:stretch/>
        </p:blipFill>
        <p:spPr>
          <a:xfrm>
            <a:off x="6421320" y="3930480"/>
            <a:ext cx="1714680" cy="23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7200" y="1587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fff9e5"/>
                </a:solidFill>
                <a:latin typeface="Constantia"/>
                <a:ea typeface="Arial Unicode MS"/>
              </a:rPr>
              <a:t>A Strong Execu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Kitchen Cabinet – ignored Cabinet in favor of frie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ff6f61"/>
              </a:buClr>
              <a:buSzPct val="85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Veto – more than all other presidents before him combi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7" name="" descr=""/>
          <p:cNvPicPr/>
          <p:nvPr/>
        </p:nvPicPr>
        <p:blipFill>
          <a:blip r:embed="rId2"/>
          <a:stretch/>
        </p:blipFill>
        <p:spPr>
          <a:xfrm>
            <a:off x="4905360" y="3284640"/>
            <a:ext cx="3259080" cy="3267000"/>
          </a:xfrm>
          <a:prstGeom prst="rect">
            <a:avLst/>
          </a:prstGeom>
          <a:ln w="0">
            <a:noFill/>
          </a:ln>
        </p:spPr>
      </p:pic>
      <p:pic>
        <p:nvPicPr>
          <p:cNvPr id="878" name="" descr=""/>
          <p:cNvPicPr/>
          <p:nvPr/>
        </p:nvPicPr>
        <p:blipFill>
          <a:blip r:embed="rId3"/>
          <a:stretch/>
        </p:blipFill>
        <p:spPr>
          <a:xfrm>
            <a:off x="1192320" y="3703680"/>
            <a:ext cx="2490840" cy="248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0T16:55:24Z</dcterms:created>
  <dc:creator>Pamela</dc:creator>
  <dc:description>Abstract, circles and flower design for multi-use presentations.</dc:description>
  <cp:keywords>abstract yellow orange red circles flowers warm hot summer spring bright</cp:keywords>
  <dc:language>en-US</dc:language>
  <cp:lastModifiedBy>pcarter</cp:lastModifiedBy>
  <dcterms:modified xsi:type="dcterms:W3CDTF">2012-05-03T11:12:07Z</dcterms:modified>
  <cp:revision>32</cp:revision>
  <dc:subject>Abstract presentation design</dc:subject>
  <dc:title>Main title</dc:title>
</cp:coreProperties>
</file>