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2.png" ContentType="image/png"/>
  <Override PartName="/ppt/media/image49.wmf" ContentType="image/x-wmf"/>
  <Override PartName="/ppt/media/image47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25.png" ContentType="image/png"/>
  <Override PartName="/ppt/media/image31.png" ContentType="image/png"/>
  <Override PartName="/ppt/media/image64.wmf" ContentType="image/x-wmf"/>
  <Override PartName="/ppt/media/image24.png" ContentType="image/png"/>
  <Override PartName="/ppt/media/image63.wmf" ContentType="image/x-wmf"/>
  <Override PartName="/ppt/media/image23.png" ContentType="image/png"/>
  <Override PartName="/ppt/media/image62.wmf" ContentType="image/x-wmf"/>
  <Override PartName="/ppt/media/image22.png" ContentType="image/png"/>
  <Override PartName="/ppt/media/image58.wmf" ContentType="image/x-wmf"/>
  <Override PartName="/ppt/media/image21.png" ContentType="image/png"/>
  <Override PartName="/ppt/media/image59.wmf" ContentType="image/x-wmf"/>
  <Override PartName="/ppt/media/image20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60.wmf" ContentType="image/x-wmf"/>
  <Override PartName="/ppt/media/image38.png" ContentType="image/png"/>
  <Override PartName="/ppt/media/image1.png" ContentType="image/png"/>
  <Override PartName="/ppt/media/image13.png" ContentType="image/png"/>
  <Override PartName="/ppt/media/image61.wmf" ContentType="image/x-wmf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81A39-6B2F-4C3E-B06A-790BB7E63F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676C-91DE-4DF9-B663-A2097E7B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001C-77AE-438F-B5F8-A682F8D7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E7B01-78C3-4EE7-82FE-89CB6DDD84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BD1E6-6771-4980-A145-1C17670DD2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AEE03-CF66-4B0A-81C0-6CE1F296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45263-EB2A-45BF-8C8F-A0C642E8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847E8-F489-4C11-802B-761EA5DC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841FA-47D0-4E50-A117-4A4945D7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7D928-E69F-4103-B6B1-73F3251C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1086F-EEF3-4AC4-9DD8-9CE0972C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1BE2F-F282-4156-8F6F-F8635D2E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D563F-E820-4F03-8A92-ABC4B2A8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46833-3FE8-4FDB-BBA2-561B54D8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4C753-B976-4E1A-8B06-CD73F524E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F8CB3-606B-4722-B775-C5447C2B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A4C2C-DBF4-44E7-BD40-9E01AE190E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91B2-2B40-496C-A441-99D6CB9471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11AE-CACA-4420-B01E-07BA3D27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E17F-57A9-4924-BDB6-D25099CD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990B-60A5-45FA-9436-969BF55F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3BC7-265B-4E24-9574-97D12CD6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72F7B-522B-4B70-BB25-5C634CA4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3BDF-033A-4267-8C0A-86083B14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A036-F874-4399-9CB2-9B3F5B428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9259-7D33-4B64-808E-F32FB275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0E17-7B8C-4D1A-BD60-E92BDF84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A9B4-45D8-4376-8344-2A8A69F7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621A-A535-4690-B78B-64234AFB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28B26-8165-4404-83FC-9EDDF27A11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3DB55-B7B3-4119-B0FF-3CD0C756A0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57112-C63B-4C05-9C42-C1C39222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ADEF2A-9EDE-4A5E-91EB-CC23F629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6F55-65BB-46F6-A8FB-D823B842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AF652E-0AB6-4CB3-9953-72A78A01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2F8490-1C78-409A-9747-39C65F54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83D00-FC1C-4744-AD60-61F83765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E59072-1F93-404D-8A09-E7FB53B7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66ABD-89E0-481E-A5D5-37DA3CA9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D95DC-775E-436F-8DF8-8A1D5BB8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41BFB-917B-4CC4-9319-7CBE0F49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CB16C-FEDB-41F4-889E-A24E9F8A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D40C8-17B1-4D97-B703-630236ADFF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08F310-AC92-4C75-A2C2-014A353DED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F6A8-C53A-4777-9D0E-631487781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CDA8D8-672E-4B65-8D0E-6C9C955D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B49211-8254-43CD-8523-42131BA7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06D042-81AF-42AB-A083-58D6FB92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632376-6596-479F-8AFE-F80CF2C6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09DF96-6942-410E-8BEF-FFDE11C7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E7B5D-386B-45F5-B1F8-0D504E6D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0B136-A3E7-4102-A9A6-047D4357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2D1B52-24BE-4F80-8733-8CB9B778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676048-DECE-4896-A521-CF4B8CAB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D53818-7480-4BEE-867A-131EBF74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8DCCF-FB13-4D6B-95F5-8C48DDB4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C97BD5-0839-4A75-BE4F-59309FFA85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8F3E2-6C63-430E-97A5-70D34B3C29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D8A3A-C04D-4366-B0E9-7DC687F4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D3755-46F3-49BC-823D-B4202A20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52B98-5399-4644-BFFF-DBFD694A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43953-01AA-46A8-8EC1-3AB06EBE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09975-F847-42D4-BCC9-5FFF6348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D08C7-302D-459D-AF6D-EBC9723E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79A75-1221-4981-838B-2DB3B439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6271A-4C30-47B1-9F8D-D0987586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58F52-4FB7-4AA7-880F-558D720B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95348-E630-464B-83B3-E9810FA4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249D4-89AB-4BCB-BE83-D087E01C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8D024-5393-4C3B-86DD-5E7A78608A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39E540-C26E-405D-BD1D-2297EBB559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63982E-8296-4449-84F3-BFD69E58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B21BD-2A54-4FB7-826F-2944AAF4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7AAD0-9BC6-41AF-AA62-BEB2AC85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F67CA-C3EC-48B4-B7F1-0F7C7CEB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A8C98C-E69B-4A8B-AEBB-F79F87F58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EA060-B2D0-4CCE-BE32-8F35BD0F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38E3C-0D5C-4A8B-BF7E-8E080CFC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0EA1F-D95C-4ED1-8ABC-4FDD96F8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89C9B5-82C1-423A-B737-995914E0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962DE-BE2B-43E2-83A5-DB4342F9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5EB10B-BA86-4825-AB22-AD06DF8E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69725-509E-4FE3-B88B-1041997FEE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7C9BB5-EA56-4854-B3EC-E4E7007081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B82228-A0E2-4284-97B5-A88A4E3B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DB875D-DEB6-45C6-A3ED-5E0F03BC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D03691-9597-48EB-B9B2-B1E454FA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3FC162-7066-429E-AA24-F4B4CC61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568DD-4A44-401A-B7BC-7AEB5DCD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F739AB-61F2-40EC-BB74-7A28FDAC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356186-FBA1-4717-A873-1862DB02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A17702-177A-40F9-811F-D98D604C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7431E4-581E-417B-85A4-0076EFED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BB958C-B630-4E44-B89E-2B045485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ABCB63-A113-458C-8B3E-0884C654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EECE5A-EE66-4DDF-87AB-23FE53BEB4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<Relationship Id="rId28" Type="http://schemas.openxmlformats.org/officeDocument/2006/relationships/slideLayout" Target="../slideLayouts/slideLayout2.xml"/><Relationship Id="rId29" Type="http://schemas.openxmlformats.org/officeDocument/2006/relationships/slideLayout" Target="../slideLayouts/slideLayout3.xml"/><Relationship Id="rId30" Type="http://schemas.openxmlformats.org/officeDocument/2006/relationships/slideLayout" Target="../slideLayouts/slideLayout4.xml"/><Relationship Id="rId31" Type="http://schemas.openxmlformats.org/officeDocument/2006/relationships/slideLayout" Target="../slideLayouts/slideLayout5.xml"/><Relationship Id="rId32" Type="http://schemas.openxmlformats.org/officeDocument/2006/relationships/slideLayout" Target="../slideLayouts/slideLayout6.xml"/><Relationship Id="rId33" Type="http://schemas.openxmlformats.org/officeDocument/2006/relationships/slideLayout" Target="../slideLayouts/slideLayout7.xml"/><Relationship Id="rId34" Type="http://schemas.openxmlformats.org/officeDocument/2006/relationships/slideLayout" Target="../slideLayouts/slideLayout8.xml"/><Relationship Id="rId35" Type="http://schemas.openxmlformats.org/officeDocument/2006/relationships/slideLayout" Target="../slideLayouts/slideLayout9.xml"/><Relationship Id="rId36" Type="http://schemas.openxmlformats.org/officeDocument/2006/relationships/slideLayout" Target="../slideLayouts/slideLayout10.xml"/><Relationship Id="rId37" Type="http://schemas.openxmlformats.org/officeDocument/2006/relationships/slideLayout" Target="../slideLayouts/slideLayout11.xml"/><Relationship Id="rId3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slideLayout" Target="../slideLayouts/slideLayout13.xml"/><Relationship Id="rId31" Type="http://schemas.openxmlformats.org/officeDocument/2006/relationships/slideLayout" Target="../slideLayouts/slideLayout14.xml"/><Relationship Id="rId32" Type="http://schemas.openxmlformats.org/officeDocument/2006/relationships/slideLayout" Target="../slideLayouts/slideLayout15.xml"/><Relationship Id="rId33" Type="http://schemas.openxmlformats.org/officeDocument/2006/relationships/slideLayout" Target="../slideLayouts/slideLayout16.xml"/><Relationship Id="rId34" Type="http://schemas.openxmlformats.org/officeDocument/2006/relationships/slideLayout" Target="../slideLayouts/slideLayout17.xml"/><Relationship Id="rId35" Type="http://schemas.openxmlformats.org/officeDocument/2006/relationships/slideLayout" Target="../slideLayouts/slideLayout18.xml"/><Relationship Id="rId36" Type="http://schemas.openxmlformats.org/officeDocument/2006/relationships/slideLayout" Target="../slideLayouts/slideLayout19.xml"/><Relationship Id="rId37" Type="http://schemas.openxmlformats.org/officeDocument/2006/relationships/slideLayout" Target="../slideLayouts/slideLayout20.xml"/><Relationship Id="rId38" Type="http://schemas.openxmlformats.org/officeDocument/2006/relationships/slideLayout" Target="../slideLayouts/slideLayout21.xml"/><Relationship Id="rId39" Type="http://schemas.openxmlformats.org/officeDocument/2006/relationships/slideLayout" Target="../slideLayouts/slideLayout22.xml"/><Relationship Id="rId40" Type="http://schemas.openxmlformats.org/officeDocument/2006/relationships/slideLayout" Target="../slideLayouts/slideLayout23.xml"/><Relationship Id="rId4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25.xml"/><Relationship Id="rId29" Type="http://schemas.openxmlformats.org/officeDocument/2006/relationships/slideLayout" Target="../slideLayouts/slideLayout26.xml"/><Relationship Id="rId30" Type="http://schemas.openxmlformats.org/officeDocument/2006/relationships/slideLayout" Target="../slideLayouts/slideLayout27.xml"/><Relationship Id="rId31" Type="http://schemas.openxmlformats.org/officeDocument/2006/relationships/slideLayout" Target="../slideLayouts/slideLayout28.xml"/><Relationship Id="rId32" Type="http://schemas.openxmlformats.org/officeDocument/2006/relationships/slideLayout" Target="../slideLayouts/slideLayout29.xml"/><Relationship Id="rId33" Type="http://schemas.openxmlformats.org/officeDocument/2006/relationships/slideLayout" Target="../slideLayouts/slideLayout30.xml"/><Relationship Id="rId34" Type="http://schemas.openxmlformats.org/officeDocument/2006/relationships/slideLayout" Target="../slideLayouts/slideLayout31.xml"/><Relationship Id="rId35" Type="http://schemas.openxmlformats.org/officeDocument/2006/relationships/slideLayout" Target="../slideLayouts/slideLayout32.xml"/><Relationship Id="rId36" Type="http://schemas.openxmlformats.org/officeDocument/2006/relationships/slideLayout" Target="../slideLayouts/slideLayout33.xml"/><Relationship Id="rId37" Type="http://schemas.openxmlformats.org/officeDocument/2006/relationships/slideLayout" Target="../slideLayouts/slideLayout34.xml"/><Relationship Id="rId38" Type="http://schemas.openxmlformats.org/officeDocument/2006/relationships/slideLayout" Target="../slideLayouts/slideLayout35.xml"/><Relationship Id="rId3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8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49.xml"/><Relationship Id="rId29" Type="http://schemas.openxmlformats.org/officeDocument/2006/relationships/slideLayout" Target="../slideLayouts/slideLayout50.xml"/><Relationship Id="rId30" Type="http://schemas.openxmlformats.org/officeDocument/2006/relationships/slideLayout" Target="../slideLayouts/slideLayout51.xml"/><Relationship Id="rId31" Type="http://schemas.openxmlformats.org/officeDocument/2006/relationships/slideLayout" Target="../slideLayouts/slideLayout52.xml"/><Relationship Id="rId32" Type="http://schemas.openxmlformats.org/officeDocument/2006/relationships/slideLayout" Target="../slideLayouts/slideLayout53.xml"/><Relationship Id="rId33" Type="http://schemas.openxmlformats.org/officeDocument/2006/relationships/slideLayout" Target="../slideLayouts/slideLayout54.xml"/><Relationship Id="rId34" Type="http://schemas.openxmlformats.org/officeDocument/2006/relationships/slideLayout" Target="../slideLayouts/slideLayout55.xml"/><Relationship Id="rId35" Type="http://schemas.openxmlformats.org/officeDocument/2006/relationships/slideLayout" Target="../slideLayouts/slideLayout56.xml"/><Relationship Id="rId36" Type="http://schemas.openxmlformats.org/officeDocument/2006/relationships/slideLayout" Target="../slideLayouts/slideLayout57.xml"/><Relationship Id="rId37" Type="http://schemas.openxmlformats.org/officeDocument/2006/relationships/slideLayout" Target="../slideLayouts/slideLayout58.xml"/><Relationship Id="rId38" Type="http://schemas.openxmlformats.org/officeDocument/2006/relationships/slideLayout" Target="../slideLayouts/slideLayout59.xml"/><Relationship Id="rId3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61.xml"/><Relationship Id="rId29" Type="http://schemas.openxmlformats.org/officeDocument/2006/relationships/slideLayout" Target="../slideLayouts/slideLayout62.xml"/><Relationship Id="rId30" Type="http://schemas.openxmlformats.org/officeDocument/2006/relationships/slideLayout" Target="../slideLayouts/slideLayout63.xml"/><Relationship Id="rId31" Type="http://schemas.openxmlformats.org/officeDocument/2006/relationships/slideLayout" Target="../slideLayouts/slideLayout64.xml"/><Relationship Id="rId32" Type="http://schemas.openxmlformats.org/officeDocument/2006/relationships/slideLayout" Target="../slideLayouts/slideLayout65.xml"/><Relationship Id="rId33" Type="http://schemas.openxmlformats.org/officeDocument/2006/relationships/slideLayout" Target="../slideLayouts/slideLayout66.xml"/><Relationship Id="rId34" Type="http://schemas.openxmlformats.org/officeDocument/2006/relationships/slideLayout" Target="../slideLayouts/slideLayout67.xml"/><Relationship Id="rId35" Type="http://schemas.openxmlformats.org/officeDocument/2006/relationships/slideLayout" Target="../slideLayouts/slideLayout68.xml"/><Relationship Id="rId36" Type="http://schemas.openxmlformats.org/officeDocument/2006/relationships/slideLayout" Target="../slideLayouts/slideLayout69.xml"/><Relationship Id="rId37" Type="http://schemas.openxmlformats.org/officeDocument/2006/relationships/slideLayout" Target="../slideLayouts/slideLayout70.xml"/><Relationship Id="rId38" Type="http://schemas.openxmlformats.org/officeDocument/2006/relationships/slideLayout" Target="../slideLayouts/slideLayout71.xml"/><Relationship Id="rId3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9.png"/><Relationship Id="rId3" Type="http://schemas.openxmlformats.org/officeDocument/2006/relationships/image" Target="../media/image1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slideLayout" Target="../slideLayouts/slideLayout73.xml"/><Relationship Id="rId17" Type="http://schemas.openxmlformats.org/officeDocument/2006/relationships/slideLayout" Target="../slideLayouts/slideLayout74.xml"/><Relationship Id="rId18" Type="http://schemas.openxmlformats.org/officeDocument/2006/relationships/slideLayout" Target="../slideLayouts/slideLayout75.xml"/><Relationship Id="rId19" Type="http://schemas.openxmlformats.org/officeDocument/2006/relationships/slideLayout" Target="../slideLayouts/slideLayout76.xml"/><Relationship Id="rId20" Type="http://schemas.openxmlformats.org/officeDocument/2006/relationships/slideLayout" Target="../slideLayouts/slideLayout77.xml"/><Relationship Id="rId21" Type="http://schemas.openxmlformats.org/officeDocument/2006/relationships/slideLayout" Target="../slideLayouts/slideLayout78.xml"/><Relationship Id="rId22" Type="http://schemas.openxmlformats.org/officeDocument/2006/relationships/slideLayout" Target="../slideLayouts/slideLayout79.xml"/><Relationship Id="rId23" Type="http://schemas.openxmlformats.org/officeDocument/2006/relationships/slideLayout" Target="../slideLayouts/slideLayout80.xml"/><Relationship Id="rId24" Type="http://schemas.openxmlformats.org/officeDocument/2006/relationships/slideLayout" Target="../slideLayouts/slideLayout81.xml"/><Relationship Id="rId25" Type="http://schemas.openxmlformats.org/officeDocument/2006/relationships/slideLayout" Target="../slideLayouts/slideLayout82.xml"/><Relationship Id="rId26" Type="http://schemas.openxmlformats.org/officeDocument/2006/relationships/slideLayout" Target="../slideLayouts/slideLayout83.xml"/><Relationship Id="rId2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9.png"/><Relationship Id="rId3" Type="http://schemas.openxmlformats.org/officeDocument/2006/relationships/image" Target="../media/image1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36.png"/><Relationship Id="rId16" Type="http://schemas.openxmlformats.org/officeDocument/2006/relationships/slideLayout" Target="../slideLayouts/slideLayout85.xml"/><Relationship Id="rId17" Type="http://schemas.openxmlformats.org/officeDocument/2006/relationships/slideLayout" Target="../slideLayouts/slideLayout86.xml"/><Relationship Id="rId18" Type="http://schemas.openxmlformats.org/officeDocument/2006/relationships/slideLayout" Target="../slideLayouts/slideLayout87.xml"/><Relationship Id="rId19" Type="http://schemas.openxmlformats.org/officeDocument/2006/relationships/slideLayout" Target="../slideLayouts/slideLayout88.xml"/><Relationship Id="rId20" Type="http://schemas.openxmlformats.org/officeDocument/2006/relationships/slideLayout" Target="../slideLayouts/slideLayout89.xml"/><Relationship Id="rId21" Type="http://schemas.openxmlformats.org/officeDocument/2006/relationships/slideLayout" Target="../slideLayouts/slideLayout90.xml"/><Relationship Id="rId22" Type="http://schemas.openxmlformats.org/officeDocument/2006/relationships/slideLayout" Target="../slideLayouts/slideLayout91.xml"/><Relationship Id="rId23" Type="http://schemas.openxmlformats.org/officeDocument/2006/relationships/slideLayout" Target="../slideLayouts/slideLayout92.xml"/><Relationship Id="rId24" Type="http://schemas.openxmlformats.org/officeDocument/2006/relationships/slideLayout" Target="../slideLayouts/slideLayout93.xml"/><Relationship Id="rId25" Type="http://schemas.openxmlformats.org/officeDocument/2006/relationships/slideLayout" Target="../slideLayouts/slideLayout94.xml"/><Relationship Id="rId26" Type="http://schemas.openxmlformats.org/officeDocument/2006/relationships/slideLayout" Target="../slideLayouts/slideLayout95.xml"/><Relationship Id="rId2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7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10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13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16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19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22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25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28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31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34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37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40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43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46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49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52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55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58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61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64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67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70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1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Num" idx="2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03EA8D-1A85-4F32-BDD1-B20D86E748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7"/>
    <p:sldLayoutId id="2147483650" r:id="rId28"/>
    <p:sldLayoutId id="2147483651" r:id="rId29"/>
    <p:sldLayoutId id="2147483652" r:id="rId30"/>
    <p:sldLayoutId id="2147483653" r:id="rId31"/>
    <p:sldLayoutId id="2147483654" r:id="rId32"/>
    <p:sldLayoutId id="2147483655" r:id="rId33"/>
    <p:sldLayoutId id="2147483656" r:id="rId34"/>
    <p:sldLayoutId id="2147483657" r:id="rId35"/>
    <p:sldLayoutId id="2147483658" r:id="rId36"/>
    <p:sldLayoutId id="2147483659" r:id="rId37"/>
    <p:sldLayoutId id="2147483660" r:id="rId3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129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132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135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138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141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144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147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150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153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156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159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162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165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168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171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174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177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180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183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27"/>
          <a:stretch/>
        </p:blipFill>
        <p:spPr>
          <a:xfrm>
            <a:off x="-6480" y="2432160"/>
            <a:ext cx="9156960" cy="469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8"/>
          <a:stretch/>
        </p:blipFill>
        <p:spPr>
          <a:xfrm>
            <a:off x="-6480" y="907920"/>
            <a:ext cx="9156960" cy="1536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9"/>
          <a:stretch/>
        </p:blipFill>
        <p:spPr>
          <a:xfrm>
            <a:off x="0" y="460440"/>
            <a:ext cx="9144000" cy="58658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3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4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882EAD3-29C8-469F-AAE4-68B1FF1BB6E9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0"/>
    <p:sldLayoutId id="2147483663" r:id="rId31"/>
    <p:sldLayoutId id="2147483664" r:id="rId32"/>
    <p:sldLayoutId id="2147483665" r:id="rId33"/>
    <p:sldLayoutId id="2147483666" r:id="rId34"/>
    <p:sldLayoutId id="2147483667" r:id="rId35"/>
    <p:sldLayoutId id="2147483668" r:id="rId36"/>
    <p:sldLayoutId id="2147483669" r:id="rId37"/>
    <p:sldLayoutId id="2147483670" r:id="rId38"/>
    <p:sldLayoutId id="2147483671" r:id="rId39"/>
    <p:sldLayoutId id="2147483672" r:id="rId40"/>
    <p:sldLayoutId id="2147483673" r:id="rId4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236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239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242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245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248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251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254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260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263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266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269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272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275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278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281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284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287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290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293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296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299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1" name="" descr=""/>
          <p:cNvPicPr/>
          <p:nvPr/>
        </p:nvPicPr>
        <p:blipFill>
          <a:blip r:embed="rId27"/>
          <a:stretch/>
        </p:blipFill>
        <p:spPr>
          <a:xfrm>
            <a:off x="-6480" y="1298520"/>
            <a:ext cx="9156960" cy="54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5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6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5CED55F-92F4-43AA-B96A-C4FC3AECEC1B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8"/>
    <p:sldLayoutId id="2147483676" r:id="rId29"/>
    <p:sldLayoutId id="2147483677" r:id="rId30"/>
    <p:sldLayoutId id="2147483678" r:id="rId31"/>
    <p:sldLayoutId id="2147483679" r:id="rId32"/>
    <p:sldLayoutId id="2147483680" r:id="rId33"/>
    <p:sldLayoutId id="2147483681" r:id="rId34"/>
    <p:sldLayoutId id="2147483682" r:id="rId35"/>
    <p:sldLayoutId id="2147483683" r:id="rId36"/>
    <p:sldLayoutId id="2147483684" r:id="rId37"/>
    <p:sldLayoutId id="2147483685" r:id="rId38"/>
    <p:sldLayoutId id="2147483686" r:id="rId3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347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350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356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359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362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365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368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371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374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377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380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383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386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389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392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395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398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401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404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407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410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413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5" name="" descr=""/>
          <p:cNvPicPr/>
          <p:nvPr/>
        </p:nvPicPr>
        <p:blipFill>
          <a:blip r:embed="rId27"/>
          <a:stretch/>
        </p:blipFill>
        <p:spPr>
          <a:xfrm>
            <a:off x="-6480" y="4950000"/>
            <a:ext cx="9156960" cy="4698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8"/>
          <a:stretch/>
        </p:blipFill>
        <p:spPr>
          <a:xfrm>
            <a:off x="-6480" y="3425760"/>
            <a:ext cx="9156960" cy="15368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7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8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EBE366F8-A78B-4269-B4A2-BDE762CB026E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465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468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471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474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477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480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483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486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489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492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495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498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501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504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507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510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513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516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519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522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525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528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0" name="" descr=""/>
          <p:cNvPicPr/>
          <p:nvPr/>
        </p:nvPicPr>
        <p:blipFill>
          <a:blip r:embed="rId27"/>
          <a:stretch/>
        </p:blipFill>
        <p:spPr>
          <a:xfrm>
            <a:off x="-6480" y="1298520"/>
            <a:ext cx="9156960" cy="5400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9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10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E376A6A-23D5-44D7-9E0A-DD3F17D6DF57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8"/>
    <p:sldLayoutId id="2147483702" r:id="rId29"/>
    <p:sldLayoutId id="2147483703" r:id="rId30"/>
    <p:sldLayoutId id="2147483704" r:id="rId31"/>
    <p:sldLayoutId id="2147483705" r:id="rId32"/>
    <p:sldLayoutId id="2147483706" r:id="rId33"/>
    <p:sldLayoutId id="2147483707" r:id="rId34"/>
    <p:sldLayoutId id="2147483708" r:id="rId35"/>
    <p:sldLayoutId id="2147483709" r:id="rId36"/>
    <p:sldLayoutId id="2147483710" r:id="rId37"/>
    <p:sldLayoutId id="2147483711" r:id="rId38"/>
    <p:sldLayoutId id="2147483712" r:id="rId3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573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576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579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582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585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588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594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597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600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603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606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609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612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615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618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621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624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627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630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633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636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639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642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4" name="" descr=""/>
          <p:cNvPicPr/>
          <p:nvPr/>
        </p:nvPicPr>
        <p:blipFill>
          <a:blip r:embed="rId27"/>
          <a:stretch/>
        </p:blipFill>
        <p:spPr>
          <a:xfrm>
            <a:off x="-6480" y="1298520"/>
            <a:ext cx="9156960" cy="5400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11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sldNum" idx="12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3371FF0-1EB3-4D50-91CB-98D03EE1B00B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8"/>
    <p:sldLayoutId id="2147483715" r:id="rId29"/>
    <p:sldLayoutId id="2147483716" r:id="rId30"/>
    <p:sldLayoutId id="2147483717" r:id="rId31"/>
    <p:sldLayoutId id="2147483718" r:id="rId32"/>
    <p:sldLayoutId id="2147483719" r:id="rId33"/>
    <p:sldLayoutId id="2147483720" r:id="rId34"/>
    <p:sldLayoutId id="2147483721" r:id="rId35"/>
    <p:sldLayoutId id="2147483722" r:id="rId36"/>
    <p:sldLayoutId id="2147483723" r:id="rId37"/>
    <p:sldLayoutId id="2147483724" r:id="rId38"/>
    <p:sldLayoutId id="2147483725" r:id="rId3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5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-19080" y="-19080"/>
            <a:ext cx="2621160" cy="6888240"/>
            <a:chOff x="-19080" y="-19080"/>
            <a:chExt cx="2621160" cy="6888240"/>
          </a:xfrm>
        </p:grpSpPr>
        <p:pic>
          <p:nvPicPr>
            <p:cNvPr id="687" name="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1160" cy="68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0" y="0"/>
              <a:ext cx="258912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547640" y="4316400"/>
            <a:ext cx="1054440" cy="1058760"/>
            <a:chOff x="1547640" y="4316400"/>
            <a:chExt cx="1054440" cy="1058760"/>
          </a:xfrm>
        </p:grpSpPr>
        <p:pic>
          <p:nvPicPr>
            <p:cNvPr id="690" name="" descr=""/>
            <p:cNvPicPr/>
            <p:nvPr/>
          </p:nvPicPr>
          <p:blipFill>
            <a:blip r:embed="rId3"/>
            <a:stretch/>
          </p:blipFill>
          <p:spPr>
            <a:xfrm>
              <a:off x="1547640" y="4316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1714680" y="4487760"/>
              <a:ext cx="7236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-19080" y="360360"/>
            <a:ext cx="2163960" cy="2417760"/>
            <a:chOff x="-19080" y="360360"/>
            <a:chExt cx="2163960" cy="2417760"/>
          </a:xfrm>
        </p:grpSpPr>
        <p:pic>
          <p:nvPicPr>
            <p:cNvPr id="693" name="" descr=""/>
            <p:cNvPicPr/>
            <p:nvPr/>
          </p:nvPicPr>
          <p:blipFill>
            <a:blip r:embed="rId4"/>
            <a:stretch/>
          </p:blipFill>
          <p:spPr>
            <a:xfrm>
              <a:off x="-19080" y="360360"/>
              <a:ext cx="2163960" cy="24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0" y="380880"/>
              <a:ext cx="21319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427040" y="-19080"/>
            <a:ext cx="1204920" cy="663480"/>
            <a:chOff x="1427040" y="-19080"/>
            <a:chExt cx="1204920" cy="663480"/>
          </a:xfrm>
        </p:grpSpPr>
        <p:pic>
          <p:nvPicPr>
            <p:cNvPr id="696" name="" descr=""/>
            <p:cNvPicPr/>
            <p:nvPr/>
          </p:nvPicPr>
          <p:blipFill>
            <a:blip r:embed="rId5"/>
            <a:stretch/>
          </p:blipFill>
          <p:spPr>
            <a:xfrm>
              <a:off x="1427040" y="-19080"/>
              <a:ext cx="12049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1447920" y="0"/>
              <a:ext cx="11728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2840" y="-19080"/>
            <a:ext cx="2333520" cy="2406600"/>
            <a:chOff x="42840" y="-19080"/>
            <a:chExt cx="2333520" cy="2406600"/>
          </a:xfrm>
        </p:grpSpPr>
        <p:pic>
          <p:nvPicPr>
            <p:cNvPr id="699" name="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3520" cy="24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396720" y="347760"/>
              <a:ext cx="1627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-19080" y="3260880"/>
            <a:ext cx="919080" cy="912600"/>
            <a:chOff x="-19080" y="3260880"/>
            <a:chExt cx="919080" cy="912600"/>
          </a:xfrm>
        </p:grpSpPr>
        <p:pic>
          <p:nvPicPr>
            <p:cNvPr id="702" name="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19080" cy="9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130320" y="3406680"/>
              <a:ext cx="6285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74720" y="1700280"/>
            <a:ext cx="1430280" cy="1438200"/>
            <a:chOff x="774720" y="1700280"/>
            <a:chExt cx="1430280" cy="1438200"/>
          </a:xfrm>
        </p:grpSpPr>
        <p:pic>
          <p:nvPicPr>
            <p:cNvPr id="705" name="" descr=""/>
            <p:cNvPicPr/>
            <p:nvPr/>
          </p:nvPicPr>
          <p:blipFill>
            <a:blip r:embed="rId8"/>
            <a:stretch/>
          </p:blipFill>
          <p:spPr>
            <a:xfrm>
              <a:off x="774720" y="1700280"/>
              <a:ext cx="143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998640" y="1927080"/>
              <a:ext cx="9903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90400" y="4022640"/>
            <a:ext cx="1584360" cy="1584360"/>
            <a:chOff x="590400" y="4022640"/>
            <a:chExt cx="1584360" cy="1584360"/>
          </a:xfrm>
        </p:grpSpPr>
        <p:pic>
          <p:nvPicPr>
            <p:cNvPr id="708" name="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836640" y="4265640"/>
              <a:ext cx="10983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133200" y="2346480"/>
            <a:ext cx="487440" cy="487080"/>
            <a:chOff x="133200" y="2346480"/>
            <a:chExt cx="487440" cy="487080"/>
          </a:xfrm>
        </p:grpSpPr>
        <p:pic>
          <p:nvPicPr>
            <p:cNvPr id="711" name="" descr=""/>
            <p:cNvPicPr/>
            <p:nvPr/>
          </p:nvPicPr>
          <p:blipFill>
            <a:blip r:embed="rId10"/>
            <a:stretch/>
          </p:blipFill>
          <p:spPr>
            <a:xfrm>
              <a:off x="133200" y="2346480"/>
              <a:ext cx="48744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219240" y="2428920"/>
              <a:ext cx="322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1731960" y="365040"/>
            <a:ext cx="485640" cy="487440"/>
            <a:chOff x="1731960" y="365040"/>
            <a:chExt cx="485640" cy="487440"/>
          </a:xfrm>
        </p:grpSpPr>
        <p:pic>
          <p:nvPicPr>
            <p:cNvPr id="714" name="" descr=""/>
            <p:cNvPicPr/>
            <p:nvPr/>
          </p:nvPicPr>
          <p:blipFill>
            <a:blip r:embed="rId11"/>
            <a:stretch/>
          </p:blipFill>
          <p:spPr>
            <a:xfrm>
              <a:off x="1731960" y="365040"/>
              <a:ext cx="4856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1819440" y="447840"/>
              <a:ext cx="322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60520" y="2498760"/>
            <a:ext cx="2041560" cy="2041560"/>
            <a:chOff x="560520" y="2498760"/>
            <a:chExt cx="2041560" cy="2041560"/>
          </a:xfrm>
        </p:grpSpPr>
        <p:pic>
          <p:nvPicPr>
            <p:cNvPr id="717" name="" descr=""/>
            <p:cNvPicPr/>
            <p:nvPr/>
          </p:nvPicPr>
          <p:blipFill>
            <a:blip r:embed="rId12"/>
            <a:stretch/>
          </p:blipFill>
          <p:spPr>
            <a:xfrm>
              <a:off x="560520" y="2498760"/>
              <a:ext cx="20415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873000" y="2809800"/>
              <a:ext cx="1420920" cy="14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-19080" y="5699160"/>
            <a:ext cx="1627200" cy="1170000"/>
            <a:chOff x="-19080" y="5699160"/>
            <a:chExt cx="1627200" cy="1170000"/>
          </a:xfrm>
        </p:grpSpPr>
        <p:pic>
          <p:nvPicPr>
            <p:cNvPr id="720" name="" descr=""/>
            <p:cNvPicPr/>
            <p:nvPr/>
          </p:nvPicPr>
          <p:blipFill>
            <a:blip r:embed="rId13"/>
            <a:stretch/>
          </p:blipFill>
          <p:spPr>
            <a:xfrm>
              <a:off x="-19080" y="5699160"/>
              <a:ext cx="16272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0" y="5715000"/>
              <a:ext cx="159876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305000" y="5857920"/>
            <a:ext cx="760320" cy="760320"/>
            <a:chOff x="1305000" y="5857920"/>
            <a:chExt cx="760320" cy="760320"/>
          </a:xfrm>
        </p:grpSpPr>
        <p:pic>
          <p:nvPicPr>
            <p:cNvPr id="723" name="" descr=""/>
            <p:cNvPicPr/>
            <p:nvPr/>
          </p:nvPicPr>
          <p:blipFill>
            <a:blip r:embed="rId14"/>
            <a:stretch/>
          </p:blipFill>
          <p:spPr>
            <a:xfrm>
              <a:off x="1305000" y="5857920"/>
              <a:ext cx="760320" cy="7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1430280" y="5981760"/>
              <a:ext cx="5158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2600" y="5194440"/>
            <a:ext cx="1675080" cy="1674720"/>
            <a:chOff x="12600" y="5194440"/>
            <a:chExt cx="1675080" cy="1674720"/>
          </a:xfrm>
        </p:grpSpPr>
        <p:pic>
          <p:nvPicPr>
            <p:cNvPr id="726" name="" descr=""/>
            <p:cNvPicPr/>
            <p:nvPr/>
          </p:nvPicPr>
          <p:blipFill>
            <a:blip r:embed="rId15"/>
            <a:stretch/>
          </p:blipFill>
          <p:spPr>
            <a:xfrm>
              <a:off x="12600" y="5194440"/>
              <a:ext cx="167508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271440" y="5452920"/>
              <a:ext cx="11620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13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0" y="6357960"/>
            <a:ext cx="3429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4"/>
          </p:nvPr>
        </p:nvSpPr>
        <p:spPr>
          <a:xfrm>
            <a:off x="155160" y="631800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73CBDC9C-C6D2-4F48-9705-58F4570FB5D7}" type="slidenum"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6"/>
    <p:sldLayoutId id="2147483728" r:id="rId17"/>
    <p:sldLayoutId id="2147483729" r:id="rId18"/>
    <p:sldLayoutId id="2147483730" r:id="rId19"/>
    <p:sldLayoutId id="2147483731" r:id="rId20"/>
    <p:sldLayoutId id="2147483732" r:id="rId21"/>
    <p:sldLayoutId id="2147483733" r:id="rId22"/>
    <p:sldLayoutId id="2147483734" r:id="rId23"/>
    <p:sldLayoutId id="2147483735" r:id="rId24"/>
    <p:sldLayoutId id="2147483736" r:id="rId25"/>
    <p:sldLayoutId id="2147483737" r:id="rId26"/>
    <p:sldLayoutId id="2147483738" r:id="rId2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5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"/>
          <p:cNvGrpSpPr/>
          <p:nvPr/>
        </p:nvGrpSpPr>
        <p:grpSpPr>
          <a:xfrm>
            <a:off x="-19080" y="-19080"/>
            <a:ext cx="2621160" cy="6888240"/>
            <a:chOff x="-19080" y="-19080"/>
            <a:chExt cx="2621160" cy="6888240"/>
          </a:xfrm>
        </p:grpSpPr>
        <p:pic>
          <p:nvPicPr>
            <p:cNvPr id="770" name="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1160" cy="68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0" y="0"/>
              <a:ext cx="258912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1547640" y="4316400"/>
            <a:ext cx="1054440" cy="1058760"/>
            <a:chOff x="1547640" y="4316400"/>
            <a:chExt cx="1054440" cy="1058760"/>
          </a:xfrm>
        </p:grpSpPr>
        <p:pic>
          <p:nvPicPr>
            <p:cNvPr id="773" name="" descr=""/>
            <p:cNvPicPr/>
            <p:nvPr/>
          </p:nvPicPr>
          <p:blipFill>
            <a:blip r:embed="rId3"/>
            <a:stretch/>
          </p:blipFill>
          <p:spPr>
            <a:xfrm>
              <a:off x="1547640" y="4316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1714680" y="4487760"/>
              <a:ext cx="7236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-19080" y="360360"/>
            <a:ext cx="2163960" cy="2417760"/>
            <a:chOff x="-19080" y="360360"/>
            <a:chExt cx="2163960" cy="2417760"/>
          </a:xfrm>
        </p:grpSpPr>
        <p:pic>
          <p:nvPicPr>
            <p:cNvPr id="776" name="" descr=""/>
            <p:cNvPicPr/>
            <p:nvPr/>
          </p:nvPicPr>
          <p:blipFill>
            <a:blip r:embed="rId4"/>
            <a:stretch/>
          </p:blipFill>
          <p:spPr>
            <a:xfrm>
              <a:off x="-19080" y="360360"/>
              <a:ext cx="2163960" cy="24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0" y="380880"/>
              <a:ext cx="21319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1427040" y="-19080"/>
            <a:ext cx="1204920" cy="663480"/>
            <a:chOff x="1427040" y="-19080"/>
            <a:chExt cx="1204920" cy="663480"/>
          </a:xfrm>
        </p:grpSpPr>
        <p:pic>
          <p:nvPicPr>
            <p:cNvPr id="779" name="" descr=""/>
            <p:cNvPicPr/>
            <p:nvPr/>
          </p:nvPicPr>
          <p:blipFill>
            <a:blip r:embed="rId5"/>
            <a:stretch/>
          </p:blipFill>
          <p:spPr>
            <a:xfrm>
              <a:off x="1427040" y="-19080"/>
              <a:ext cx="12049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1447920" y="0"/>
              <a:ext cx="11728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42840" y="-19080"/>
            <a:ext cx="2333520" cy="2406600"/>
            <a:chOff x="42840" y="-19080"/>
            <a:chExt cx="2333520" cy="2406600"/>
          </a:xfrm>
        </p:grpSpPr>
        <p:pic>
          <p:nvPicPr>
            <p:cNvPr id="782" name="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3520" cy="24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396720" y="347760"/>
              <a:ext cx="1627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-19080" y="3260880"/>
            <a:ext cx="919080" cy="912600"/>
            <a:chOff x="-19080" y="3260880"/>
            <a:chExt cx="919080" cy="912600"/>
          </a:xfrm>
        </p:grpSpPr>
        <p:pic>
          <p:nvPicPr>
            <p:cNvPr id="785" name="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19080" cy="9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130320" y="3406680"/>
              <a:ext cx="6285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774720" y="1700280"/>
            <a:ext cx="1430280" cy="1438200"/>
            <a:chOff x="774720" y="1700280"/>
            <a:chExt cx="1430280" cy="1438200"/>
          </a:xfrm>
        </p:grpSpPr>
        <p:pic>
          <p:nvPicPr>
            <p:cNvPr id="788" name="" descr=""/>
            <p:cNvPicPr/>
            <p:nvPr/>
          </p:nvPicPr>
          <p:blipFill>
            <a:blip r:embed="rId8"/>
            <a:stretch/>
          </p:blipFill>
          <p:spPr>
            <a:xfrm>
              <a:off x="774720" y="1700280"/>
              <a:ext cx="143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998640" y="1927080"/>
              <a:ext cx="9903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590400" y="4022640"/>
            <a:ext cx="1584360" cy="1584360"/>
            <a:chOff x="590400" y="4022640"/>
            <a:chExt cx="1584360" cy="1584360"/>
          </a:xfrm>
        </p:grpSpPr>
        <p:pic>
          <p:nvPicPr>
            <p:cNvPr id="791" name="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836640" y="4265640"/>
              <a:ext cx="10983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731960" y="365040"/>
            <a:ext cx="485640" cy="487440"/>
            <a:chOff x="1731960" y="365040"/>
            <a:chExt cx="485640" cy="487440"/>
          </a:xfrm>
        </p:grpSpPr>
        <p:pic>
          <p:nvPicPr>
            <p:cNvPr id="794" name="" descr=""/>
            <p:cNvPicPr/>
            <p:nvPr/>
          </p:nvPicPr>
          <p:blipFill>
            <a:blip r:embed="rId10"/>
            <a:stretch/>
          </p:blipFill>
          <p:spPr>
            <a:xfrm>
              <a:off x="1731960" y="365040"/>
              <a:ext cx="4856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1819440" y="447840"/>
              <a:ext cx="322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560520" y="2498760"/>
            <a:ext cx="2041560" cy="2041560"/>
            <a:chOff x="560520" y="2498760"/>
            <a:chExt cx="2041560" cy="2041560"/>
          </a:xfrm>
        </p:grpSpPr>
        <p:pic>
          <p:nvPicPr>
            <p:cNvPr id="797" name="" descr=""/>
            <p:cNvPicPr/>
            <p:nvPr/>
          </p:nvPicPr>
          <p:blipFill>
            <a:blip r:embed="rId11"/>
            <a:stretch/>
          </p:blipFill>
          <p:spPr>
            <a:xfrm>
              <a:off x="560520" y="2498760"/>
              <a:ext cx="20415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73000" y="2809800"/>
              <a:ext cx="1420920" cy="14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-19080" y="5699160"/>
            <a:ext cx="1627200" cy="1170000"/>
            <a:chOff x="-19080" y="5699160"/>
            <a:chExt cx="1627200" cy="1170000"/>
          </a:xfrm>
        </p:grpSpPr>
        <p:pic>
          <p:nvPicPr>
            <p:cNvPr id="800" name="" descr=""/>
            <p:cNvPicPr/>
            <p:nvPr/>
          </p:nvPicPr>
          <p:blipFill>
            <a:blip r:embed="rId12"/>
            <a:stretch/>
          </p:blipFill>
          <p:spPr>
            <a:xfrm>
              <a:off x="-19080" y="5699160"/>
              <a:ext cx="16272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0" y="5715000"/>
              <a:ext cx="159876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1305000" y="5857920"/>
            <a:ext cx="760320" cy="760320"/>
            <a:chOff x="1305000" y="5857920"/>
            <a:chExt cx="760320" cy="760320"/>
          </a:xfrm>
        </p:grpSpPr>
        <p:pic>
          <p:nvPicPr>
            <p:cNvPr id="803" name="" descr=""/>
            <p:cNvPicPr/>
            <p:nvPr/>
          </p:nvPicPr>
          <p:blipFill>
            <a:blip r:embed="rId13"/>
            <a:stretch/>
          </p:blipFill>
          <p:spPr>
            <a:xfrm>
              <a:off x="1305000" y="5857920"/>
              <a:ext cx="760320" cy="7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1430280" y="5981760"/>
              <a:ext cx="5158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2600" y="5194440"/>
            <a:ext cx="1675080" cy="1674720"/>
            <a:chOff x="12600" y="5194440"/>
            <a:chExt cx="1675080" cy="1674720"/>
          </a:xfrm>
        </p:grpSpPr>
        <p:pic>
          <p:nvPicPr>
            <p:cNvPr id="806" name="" descr=""/>
            <p:cNvPicPr/>
            <p:nvPr/>
          </p:nvPicPr>
          <p:blipFill>
            <a:blip r:embed="rId14"/>
            <a:stretch/>
          </p:blipFill>
          <p:spPr>
            <a:xfrm>
              <a:off x="12600" y="5194440"/>
              <a:ext cx="167508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271440" y="5452920"/>
              <a:ext cx="11620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133200" y="2346480"/>
            <a:ext cx="487440" cy="487080"/>
            <a:chOff x="133200" y="2346480"/>
            <a:chExt cx="487440" cy="487080"/>
          </a:xfrm>
        </p:grpSpPr>
        <p:pic>
          <p:nvPicPr>
            <p:cNvPr id="809" name="" descr=""/>
            <p:cNvPicPr/>
            <p:nvPr/>
          </p:nvPicPr>
          <p:blipFill>
            <a:blip r:embed="rId15"/>
            <a:stretch/>
          </p:blipFill>
          <p:spPr>
            <a:xfrm>
              <a:off x="133200" y="2346480"/>
              <a:ext cx="48744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219240" y="2428920"/>
              <a:ext cx="322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15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16"/>
          </p:nvPr>
        </p:nvSpPr>
        <p:spPr>
          <a:xfrm>
            <a:off x="155160" y="631800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940D2B62-04C7-4026-B40C-7C5B4685FD37}" type="slidenum"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6"/>
    <p:sldLayoutId id="2147483741" r:id="rId17"/>
    <p:sldLayoutId id="2147483742" r:id="rId18"/>
    <p:sldLayoutId id="2147483743" r:id="rId19"/>
    <p:sldLayoutId id="2147483744" r:id="rId20"/>
    <p:sldLayoutId id="2147483745" r:id="rId21"/>
    <p:sldLayoutId id="2147483746" r:id="rId22"/>
    <p:sldLayoutId id="2147483747" r:id="rId23"/>
    <p:sldLayoutId id="2147483748" r:id="rId24"/>
    <p:sldLayoutId id="2147483749" r:id="rId25"/>
    <p:sldLayoutId id="2147483750" r:id="rId26"/>
    <p:sldLayoutId id="2147483751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Andrew Jacks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6858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Nullification Cri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Tariff of 1828 – Tariff of Abominations – on impor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outh argues it’s unconstitutional – enriches North at the expense of the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ullification – (like VA &amp; KY Resolu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C threatens to secede – Calhoun resig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orce Act – Congress gives Jackson right to collect tariff by force if necessar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ENRY CLAY – GREAT COMPROMIS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>
            <a:off x="6031080" y="4495680"/>
            <a:ext cx="2917800" cy="21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Bank Wa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icholas Biddle (banker from Philadelphi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Efforts to renew charter of Second Bank of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Renew early &amp; Jackson vetoes – tool of the privileged e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ackfires on Biddle &amp; Bank suppor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ackson withdraws federal money and puts it in state banks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et banks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6465960" y="4637160"/>
            <a:ext cx="22208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522360" y="574560"/>
            <a:ext cx="8164440" cy="58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Election of 1836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Whigs – former Federalists, evangelical reform churches, favor government intervention in economic and social affairs, commercial agriculture and industria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Democrat – Martin Van Buren – w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mall farme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Urban workers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Oppose rapid industrialization, factory work and commercial agricultu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7388280" y="2987640"/>
            <a:ext cx="12985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Transportation Revolu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etween 1800 and 18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rivate investment - Turnpi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tates provided funding for roads, canals, railro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ational Road – only federally funded r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aryland to Illino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5602320" y="4272120"/>
            <a:ext cx="308448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Indian Remov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200" y="1523880"/>
            <a:ext cx="4179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Indian Removal Act – all Indians must move west of the Mississippi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herokee re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herokee v. Georgia, Worcester v. Georgi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Trail of T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4,000 of 18,000 die along the w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4629240" y="2035080"/>
            <a:ext cx="405756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Canals &amp; Steamboa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Erie Canal – connected Hudson River with the Great L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armers in the West were linked to the national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acilitated movement West into Louisiana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teamboats allowed upstream tra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Robert Fulton – first in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2"/>
          <a:stretch/>
        </p:blipFill>
        <p:spPr>
          <a:xfrm>
            <a:off x="6329520" y="4917960"/>
            <a:ext cx="1817640" cy="11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Railroad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ade wealthy investors even more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&amp;O Railroad – Baltimore &amp; Oh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attle of gauge resolved by 185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tandard gauge vs. narrow gaug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2"/>
          <a:stretch/>
        </p:blipFill>
        <p:spPr>
          <a:xfrm>
            <a:off x="5854680" y="3429000"/>
            <a:ext cx="312912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Commercial Agriculture in the Old Northw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armers could now ship to previously unreachable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armers specialize – different regions grew different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owever, farmers became dependent on distant markets and cr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Inno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ohn Deere – steel plo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yrus McCormick – mechanical reap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5865840" y="3819600"/>
            <a:ext cx="2157480" cy="144756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6993000" y="5197320"/>
            <a:ext cx="2151000" cy="15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Effects of the Transportation Revolution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ational pride &amp; identity – no longer contained in the 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Risk-taking mentality – spurs innovation and in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Greater mo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5504040" y="3487680"/>
            <a:ext cx="1865160" cy="26082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3"/>
          <a:stretch/>
        </p:blipFill>
        <p:spPr>
          <a:xfrm>
            <a:off x="830160" y="4371840"/>
            <a:ext cx="181620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Expansion &amp; the Limits of Suffrag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efore 1800 only white, male, property owners could vote in most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olitical power was concentrated in hands of a f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y 1820, most states dropped property qual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y 1840, 90% of adult white males could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Women &amp; African-Americans still barred from vot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ost liberal voting policy in the worl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6688080" y="5119560"/>
            <a:ext cx="17733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Creating a National American Cul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team powered p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Telegraph – communications r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692280" y="3978360"/>
            <a:ext cx="2427120" cy="178596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4572000" y="3059280"/>
            <a:ext cx="3422520" cy="34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Election of 1824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End of Era of Good Feel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our candi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Andrew Jackson – gets most popular vot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ohn Quincy Adams – winner in House of Rep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enry Clay – becomes Adams’ Secretary of Sta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William Crawford– not a facto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orrupt Bargain?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6230880" y="4518000"/>
            <a:ext cx="1808280" cy="15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The New Popular Democratic Cul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ew state organizations of political pa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arty loyalty was 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ass campaig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rint media got information to mor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olitics became part of everyday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Rise of sectional politic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Daniel Webster – New Englan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enry Clay – Wes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ohn Calhoun - Sout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2"/>
          <a:stretch/>
        </p:blipFill>
        <p:spPr>
          <a:xfrm>
            <a:off x="6075360" y="4713120"/>
            <a:ext cx="2611440" cy="13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The Election of 1828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.Q. Adams vs. Andrew Jack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ackson wins easily – John Calhoun is V.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King Andre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King Mob – Inauguration Par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oalition of North, South and Wes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ommon Man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2"/>
          <a:stretch/>
        </p:blipFill>
        <p:spPr>
          <a:xfrm>
            <a:off x="6796080" y="3741840"/>
            <a:ext cx="223380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Jackson Backgroun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Orphaned by age 14 – spotty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lashed by British soldier in Revolution when he refused to polish the soldier’s bo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oth brothers and his mother died in Revolution – mom was nursing sold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ountry lawyer, merchant, planter – owned sl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arriage controvers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13 duels – one man killed – let the other guy shoot first and Jackson was hit in the ribs but returned 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A Popular Fig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57200" y="1523880"/>
            <a:ext cx="404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Indian Fi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ero of the Battle of New Orl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Actions in Seminole War helped gain Flo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5216400" y="1908000"/>
            <a:ext cx="3643560" cy="47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Jacksonian Democrac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" y="1523880"/>
            <a:ext cx="5016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or the “common m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poils System – give government jobs to friends and loyal suppor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eggy Eaton (w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ife of Sec. of War)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 and the “Petticoat Affair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6421320" y="3930480"/>
            <a:ext cx="1714680" cy="23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A Strong Execu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Kitchen Cabinet – ignored Cabinet in favor of fri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Veto – more than all other presidents before him comb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2"/>
          <a:stretch/>
        </p:blipFill>
        <p:spPr>
          <a:xfrm>
            <a:off x="4905360" y="3284640"/>
            <a:ext cx="3259080" cy="326700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3"/>
          <a:stretch/>
        </p:blipFill>
        <p:spPr>
          <a:xfrm>
            <a:off x="1192320" y="3703680"/>
            <a:ext cx="2490840" cy="2482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6:55:24Z</dcterms:created>
  <dc:creator>Pamela</dc:creator>
  <dc:description>Abstract, circles and flower design for multi-use presentations.</dc:description>
  <cp:keywords>abstract yellow orange red circles flowers warm hot summer spring bright</cp:keywords>
  <dc:language>en-US</dc:language>
  <cp:lastModifiedBy>pcarter</cp:lastModifiedBy>
  <dcterms:modified xsi:type="dcterms:W3CDTF">2012-05-03T11:12:07Z</dcterms:modified>
  <cp:revision>32</cp:revision>
  <dc:subject>Abstract presentation design</dc:subject>
  <dc:title>Main title</dc:title>
</cp:coreProperties>
</file>