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530-4CA5-4C0E-AB66-F8B9B263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7918-BD58-492F-9986-F55591D0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2B53-638D-40AA-9CDD-143A502C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81C-2CCA-4C3A-862B-DB2BF723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D6E-4F53-4794-9601-D62EC9299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898E-1284-411A-B70A-9B78CBEA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0857-E53E-43B9-801C-FAC4D1A5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E41-3F5A-436A-94CA-1560E05B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FEC-BD55-46F9-BAE1-5D7533AC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8C2-45C2-4737-8363-572ECF75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7E41-30E2-4C28-A7B0-C93A698A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A070-DCFF-4B42-AEE4-B999CE7F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18EA85-FFF2-4E9B-BA43-1193A87B63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appened at the Homestead (Pennsylvania) steel mill during the summer of 1892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523880" y="0"/>
            <a:ext cx="612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827360" y="0"/>
            <a:ext cx="5640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762120" y="685800"/>
            <a:ext cx="7772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hods did the Amalgamated Association of Iron and Steel Workers (the union at Homestead) use to gain power at Carnegie St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Collective Barg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tri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Violence against Pinkertons and Scab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09480" y="609480"/>
            <a:ext cx="8077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Carnegie Steel (under the guidance of CEO Henry Clay Frick) respond to the union’s deman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“Lockout” of wor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Hired Pinkerton Detectives to re-open the pl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Hired non-union (“scab”) wor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Brought in Pennsylvania State Militia to guard the pla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id organized labor unions represent a threat to the power of big business owners (like the “Robber Barons”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nflicts between labor and management (like at Homestead)during the Gilded Age, did the government tend to support workers or own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you think the government sided with owners during the Gilded Ag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re there any similarities between the 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r conflicts of the Gilded Age and current event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33520" y="1066680"/>
            <a:ext cx="777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ho should have the most power in a workplac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those who own the company or those who do the work to make products (or provide a servic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wners/management or Lab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89172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03:57Z</dcterms:created>
  <dc:creator>Emily Dolci</dc:creator>
  <dc:description/>
  <dc:language>en-US</dc:language>
  <cp:lastModifiedBy>Dominic Lambek</cp:lastModifiedBy>
  <dcterms:modified xsi:type="dcterms:W3CDTF">2013-12-09T13:04:12Z</dcterms:modified>
  <cp:revision>9</cp:revision>
  <dc:subject/>
  <dc:title>Slide 1</dc:title>
</cp:coreProperties>
</file>