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043-DA59-47E8-9E64-B7468AF63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0B8-DDF7-4E2D-8168-04D9D00D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730-58EA-44C9-BA8C-C5863A82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5AF-8ECB-445B-89A2-20DCFA8AD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3FA-6610-4914-947D-C86798F3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6E4-F5FA-483F-81AB-868F38AC5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34A8-8D86-4953-A89B-2632D3EC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5B3-ED54-4715-8418-71192DEE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ED0-4D8B-459B-BB25-E0F0C32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D5F-C04B-4962-B2E7-A87C536F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D7E-C62A-457C-B2C4-6BA8A81A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EF94-C774-4D00-9FF5-F1680AC4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5EE6FD-7892-4DD5-A8E2-B3D25C5ECA6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ed at the Homestead (Pennsylvania) steel mill during the summer of 1892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685800"/>
            <a:ext cx="7772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s did the Amalgamated Association of Iron and Steel Workers (the union at Homestead) use to gain power at Carnegie St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Collective Barg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tr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Violence against Pinkertons and Sca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09480" y="6094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Carnegie Steel (under the guidance of CEO Henry Clay Frick) respond to the union’s dema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“Lockout” of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Pinkerton Detectives to re-open the pl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non-union (“scab”)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Brought in Pennsylvania State Militia to guard the pl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organized labor unions represent a threat to the power of big business owners (like the “Robber Barons”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nflicts between labor and management (like at Homestead)during the Gilded Age, did the government tend to support workers or ow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the government sided with owners during the Gilded 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re there any similarities between the 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 conflicts of the Gilded Age and current even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33520" y="10666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should have the most power in a workpl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ose who own the company or those who do the work to make products (or provide a serv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ners/management or La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89172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inic Lambek</cp:lastModifiedBy>
  <dcterms:modified xsi:type="dcterms:W3CDTF">2013-12-09T13:04:12Z</dcterms:modified>
  <cp:revision>9</cp:revision>
  <dc:subject/>
  <dc:title>Slide 1</dc:title>
</cp:coreProperties>
</file>