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20A-3F4D-4D4F-B5FD-C16260AF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028-F7D3-4374-AF37-1DEBA6FC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3FA-69EA-4E6E-AE45-384B9569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B26-791F-450D-A572-2B60BCAB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95DD-C16C-4DE3-B845-66A3FC9A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C91F-BE18-4B43-B4BB-B27767D9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29F-1F37-4E92-9878-C5111BCE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221E-F729-41E2-9CF1-AD4A4FB9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12E-FE8A-4416-80A6-53D7B9B3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3AB-419D-42BD-B0EC-5C8C62B0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751-6E4D-4690-8925-88425720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800-ED3D-4DDA-95AF-7E32922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415A56-BED7-475C-9515-79CBCFF99C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happened at the Homestead (Pennsylvania) steel mill during the summer of 1892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523880" y="0"/>
            <a:ext cx="6129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1827360" y="0"/>
            <a:ext cx="56401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762120" y="685800"/>
            <a:ext cx="77724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s did the Amalgamated Association of Iron and Steel Workers (the union at Homestead) use to gain power at Carnegie St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Collective Bargain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Strik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Violence against Pinkertons and Scab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09480" y="609480"/>
            <a:ext cx="80773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id Carnegie Steel (under the guidance of CEO Henry Clay Frick) respond to the union’s deman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“Lockout” of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Pinkerton Detectives to re-open the pl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Hired non-union (“scab”) work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Brought in Pennsylvania State Militia to guard the plan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id organized labor unions represent a threat to the power of big business owners (like the “Robber Barons”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nflicts between labor and management (like at Homestead)during the Gilded Age, did the government tend to support workers or ow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y do you think the government sided with owners during the Gilded Ag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"/>
          <p:cNvSpPr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re there any similarities between the 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r conflicts of the Gilded Age and current event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33520" y="1066680"/>
            <a:ext cx="7772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Who should have the most power in a workplac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those who own the company or those who do the work to make products (or provide a servi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wners/management or Lab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1520" y="787320"/>
            <a:ext cx="891720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09480" y="0"/>
            <a:ext cx="8001000" cy="686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03:57Z</dcterms:created>
  <dc:creator>Emily Dolci</dc:creator>
  <dc:description/>
  <dc:language>en-US</dc:language>
  <cp:lastModifiedBy>Dominic Lambek</cp:lastModifiedBy>
  <dcterms:modified xsi:type="dcterms:W3CDTF">2013-12-09T13:04:12Z</dcterms:modified>
  <cp:revision>9</cp:revision>
  <dc:subject/>
  <dc:title>Slide 1</dc:title>
</cp:coreProperties>
</file>