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BC60-7E41-471D-A19A-D69A0F19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24A-83C6-4D9E-BBDD-9CDC37C9E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878-8AD3-49CD-93FE-0FD811C40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D03B-0226-4FED-9AEA-DF68B0DB1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C827-3902-40C7-9CB6-817EE52A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6BB-51CA-4216-B518-D6FCCD32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A07-5CA0-4F8D-A43E-3CE82CF2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5C24-63B0-4238-A82F-F6D25324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033-A131-495F-8126-84EC68BE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FEE-D673-42DE-A8DE-51DDBB1B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CB7-6A97-49CF-8AEB-35DCB04D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E631-C320-4521-91C1-63262166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A5F4D-5131-4FCF-9D08-19FD5D9EB6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prefer a coun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Each state is allowed to set its own laws on importa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 Where important laws were set by the federal government (and so they are consistent from state to st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4396" r="0" b="0"/>
          <a:stretch/>
        </p:blipFill>
        <p:spPr>
          <a:xfrm>
            <a:off x="990720" y="1219320"/>
            <a:ext cx="7010280" cy="5194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on and Confederacy, 18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533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Civil War Be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648320"/>
            <a:ext cx="67816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9528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 Sumter (18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419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4343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4724280"/>
            <a:ext cx="3812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6096240" cy="474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NORTH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479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 mill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7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3623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ES OF RAIL 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8,50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6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52680"/>
            <a:ext cx="8839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port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,500,00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6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tons – 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ze of Army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.9 mill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1.2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Arial Black"/>
              </a:rPr>
              <a:t>Unio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had 32 times the firearms production of the </a:t>
            </a: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Confederac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’ Rights vs. Feder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a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the root cause of the Civil War, the biggest debate between North and South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whether slavery was a good or bad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r debate was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decide laws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federal government make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should each state set its own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itution states that the federal gov’t holds “supremacy” over the states in certain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dvantages of this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tates claimed that the federal government was overstepping its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 (in particular) threatened to nullify federal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advantages of letting states decide their own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s in the 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946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0120">
                <a:tc>
                  <a:txBody>
                    <a:bodyPr lIns="90000" rIns="90000" tIns="18432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32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1843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 Pa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lavery (for various reaso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ed federal power (on issue of slavery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3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cratic Par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agricultural      (slave-base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-Slav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ed States’ Righ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9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533520"/>
            <a:ext cx="624816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Civil Wa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2280" y="5867280"/>
            <a:ext cx="4086360" cy="55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cript MT Bold"/>
              </a:rPr>
              <a:t>Elected President 18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cript MT Bold"/>
              <a:ea typeface="Script MT Bold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42900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3429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South Carolina secedes from the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Mississippi, Florida, Alabama, Georgia, Louisiana, and Texas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Confederate States of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77680" y="1554120"/>
            <a:ext cx="18018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tle flag of the Confede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520" y="4479840"/>
            <a:ext cx="1554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fferson Davi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of the Confed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600200"/>
            <a:ext cx="4014720" cy="45244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C.S.A. Constit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nstitution of negro slavery as it now exists in the Confederate States, shall be recognized and protected by Congr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440" y="137952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4685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6:40:59Z</dcterms:created>
  <dc:creator>Dominic Lambek</dc:creator>
  <dc:description/>
  <dc:language>en-US</dc:language>
  <cp:lastModifiedBy/>
  <dcterms:modified xsi:type="dcterms:W3CDTF">2014-06-03T17:39:05Z</dcterms:modified>
  <cp:revision>3</cp:revision>
  <dc:subject/>
  <dc:title>Presidential Election</dc:title>
</cp:coreProperties>
</file>