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A692-A769-4734-B0C9-7D6ACC08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2CA6-4C69-4E5A-BEC5-6CEFA9A1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FA1-9CB7-4030-8304-F9A9AE35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F6F-83BF-4D01-9E8C-EC33B986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245-37C2-49F1-BA24-8FE6F899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ABBB-6DC9-4E8B-8703-B5172836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2865-66FA-4885-81E5-C2670F90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3950-F509-4CA5-A468-3792B3E5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829-0DDF-4EB7-A557-2D3BB52B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CFD8-1659-48AA-BAE3-86083A12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AF4-C768-4E37-BD9B-BA963DA1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84FB-4406-4C76-BC7A-5E38FCAF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0FC73-B840-49EA-8D92-2A5E84C8939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uld you prefer a coun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Each state is allowed to set its own laws on importan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 Where important laws were set by the federal government (and so they are consistent from state to stat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4396" r="0" b="0"/>
          <a:stretch/>
        </p:blipFill>
        <p:spPr>
          <a:xfrm>
            <a:off x="990720" y="1219320"/>
            <a:ext cx="7010280" cy="5194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on and Confederacy, 18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5335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Civil War Beg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4648320"/>
            <a:ext cx="67816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962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9528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t Sumter (186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419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4343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4724280"/>
            <a:ext cx="3812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6096240" cy="474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380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NORTH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S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4479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0 mill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7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3623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LES OF RAIL  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8,500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6,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352680"/>
            <a:ext cx="88390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port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4,500,000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6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tons – 185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572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ze of Army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.9 mill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1.2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55627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i="1" lang="en-US" sz="2400" spc="-1" strike="noStrike">
                <a:solidFill>
                  <a:srgbClr val="333399"/>
                </a:solidFill>
                <a:latin typeface="Arial Black"/>
              </a:rPr>
              <a:t>Unio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had 32 times the firearms production of the </a:t>
            </a:r>
            <a:r>
              <a:rPr b="0" i="1" lang="en-US" sz="2400" spc="-1" strike="noStrike">
                <a:solidFill>
                  <a:srgbClr val="808080"/>
                </a:solidFill>
                <a:latin typeface="Arial Black"/>
              </a:rPr>
              <a:t>Confederac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s’ Rights vs. Federal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la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the root cause of the Civil War, the biggest debate between North and South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whether slavery was a good or bad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ger debate was ab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uld decide laws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federal government make deci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should each state set its own la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itution states that the federal gov’t holds “supremacy” over the states in certain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dvantages of this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s’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tates claimed that the federal government was overstepping its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Carolina (in particular) threatened to nullify federal la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advantages of letting states decide their own la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sions in the cou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946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00120">
                <a:tc>
                  <a:txBody>
                    <a:bodyPr lIns="90000" rIns="90000" tIns="18432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st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432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st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1843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an Pa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industr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Slavery (for various reason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ed federal power (on issue of slavery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43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cratic Par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agricultural      (slave-based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-Slave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ed States’ Righ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9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idential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47920" y="533520"/>
            <a:ext cx="6248160" cy="93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Civil War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060720" cy="3809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52280" y="5867280"/>
            <a:ext cx="4086360" cy="552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cript MT Bold"/>
              </a:rPr>
              <a:t>Elected President 186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cript MT Bold"/>
              <a:ea typeface="Script MT Bold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342900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2590920"/>
            <a:ext cx="3429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cript MT Bold"/>
                <a:ea typeface="Times New Roman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South Carolina secedes from the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Mississippi, Florida, Alabama, Georgia, Louisiana, and Texas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Confederate States of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77680" y="1554120"/>
            <a:ext cx="18018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ttle flag of the Confeder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520" y="4479840"/>
            <a:ext cx="1554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fferson Davi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ident of the Confede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1600200"/>
            <a:ext cx="4014720" cy="452448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C.S.A. Constit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nstitution of negro slavery as it now exists in the Confederate States, shall be recognized and protected by Congr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440" y="1379520"/>
            <a:ext cx="2387520" cy="2387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468520" cy="26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6:40:59Z</dcterms:created>
  <dc:creator>Dominic Lambek</dc:creator>
  <dc:description/>
  <dc:language>en-US</dc:language>
  <cp:lastModifiedBy/>
  <dcterms:modified xsi:type="dcterms:W3CDTF">2014-06-03T17:39:05Z</dcterms:modified>
  <cp:revision>3</cp:revision>
  <dc:subject/>
  <dc:title>Presidential Election</dc:title>
</cp:coreProperties>
</file>