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B094-5C10-4FB6-8A14-6D8EC2327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677400"/>
            <a:ext cx="822492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7631-340C-453C-B6BA-B4D6C2F6F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6774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6774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A5F6-96B7-4A26-881E-6029A7C74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677400"/>
            <a:ext cx="26481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677400"/>
            <a:ext cx="26481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677400"/>
            <a:ext cx="264816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6407-DEA4-43A9-8CF0-F443A44D9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B5B2-5AFD-4886-8158-8B644C996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587F-118F-4649-865D-38ADBC1B6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5153-364B-47F2-954E-8F536E049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72CC-766C-438E-A35B-D1BA83008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659B-C56F-42A6-AAAF-175DC8FEC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6774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EE28-B7D2-47BB-8AAD-F3F8C311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6774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0417-8F89-4AED-8161-810E70F2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677400"/>
            <a:ext cx="8224920" cy="189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9415-3188-4AD8-B65B-E5B66F72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492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511775-7C1B-4D53-B95D-9407CFAEF64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uld you prefer a countr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: Each state is allowed to set its own laws on important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:  Where important laws were set by the federal government (and so they are consistent from state to stat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4396" r="0" b="0"/>
          <a:stretch/>
        </p:blipFill>
        <p:spPr>
          <a:xfrm>
            <a:off x="990720" y="1219320"/>
            <a:ext cx="7010280" cy="51940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on and Confederacy, 186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33520" y="5335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Civil War Beg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4648320"/>
            <a:ext cx="678168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39625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495288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t Sumter (186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44197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18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772400" y="43434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18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4724280"/>
            <a:ext cx="38124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666880" y="1752480"/>
            <a:ext cx="6096240" cy="474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8600" y="3808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NORTH</a:t>
            </a: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	</a:t>
            </a: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	</a:t>
            </a:r>
            <a:r>
              <a:rPr b="0" lang="en-US" sz="3600" spc="-1" strike="noStrike">
                <a:solidFill>
                  <a:srgbClr val="333399"/>
                </a:solidFill>
                <a:latin typeface="Arial Black"/>
              </a:rPr>
              <a:t>	</a:t>
            </a:r>
            <a:r>
              <a:rPr b="0" lang="en-US" sz="3600" spc="-1" strike="noStrike">
                <a:solidFill>
                  <a:srgbClr val="808080"/>
                </a:solidFill>
                <a:latin typeface="Arial Black"/>
              </a:rPr>
              <a:t>SOU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44792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OPULATION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20 million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n-US" sz="2400" spc="-1" strike="noStrike">
                <a:solidFill>
                  <a:srgbClr val="808080"/>
                </a:solidFill>
                <a:latin typeface="Arial Black"/>
              </a:rPr>
              <a:t>7 m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236232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ILES OF RAIL     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18,500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en-US" sz="2400" spc="-1" strike="noStrike">
                <a:solidFill>
                  <a:srgbClr val="808080"/>
                </a:solidFill>
                <a:latin typeface="Arial Black"/>
              </a:rPr>
              <a:t>6,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352680"/>
            <a:ext cx="883908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xports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4,500,000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en-US" sz="2400" spc="-1" strike="noStrike">
                <a:solidFill>
                  <a:srgbClr val="808080"/>
                </a:solidFill>
                <a:latin typeface="Arial Black"/>
              </a:rPr>
              <a:t>60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(tons – 185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45720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ize of Army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Arial Black"/>
              </a:rPr>
              <a:t>2.9 million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2400" spc="-1" strike="noStrike">
                <a:solidFill>
                  <a:srgbClr val="808080"/>
                </a:solidFill>
                <a:latin typeface="Arial Black"/>
              </a:rPr>
              <a:t>1.2 m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55627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The </a:t>
            </a:r>
            <a:r>
              <a:rPr b="0" i="1" lang="en-US" sz="2400" spc="-1" strike="noStrike">
                <a:solidFill>
                  <a:srgbClr val="333399"/>
                </a:solidFill>
                <a:latin typeface="Arial Black"/>
              </a:rPr>
              <a:t>Union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 had 32 times the firearms production of the </a:t>
            </a:r>
            <a:r>
              <a:rPr b="0" i="1" lang="en-US" sz="2400" spc="-1" strike="noStrike">
                <a:solidFill>
                  <a:srgbClr val="808080"/>
                </a:solidFill>
                <a:latin typeface="Arial Black"/>
              </a:rPr>
              <a:t>Confederacy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s’ Rights vs. Federal P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lave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as the root cause of the Civil War, the biggest debate between North and South w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bout whether slavery was a good or bad 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igger debate was abou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ould decide laws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 the federal government make decis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should each state set its own law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deral P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sitution states that the federal gov’t holds “supremacy” over the states in certain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advantages of this syst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dvanta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s’ R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ern states claimed that the federal government was overstepping its po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 Carolina (in particular) threatened to nullify federal la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advantages of letting states decide their own law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dvanta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visions in the cou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600200"/>
          <a:ext cx="8229600" cy="3946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00120">
                <a:tc>
                  <a:txBody>
                    <a:bodyPr lIns="90000" rIns="90000" tIns="18432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ern sta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4320" bIns="46800" anchor="t">
                      <a:noAutofit/>
                    </a:bodyPr>
                    <a:p>
                      <a:pPr algn="ctr">
                        <a:lnSpc>
                          <a:spcPct val="8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ern sta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6560">
                <a:tc>
                  <a:txBody>
                    <a:bodyPr lIns="90000" rIns="90000" tIns="18432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ublican Par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 industri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-Slavery (for various reason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ed federal power (on issue of slavery)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4320" bIns="468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ocratic Part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 agricultural      (slave-based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-Slaver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1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vored States’ Right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9593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idential 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447920" y="533520"/>
            <a:ext cx="6248160" cy="936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he Civil War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3060720" cy="3809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152280" y="5867280"/>
            <a:ext cx="4086360" cy="552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Script MT Bold"/>
              </a:rPr>
              <a:t>Elected President 186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Script MT Bold"/>
              <a:ea typeface="Script MT Bold"/>
            </a:endParaRPr>
          </a:p>
        </p:txBody>
      </p:sp>
      <p:sp>
        <p:nvSpPr>
          <p:cNvPr id="56" name=""/>
          <p:cNvSpPr/>
          <p:nvPr/>
        </p:nvSpPr>
        <p:spPr>
          <a:xfrm>
            <a:off x="4191120" y="3429000"/>
            <a:ext cx="1143000" cy="380880"/>
          </a:xfrm>
          <a:prstGeom prst="rightArrow">
            <a:avLst>
              <a:gd name="adj1" fmla="val 50000"/>
              <a:gd name="adj2" fmla="val 750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86400" y="2590920"/>
            <a:ext cx="3429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cript MT Bold"/>
                <a:ea typeface="Times New Roman"/>
              </a:rPr>
              <a:t>•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South Carolina secedes from the Un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•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Mississippi, Florida, Alabama, Georgia, Louisiana, and Texas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he Confederate States of Amer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677680" y="1554120"/>
            <a:ext cx="18018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ttle flag of the Confedera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82520" y="4479840"/>
            <a:ext cx="15541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efferson Davis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ident of the Confeder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1600200"/>
            <a:ext cx="4014720" cy="4524480"/>
          </a:xfrm>
          <a:prstGeom prst="rect">
            <a:avLst/>
          </a:prstGeom>
          <a:noFill/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C.S.A. Constit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institution of negro slavery as it now exists in the Confederate States, shall be recognized and protected by Congres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0440" y="1379520"/>
            <a:ext cx="2387520" cy="23875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468520" cy="265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000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16:40:59Z</dcterms:created>
  <dc:creator>Dominic Lambek</dc:creator>
  <dc:description/>
  <dc:language>en-US</dc:language>
  <cp:lastModifiedBy/>
  <dcterms:modified xsi:type="dcterms:W3CDTF">2014-06-03T17:39:05Z</dcterms:modified>
  <cp:revision>3</cp:revision>
  <dc:subject/>
  <dc:title>Presidential Election</dc:title>
</cp:coreProperties>
</file>