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B798-6F35-4D01-9927-6952830C6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A9C-097D-4370-B39D-E0B5B45A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8997-9817-49B9-93A6-7A78B3CC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C68-85D2-4B54-A764-325AFFEA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7B0-8BA7-4CDE-A809-4D5A7EE4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73A-75C5-41C0-BC4C-961764B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B98-925D-41A1-BEBA-EDC9FEB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2A1F-B93D-49FD-9EC1-8E904F7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6856-CEDB-429C-8E94-65A0D1E0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B47-0117-4D3E-803A-0DF4C4F4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7F63-19ED-4D28-BB23-6E609659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FE71-B102-43C1-B7FF-AE6298D1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3371-F16D-478F-9CCA-13AD06E0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ain's Relationship with the Colonies:  1700-17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27080" y="1690560"/>
            <a:ext cx="6531120" cy="47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ercanti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conomic system in which a country controls trade with its colonies, and sells more than it buys, in order to make a pro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British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controlled the price of goods, as the colonists could only sell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could trade these products with other countries (like Spain or the Netherla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e colonists benef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ad a guaranteed market (in Britain) for their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this system hurt the coloni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prevented them from trading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colony did not have a product that the home country needed, it struggled to get re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avigation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mplemented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Parliament (their elected legisl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60's/1670's (after the Glorious Revol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rules did they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de had to use British-owned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mports had to go through British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products (sugar, tobacco, lumber, cotton, wool) could only be traded with Great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ation Acts,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were they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intain British economic control over the colo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e they well enforc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After the Glorious Revolution, British Parliament did not tightly oversee the colonies, and colonial assemblies mostly governed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lutary Negle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British gov't (Crown and Parliament) relaxed its control over the colonies, as both sides seemed to be benef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dur="indefinite" fill="hold">
                      <p:stCondLst>
                        <p:cond delay="indefinite"/>
                      </p:stCondLst>
                      <p:childTnLst>
                        <p:par>
                          <p:cTn id="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nch and Indian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ce and its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/colonists and their Native American a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 of the larger “7 Years War” between France and Bri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about colonial territorial pos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won, gained land with the Treaty of Paris (17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dur="indefinite" fill="hold">
                      <p:stCondLst>
                        <p:cond delay="indefinite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ritorial changes from the Peace of Paris (176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8115120" cy="59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9372600" cy="67579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 fontScale="87000"/>
          </a:bodyPr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id the French and Indian War change British enforcement of the Navigation A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went into debt from war and tightened the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war, there were more British troops stationed in the colonies, so they could enforce laws more stri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54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was the relationship between colonists and Great Britain evolv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 against the French had somewhat united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1320" indent="-2818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imination of France as a threat made them feel more independent (and less in need of British prote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dur="indefinite" fill="hold">
                      <p:stCondLst>
                        <p:cond delay="indefinite"/>
                      </p:stCondLst>
                      <p:childTnLst>
                        <p:par>
                          <p:cTn id="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2:42:36Z</dcterms:created>
  <dc:creator/>
  <dc:description/>
  <dc:language>en-US</dc:language>
  <cp:lastModifiedBy/>
  <cp:revision>1</cp:revision>
  <dc:subject/>
  <dc:title/>
</cp:coreProperties>
</file>