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83E-B690-49F9-B77B-2FB85E529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E7E1-9004-4A23-9189-CF3CDB1A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7C5C-8A04-485E-AAF1-792E5AFF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7B05-10A8-4C3B-8BEA-8AE5BA36E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4DD9-FD36-4E74-82C6-EEF8F65A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63B-94CB-4F38-89B8-4D3E6E1E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688-C5ED-43F3-AA52-544F2139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6C0B-DAC1-4370-8CA7-1A97D99B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B29-9B96-46D7-A537-881A6290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DD8B-F788-4E58-A710-938A0177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C904-5B3A-4A87-B9D9-45D01F7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9B7-1410-4446-B172-625E0A31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00F50-5DFB-471E-AC3E-DCB4AFDBF6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ain's Relationship with the Colonies:  1700-17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27080" y="1690560"/>
            <a:ext cx="65311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canti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nomic system in which a country controls trade with its colonies, and sells more than it buys, in order to make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British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controlled the price of goods, as the colonists could only sell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uld trade these products with other countries (like Spain or the Nether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olonists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a guaranteed market (in Britain) for thei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system hurt the col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evented them from trading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lony did not have a product that the home country needed, it struggled to g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mplem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Parliament (their elected legisl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60's/1670's (after the Glorious Rev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les did they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de had to use British-owned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mports had to go through Britis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ducts (sugar, tobacco, lumber, cotton, wool) could only be traded with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A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British economic control over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y well enfor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After the Glorious Revolution, British Parliament did not tightly oversee the colonies, and colonial assemblies mostly governe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utary Negl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tish gov't (Crown and Parliament) relaxed its control over the colonies, as both sides seemed to be bene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nd its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/colonists and their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 of the larger “7 Years War” between France and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about colonial territorial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won, gained land with the 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al changes from the Peace of Paris (17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811512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937260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87000"/>
          </a:bodyPr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French and Indian War change British enforcement of the Navigation A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went into debt from war and tightened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, there were more British troops stationed in the colonies, so they could enforce laws more stri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as the relationship between colonists and Great Britain evol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French had somewhat united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mination of France as a threat made them feel more independent (and less in need of British pro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2:42:36Z</dcterms:created>
  <dc:creator/>
  <dc:description/>
  <dc:language>en-US</dc:language>
  <cp:lastModifiedBy/>
  <cp:revision>1</cp:revision>
  <dc:subject/>
  <dc:title/>
</cp:coreProperties>
</file>