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1E12-8E93-4525-8B78-30FCA8E7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808-36AA-4430-B1CA-CF3303B1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695-E9DF-468C-BBD3-CD2FF3D94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0711-6658-4A49-858F-BAA2FBA6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497-7A87-4A9D-B2B9-F3B2E575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C6F-72B7-4F38-9DA5-2832DF79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253-D528-4CFF-BC5D-DB295E97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DBC6-D71A-4D98-8AF6-986F299B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98F-BC34-4C52-BFE8-E955972C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923-259E-4633-B140-4B645F7F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4441-8A97-42FF-B199-BB58C452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C4F2-79A8-4486-836D-47CA54A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1636D-30F3-45BA-A232-7A6A00BCD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ain's Relationship with the Colonies:  1700-17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27080" y="1690560"/>
            <a:ext cx="653112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canti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nomic system in which a country controls trade with its colonies, and sells more than it buys, in order to make a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British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controlled the price of goods, as the colonists could only sell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uld trade these products with other countries (like Spain or the Nether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olonists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a guaranteed market (in Britain) for thei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system hurt the colon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evented them from trading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lony did not have a product that the home country needed, it struggled to g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mplemente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Parliament (their elected legisl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60's/1670's (after the Glorious Rev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les did they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de had to use British-owned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mports had to go through Britis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products (sugar, tobacco, lumber, cotton, wool) could only be traded with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Act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British economic control over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y well enfor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After the Glorious Revolution, British Parliament did not tightly oversee the colonies, and colonial assemblies mostly governe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utary Negl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ritish gov't (Crown and Parliament) relaxed its control over the colonies, as both sides seemed to be benef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nd its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/colonists and their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 of the larger “7 Years War” between France and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about colonial territorial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won, gained land with the 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torial changes from the Peace of Paris (17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811512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937260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87000"/>
          </a:bodyPr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French and Indian War change British enforcement of the Navigation A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went into debt from war and tightened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, there were more British troops stationed in the colonies, so they could enforce laws more stri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as the relationship between colonists and Great Britain evol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French had somewhat united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mination of France as a threat made them feel more independent (and less in need of British prot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2:42:36Z</dcterms:created>
  <dc:creator/>
  <dc:description/>
  <dc:language>en-US</dc:language>
  <cp:lastModifiedBy/>
  <cp:revision>1</cp:revision>
  <dc:subject/>
  <dc:title/>
</cp:coreProperties>
</file>