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19.png" ContentType="image/png"/>
  <Override PartName="/ppt/media/image3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4.jpeg" ContentType="image/jpeg"/>
  <Override PartName="/ppt/media/image2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4080" cy="34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12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E26BBA-587F-436F-BFD6-4A60863987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omalia: Life expectancy=48, infant mortality=above 10%, average annual income is $600US, predominantly agricultural econo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lbanians who were executed in Serb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resident Clinton with Secretary of State Madeline Albright (L)…Clinton speaking from the White House (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lbanians being forced from their homes in Koso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ap of Kosovo that shows troop representation from different countries. The US wasn’t the only country that sent troops to help the Albanians(as you can se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ap of Afghanist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aliban fighters in Afghanist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Lack of stability, tribal affiliations and competition for natural re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980s—Civil war as result of insurgent attempts at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990s—Widespread drought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United Nations sends in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992—Clan violence threatens relief efforts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US-led coalition force including 30,000 US military personnel and 10,000 from allied nations, “Operation Restore Hop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ombined, the war and drought resulted in the death of 300,000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RIGHT) Army Rangers “fast rope” down from a Blackhawk helicopter in Somal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cene from movie “Blackhawk Down” which chronicles US involvement in Somalia. This scene parallels the reading you can hand out to students. (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 map of Yugoslavia and Kosovo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32FA-A0CD-4840-99B6-C02474071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44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44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44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0093-0B2B-461D-AFF6-15D76DD91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44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520" y="412992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2CB6-A2C7-4AE5-B75B-CD8E16E08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44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4998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0920" y="1981080"/>
            <a:ext cx="24998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6400" y="1981080"/>
            <a:ext cx="24998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4998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0920" y="4129920"/>
            <a:ext cx="24998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6400" y="4129920"/>
            <a:ext cx="249984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0C49-BD11-41A6-A7E4-9989AB9E7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44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44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1258-F49C-4744-A015-06EAAD267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44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44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2721-0D6F-473A-9832-2061898B9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44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0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890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DD4B-5588-43E7-A775-B46C49D21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44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8EA7-461C-446F-9828-9A3E4BC43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44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D24A-A1DD-41C0-B3AC-8F47A75B3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44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890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B2F2-81D3-4BEA-AC64-A3782886E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44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0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520" y="412992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028D-AC48-4479-8794-E82E58C7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44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89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44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BB9B-E437-4C36-B09D-1A763B3D7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44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44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72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792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72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194C34-8330-457E-9B01-793E580C398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657600" y="304920"/>
            <a:ext cx="5216400" cy="6248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28600" y="2590920"/>
            <a:ext cx="3157560" cy="3238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457200" y="609480"/>
            <a:ext cx="2895480" cy="10670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odoni MT"/>
              </a:rPr>
              <a:t>Somali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Bodoni MT"/>
              <a:ea typeface="Bodoni M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571760" y="0"/>
            <a:ext cx="60004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981080" y="914400"/>
            <a:ext cx="5486400" cy="32925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09480" y="4785120"/>
            <a:ext cx="78710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Bodoni MT"/>
              </a:rPr>
              <a:t>“</a:t>
            </a:r>
            <a:r>
              <a:rPr b="0" i="1" lang="en-US" sz="3000" spc="-1" strike="noStrike">
                <a:solidFill>
                  <a:srgbClr val="ffffff"/>
                </a:solidFill>
                <a:latin typeface="Bodoni MT"/>
              </a:rPr>
              <a:t>Just imagine if the leaders back then had acted wisely and early enough, how many lives could have been saved.”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8153280" cy="55036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33000" y="284040"/>
            <a:ext cx="895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MT"/>
              </a:rPr>
              <a:t>Serbian response = Expelled Albanian population at gun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54080" y="-1690560"/>
            <a:ext cx="8835840" cy="1024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827360" y="914400"/>
            <a:ext cx="5411520" cy="57913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964240" y="152280"/>
            <a:ext cx="298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doni MT"/>
              </a:rPr>
              <a:t>Afghanist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1897200" y="2371680"/>
            <a:ext cx="5341680" cy="1684440"/>
            <a:chOff x="1897200" y="2371680"/>
            <a:chExt cx="5341680" cy="1684440"/>
          </a:xfrm>
        </p:grpSpPr>
        <p:sp>
          <p:nvSpPr>
            <p:cNvPr id="87" name=""/>
            <p:cNvSpPr/>
            <p:nvPr/>
          </p:nvSpPr>
          <p:spPr>
            <a:xfrm>
              <a:off x="1897200" y="2371680"/>
              <a:ext cx="53416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897200" y="2381400"/>
              <a:ext cx="5205240" cy="16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129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       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106200"/>
            <a:ext cx="9144000" cy="66456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238760" y="1965240"/>
            <a:ext cx="653292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doni MT"/>
              </a:rPr>
              <a:t>Public executions and punishmen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64640" y="1066680"/>
            <a:ext cx="577980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doni MT"/>
              </a:rPr>
              <a:t>Banned TV, music, and intern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796760" y="2955960"/>
            <a:ext cx="538524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doni MT"/>
              </a:rPr>
              <a:t>Men required to have beard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36440" y="3870360"/>
            <a:ext cx="693504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doni MT"/>
              </a:rPr>
              <a:t>Forbade women from going to schoo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0400" y="4800600"/>
            <a:ext cx="867708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doni MT"/>
              </a:rPr>
              <a:t>Women barred from working outside the hom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-102600" y="5715000"/>
            <a:ext cx="946656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doni MT"/>
              </a:rPr>
              <a:t>Women couldn’t leave home without a male relativ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352680" y="228600"/>
            <a:ext cx="237996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Bodoni MT"/>
              </a:rPr>
              <a:t>The Taliba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143000" y="150840"/>
            <a:ext cx="2971800" cy="3506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395280" y="3722760"/>
          <a:ext cx="8520120" cy="2906640"/>
        </p:xfrm>
        <a:graphic>
          <a:graphicData uri="http://schemas.openxmlformats.org/drawingml/2006/table">
            <a:tbl>
              <a:tblPr/>
              <a:tblGrid>
                <a:gridCol w="8520120"/>
              </a:tblGrid>
              <a:tr h="2906640">
                <a:tc>
                  <a:txBody>
                    <a:bodyPr lIns="90000" rIns="90000" tIns="221400" bIns="46800" anchor="t">
                      <a:noAutofit/>
                    </a:bodyPr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 international terrorist group known as al-Qaeda took credit for the terrorist attacks on September 11, 20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.S. intelligence learns that al-Qaeda was operating training camps in Afghanistan, and that its leader, Osama bin Laden, was living ther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liban leadership refuses to hand over bin Laden to the United States, so the U.S. Invades Afghanistan in October, 20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6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ff"/>
                    </a:solidFill>
                  </a:tcPr>
                </a:tc>
              </a:tr>
            </a:tbl>
          </a:graphicData>
        </a:graphic>
      </p:graphicFrame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800600" y="228600"/>
            <a:ext cx="27432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7be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7200" y="990720"/>
            <a:ext cx="5943600" cy="72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3b"/>
                    </a:gs>
                    <a:gs pos="50000">
                      <a:srgbClr val="000080"/>
                    </a:gs>
                    <a:gs pos="100000">
                      <a:srgbClr val="00003b"/>
                    </a:gs>
                  </a:gsLst>
                  <a:lin ang="5400000"/>
                </a:gradFill>
                <a:latin typeface="Bodoni MT Black"/>
              </a:rPr>
              <a:t>U.S. Interven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3b"/>
                  </a:gs>
                  <a:gs pos="50000">
                    <a:srgbClr val="000080"/>
                  </a:gs>
                  <a:gs pos="100000">
                    <a:srgbClr val="00003b"/>
                  </a:gs>
                </a:gsLst>
                <a:lin ang="5400000"/>
              </a:gradFill>
              <a:latin typeface="Bodoni MT Black"/>
              <a:ea typeface="Bodoni MT Black"/>
            </a:endParaRPr>
          </a:p>
        </p:txBody>
      </p:sp>
      <p:sp>
        <p:nvSpPr>
          <p:cNvPr id="101" name=""/>
          <p:cNvSpPr/>
          <p:nvPr/>
        </p:nvSpPr>
        <p:spPr>
          <a:xfrm>
            <a:off x="1352520" y="2054160"/>
            <a:ext cx="347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October 2001 - 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2514600"/>
            <a:ext cx="8229600" cy="5214600"/>
          </a:xfrm>
          <a:prstGeom prst="rect">
            <a:avLst/>
          </a:prstGeom>
          <a:noFill/>
          <a:ln w="158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doni MT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Taliban regime removed from power in Kabul (the capital) but they remain powerful in some regions of the cou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Al-Qaeda leaves Afghanistan but remains active else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Bin Laden killed by U.S. troops in neighboring Pakistan in 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Nearly 2,200 U.S. military deaths, and the UN estimates up to 50,000 Afghani dea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37960" y="392040"/>
            <a:ext cx="8668080" cy="60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4419720" cy="32702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520" y="5332320"/>
            <a:ext cx="913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doni MT"/>
              </a:rPr>
              <a:t>Operation Restore H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30,000 American military personnel + 10,000 from allied fo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715000" y="609480"/>
            <a:ext cx="2133720" cy="320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1752480" y="685800"/>
            <a:ext cx="2657520" cy="609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odoni MT"/>
              </a:rPr>
              <a:t>Famin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Bodoni MT"/>
              <a:ea typeface="Bodoni M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170080" y="826920"/>
            <a:ext cx="4876920" cy="3926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901320" y="228600"/>
            <a:ext cx="16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doni MT"/>
              </a:rPr>
              <a:t>1992-199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80060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doni MT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-  29 Americans are killed, and nearly 100 seriously woun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-  While conditions connected to the famine improve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political instability remains to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dd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105520" y="30492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257800" y="3352680"/>
            <a:ext cx="3543480" cy="3248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304920" y="533520"/>
            <a:ext cx="4538520" cy="949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2311e"/>
                </a:solidFill>
                <a:latin typeface="Bodoni MT Black"/>
              </a:rPr>
              <a:t>Rwand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52311e"/>
              </a:solidFill>
              <a:latin typeface="Bodoni MT Black"/>
              <a:ea typeface="Bodoni MT Black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2666880"/>
            <a:ext cx="359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52311e"/>
                </a:solidFill>
                <a:latin typeface="Bodoni MT"/>
              </a:rPr>
              <a:t>Hutus</a:t>
            </a:r>
            <a:r>
              <a:rPr b="0" lang="en-US" sz="2400" spc="-1" strike="noStrike">
                <a:solidFill>
                  <a:srgbClr val="52311e"/>
                </a:solidFill>
                <a:latin typeface="Bodoni MT"/>
              </a:rPr>
              <a:t> – Majority, minimal political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4191120"/>
            <a:ext cx="382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52311e"/>
                </a:solidFill>
                <a:latin typeface="Bodoni MT"/>
              </a:rPr>
              <a:t>Tutsis</a:t>
            </a:r>
            <a:r>
              <a:rPr b="0" lang="en-US" sz="2400" spc="-1" strike="noStrike">
                <a:solidFill>
                  <a:srgbClr val="52311e"/>
                </a:solidFill>
                <a:latin typeface="Bodoni MT"/>
              </a:rPr>
              <a:t> – Minority, historically in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8458200" cy="50734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31840" y="380880"/>
            <a:ext cx="8710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Within 100 days, nearly 1 million people were kille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14400" y="1295280"/>
            <a:ext cx="7696080" cy="27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3500" spc="-1" strike="noStrike">
                <a:solidFill>
                  <a:srgbClr val="ffffff"/>
                </a:solidFill>
                <a:latin typeface="Bodoni MT"/>
              </a:rPr>
              <a:t>Genocide</a:t>
            </a:r>
            <a:r>
              <a:rPr b="0" lang="en-US" sz="3500" spc="-1" strike="noStrike">
                <a:solidFill>
                  <a:srgbClr val="ffffff"/>
                </a:solidFill>
                <a:latin typeface="Bodoni MT"/>
              </a:rPr>
              <a:t> :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Bodoni MT"/>
              </a:rPr>
              <a:t>acts committed with intent to destroy, in whole or in part, a national, ethnical, racial or religious group,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826280" y="4876920"/>
            <a:ext cx="60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Bodoni MT"/>
              </a:rPr>
              <a:t>What was the United States’ respon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52280" y="76320"/>
            <a:ext cx="7778880" cy="79246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6248520" y="2743200"/>
            <a:ext cx="2514600" cy="99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cc"/>
                </a:solidFill>
                <a:latin typeface="Book Antiqua"/>
              </a:rPr>
              <a:t>Kosovo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6600cc"/>
              </a:solidFill>
              <a:latin typeface="Book Antiqua"/>
              <a:ea typeface="Book Antiqua"/>
            </a:endParaRPr>
          </a:p>
        </p:txBody>
      </p:sp>
      <p:sp>
        <p:nvSpPr>
          <p:cNvPr id="75" name=""/>
          <p:cNvSpPr/>
          <p:nvPr/>
        </p:nvSpPr>
        <p:spPr>
          <a:xfrm>
            <a:off x="6172200" y="4343400"/>
            <a:ext cx="2666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Within Kosovo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90% Albani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doni MT"/>
              </a:rPr>
              <a:t>&lt;10% Ser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590920" y="228600"/>
            <a:ext cx="4322520" cy="56815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427920" y="6094800"/>
            <a:ext cx="27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lobodan Milosev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3T01:05:17Z</dcterms:created>
  <dc:creator>peronto's</dc:creator>
  <dc:description/>
  <dc:language>en-US</dc:language>
  <cp:lastModifiedBy>Dominic Lambek</cp:lastModifiedBy>
  <dcterms:modified xsi:type="dcterms:W3CDTF">2010-05-24T14:32:23Z</dcterms:modified>
  <cp:revision>13</cp:revision>
  <dc:subject/>
  <dc:title>PowerPoint Presentation</dc:title>
</cp:coreProperties>
</file>