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F4CE-7B2D-4882-8496-35C0D12E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8B81-C645-4C87-81C2-D30A7742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044F-73F5-46D3-AF16-C5296879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3AD-EBC8-4851-9FB7-59CCFFFF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B2F-8A0E-4245-B6F1-16A44201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D7B-A1AF-4F53-8C3F-C9C85742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5A41-F9B2-4DB0-BB0B-C6FB2143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4E9F-924E-408C-95E5-E7D7519B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070-EF98-4423-9C14-66F094EE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3E90-3E17-4A54-9FA1-DF45431F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43C1-E1E8-4406-A70D-0FD8C9D2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149-B23B-4371-8DBD-EE9CD917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D7E7B-8F8F-494E-BE69-4DB509ED860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competing interests emerged in the U.S. during the “Era of Good Feelings”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9920" y="-1191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96012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strong feeling of devotion or loyalty to one nation over others:  Patriot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idea that people living in a politically-defined area and sharing certain cultural characteristics share a common interest:  the Nation (different concept than the S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is idea drives people to act in the interest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ir perceived nation, and sometimes to think less of those belonging to other sub-national cultu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t also drives people of a common ethnic group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eek self-rule in their own n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c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rn only for the interests of one part of a country (typically one's own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ten used to describe the divided regional loyalties of the North and the South, but can be used in other instances as w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9920" y="1812960"/>
            <a:ext cx="90709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you use each term in a sentence?  (It does not have to be history relat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that demonstr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tio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of 18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isiana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that demonstr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tio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5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to the Embargo of 18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9920" y="220680"/>
            <a:ext cx="9070920" cy="7516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inning during the Era of Good Feelings,” the country would see the divergent forces of nationalism and sectionalism emerge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force would win out (by 1860 at least)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each of the following events increase either nationalist or sectionalist feelings (or both)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3428640"/>
            <a:ext cx="9372600" cy="384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Clay's “American System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ernal Improvements (like the National Road, Erie Canal, railroad developmen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ams-Onis Trea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nroe Doct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7000"/>
          </a:bodyPr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velopment of textile mills in Massachusetts (by the Boston Manufacturing Company, first in Waltham, then in Lowell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nic of 18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despread use of Eli Whitney's Cotton 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30040"/>
            <a:ext cx="90709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pansion of the U.S. Postal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issouri Compromi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dian Removal Polic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3:09:47Z</dcterms:created>
  <dc:creator/>
  <dc:description/>
  <dc:language>en-US</dc:language>
  <cp:lastModifiedBy/>
  <cp:revision>1</cp:revision>
  <dc:subject/>
  <dc:title/>
</cp:coreProperties>
</file>