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97F-20BA-4538-B814-B5E248EE8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7C8-530D-4001-8E1E-C64DFC50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43F-1F07-4F2C-9C8F-AE404C2CC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A01-2EE4-490A-AC9D-27AD58CF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AEF-92A1-4EFD-90F2-5F22B169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CF2-91A7-4A21-8135-851A0F3E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434-F892-442B-B712-859518C7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877-4607-42D6-8F05-B2563324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454E-AA31-4BFC-8634-A9E432B4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8CFE-5A17-4AC0-83D2-E365E5C5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A7E-C666-4527-A788-DBD11BE8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D730-806F-497E-8CF7-B95A5A76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76938-3C1F-4984-AED0-21CBCDCB92C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competing interests emerged in the U.S. during the “Era of Good Feelings”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9920" y="-1191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96012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strong feeling of devotion or loyalty to one nation over others:  Patriot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dea that people living in a politically-defined area and sharing certain cultural characteristics share a common interest:  the Nation (different concept than the S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is idea drives people to act in the interest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ir perceived nation, and sometimes to think less of those belonging to other sub-national cultu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 also drives people of a common ethnic group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eek self-rule in their own n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rn only for the interests of one part of a country (typically one's own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ten used to describe the divided regional loyalties of the North and the South, but can be used in other instances as w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9920" y="1812960"/>
            <a:ext cx="90709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use each term in a sentence?  (It does not have to be history relat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that demonstr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tio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of 18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isiana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that demonstr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tio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5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to the Embargo of 18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9920" y="220680"/>
            <a:ext cx="9070920" cy="7516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inning during the Era of Good Feelings,” the country would see the divergent forces of nationalism and sectionalism emerge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force would win out (by 1860 at least)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each of the following events increase either nationalist or sectionalist feelings (or both)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3428640"/>
            <a:ext cx="9372600" cy="38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Clay's “American System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rnal Improvements (like the National Road, Erie Canal, railroad developmen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ams-Onis Trea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nroe Doct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7000"/>
          </a:bodyPr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velopment of textile mills in Massachusetts (by the Boston Manufacturing Company, first in Waltham, then in Lowell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nic of 18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despread use of Eli Whitney's Cotton 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30040"/>
            <a:ext cx="90709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pansion of the U.S. Postal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issouri Compromi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dian Removal Polic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3:09:47Z</dcterms:created>
  <dc:creator/>
  <dc:description/>
  <dc:language>en-US</dc:language>
  <cp:lastModifiedBy/>
  <cp:revision>1</cp:revision>
  <dc:subject/>
  <dc:title/>
</cp:coreProperties>
</file>