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BCA6-3FBE-4C80-881B-94930E940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946-4845-4E12-9635-C78ACBFB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128-19CE-4455-BF11-FF950EDE7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A57-F73E-4A54-ACC7-26A65B05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AC9A-8AEB-4DC7-86EC-D21315CB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5EB-906B-438C-9130-11D08ED7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3C7-1B2D-4AA4-89C7-E3D73B47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824-3E2E-4634-B48B-A1DB0EA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350C-C0AD-496C-A535-74B921A1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AE03-4640-4D3E-82BB-52C346B2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FAF-125A-4AB8-9AD9-D45FF8D4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B83-FD5F-48C3-B25E-834EA69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9A399-F844-4E70-BE12-5830A5030C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 competing interests emerged in the U.S. during the “Era of Good Feelings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9920" y="-1191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96012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strong feeling of devotion or loyalty to one nation over others:  Patrio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Arial"/>
              <a:buAutoNum type="arabicPeriod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idea that people living in a politically-defined area and sharing certain cultural characteristics share a common interest:  the Nation (different concept than the St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This idea drives people to act in the interest o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ir perceived nation, and sometimes to think less of those belonging to other sub-national cultu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 also drives people of a common ethnic group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eek self-rule in their own n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ern only for the interests of one part of a country (typically one's own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ten used to describe the divided regional loyalties of the North and the South, but can be used in other instances as w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1812960"/>
            <a:ext cx="907092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use each term in a sentence?  (It does not have to be history relat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of 18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isiana Purc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s that demonstr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/5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 to the Embargo of 1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9920" y="220680"/>
            <a:ext cx="9070920" cy="7516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ning during the Era of Good Feelings,” the country would see the divergent forces of nationalism and sectionalism emerge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ch force would win out (by 1860 at least)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id each of the following events increase either nationalist or sectionalist feelings (or both)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3428640"/>
            <a:ext cx="9372600" cy="3846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nry Clay's “American System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nternal Improvements (like the National Road, Erie Canal, railroad developmen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dams-Onis Trea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onroe Doct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7000"/>
          </a:bodyPr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velopment of textile mills in Massachusetts (by the Boston Manufacturing Company, first in Waltham, then in Lowell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anic of 18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2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despread use of Eli Whitney's Cotton 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30040"/>
            <a:ext cx="90709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xpansion of the U.S. Postal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75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issouri Compromi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dian Removal Polici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5T03:09:47Z</dcterms:created>
  <dc:creator/>
  <dc:description/>
  <dc:language>en-US</dc:language>
  <cp:lastModifiedBy/>
  <cp:revision>1</cp:revision>
  <dc:subject/>
  <dc:title/>
</cp:coreProperties>
</file>