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A698-2431-48D2-A604-5A0BBEF1C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05D4-F05F-42C8-94C4-18A3BCBD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A486-9362-45F1-B01E-D4E74CE8C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0F0F-B2CC-4412-B82D-CBD3627E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38DF-5990-4457-8AD5-424B322A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B9D6-0CBC-4D58-8324-EB890289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14A2-B0DA-48CE-907F-66B141AB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4435-04D9-4783-8881-2B564B70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85889-D3C0-4189-B9F1-16563621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3F64-33BB-44B8-B743-FF81A345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F746-9376-4F6C-AF71-2451E8D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C5C-D1A1-40FC-B83A-9D040550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D3E2-1E31-45CC-96EE-806D265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5163-923C-4C9F-9C8A-E5CA56B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DAB9-B893-4BB4-B210-A5E90E2C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C991-2496-4674-85FC-39FAAACA0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DA30-5D65-47C3-B724-DE016A9F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1C7D-7153-43B7-B02B-E76BB99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2273-15E7-4505-940B-0B63F182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21C1-995F-4551-8638-0D6DA4E9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D8EF-8B8A-4C0C-A46B-CEB2F350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9FF-E533-402D-8B97-0DFDC056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B9F-92A8-45E4-AFE5-C969C88A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5377-2410-4E49-97D4-3D4D1F08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A7D0B3-C52F-42FF-9ACB-CAA6C3EC50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CB55E-2CB1-42DE-9313-227F8C7CB8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The New Deal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3341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tional Labor Relations Ac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Wagner Ac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ed the rights of workers to join labor un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ed unions and employers negotiate labor disp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ir Labor Standards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federal minimum wag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hour work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hild labor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17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eside Ch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radio addresses by FDR to explain to the country what the gov’t was doing to solv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1911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the New Deal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rm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1238400"/>
            <a:ext cx="73152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gricultural Adjustment Administration:  AA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d farmers to grow less (decreased supply means increased val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ed farmers on techniques to avoid “dust bowl”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ivilian Conservation Corps:  CC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young men to do conservation projects:  trails, roads, planting tree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nnessee Valley Authority:  T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hydroelectric dams throughout several stat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electricity to 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4796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Progress Agency:  W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3.5 million workers in a variety of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construction projects like airports and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division employed artists, photographers, and playw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Deposit Insurance Corporation:  FD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deposits in banks of up to $2,500 (it is $250,000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76760" cy="20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Secur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pension to retired workers, unemployment benefits, and benefits to the disabled or depen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365760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Emergency Relief Act:  F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direct aid to state and local governments for the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526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curities Exchange Commission:  SE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s the stock market and banks to prevent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4:50:30Z</dcterms:created>
  <dc:creator>Dominic Lambek</dc:creator>
  <dc:description/>
  <dc:language>en-US</dc:language>
  <cp:lastModifiedBy>Dominic Lambek</cp:lastModifiedBy>
  <dcterms:modified xsi:type="dcterms:W3CDTF">2010-05-06T02:50:36Z</dcterms:modified>
  <cp:revision>6</cp:revision>
  <dc:subject/>
  <dc:title>The New Deal</dc:title>
</cp:coreProperties>
</file>