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B760-4FE7-49FC-8D3F-64732995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BE6-CE13-4780-8842-5A61229F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6769-4584-4A3A-8771-AC5C9BE7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207A-FF4D-4A14-91DD-9CDDE732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B190-4300-4E1A-8554-9BC7F772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D571-CFE6-436E-82DF-9BDCC92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FB83-75E8-417A-B69C-A53BC807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48E2-1309-4F94-AB6F-5A0086CF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9FD5-352D-4F9A-A959-F74A799D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A6B-D607-4C44-AD7C-EC291E97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7FC9-F681-435F-B8D3-E8D44E1D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D36-0E29-4FF3-8CB5-2C726E8F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3C03-5C1D-4DA4-A331-D9FBF77D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3404F-1CD3-40BD-93F8-846D8EDD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4AE-577A-4B1B-BC8C-68014C43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9FB0-9FB2-4951-B8B7-6A204901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1C28-6184-4B16-8A07-9B181F91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0D3-B3BC-43E7-9BB9-0FCDF915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43A2-867E-479A-A449-1C528777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DAC5-9915-4A7C-B13C-7DAE5696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B4A-1050-45AB-B4B3-7C10C1C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235-6A20-4EB1-93B6-500E37B3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BADD-EA93-4E5E-B6FE-B13DAAB8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31AE-9FA4-4782-95B6-A467F069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4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3BD69B-FE38-4939-9FF9-89726A1192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39320" cy="2589480"/>
            <a:chOff x="3240" y="4267080"/>
            <a:chExt cx="9139320" cy="258948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39320" cy="25894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88e4"/>
                </a:gs>
                <a:gs pos="100000">
                  <a:srgbClr val="0068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5680" cy="825480"/>
              <a:chOff x="5600880" y="5897520"/>
              <a:chExt cx="1255680" cy="8254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3240" y="6048360"/>
                <a:ext cx="842760" cy="517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6040" cy="4352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4680" cy="327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4360" cy="25092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3480" cy="16812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6600" cy="25416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3440" cy="1029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39680" cy="3412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480" y="5945040"/>
                <a:ext cx="1189080" cy="73044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0840" cy="457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1760" cy="82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79400" cy="1082520"/>
              <a:chOff x="2819520" y="5764320"/>
              <a:chExt cx="2579400" cy="10825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1240" cy="596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0400" cy="5252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3800" cy="473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3440" cy="40788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4120" cy="3794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4200" cy="3031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58920" cy="21276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1120" cy="936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1360" cy="29376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4440" cy="7318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4400" cy="7700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69920" cy="3985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fba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4080" cy="2365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0000" cy="7300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69880" cy="8920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09640" cy="6728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3720" cy="3697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1760" cy="10159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3080" cy="1301760"/>
              <a:chOff x="6553080" y="5334120"/>
              <a:chExt cx="2143080" cy="130176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5120" cy="115884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2200" cy="116856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5520" cy="3985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2680" cy="838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7440" cy="16992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5360" cy="5396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6880" cy="68292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1440" cy="8445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7800" cy="1029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0440" cy="5050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6320" cy="42876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1280" cy="3686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1600" cy="27936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0640" cy="21924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198360" cy="1270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3200" cy="407880"/>
              <a:chOff x="8381880" y="4800600"/>
              <a:chExt cx="673200" cy="4078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6600" cy="1508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7880" cy="8424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3600" cy="24624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3480" cy="270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4160" cy="2937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3760" cy="331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3040" cy="29376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58560" cy="208080"/>
                <a:chOff x="8542440" y="4897440"/>
                <a:chExt cx="358560" cy="2080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58560" cy="208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7280" cy="16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6920" cy="12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280" bIns="442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4480" cy="73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096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5930C-766B-46B0-8D07-CF8A0D4CD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8800" spc="-1" strike="noStrike">
                <a:solidFill>
                  <a:srgbClr val="ccecff"/>
                </a:solidFill>
                <a:latin typeface="Arial"/>
              </a:rPr>
              <a:t>The New Deal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930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3341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National Labor Relations Act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(Wagner Act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tected the rights of workers to join labor un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lped unions and employers negotiate labor disp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029200" y="1600200"/>
            <a:ext cx="35053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ir Labor Standards A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federal minimum wage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 hour work we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deral child labor la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257800" y="2286000"/>
            <a:ext cx="31179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ireside Cha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r radio addresses by FDR to explain to the country what the gov’t was doing to solv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419112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d the New Deal work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315200" cy="523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arm Pri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1238400"/>
            <a:ext cx="7315200" cy="43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mploy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1913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gricultural Adjustment Administration:  AA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d farmers to grow less (decreased supply means increased valu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vised farmers on techniques to avoid “dust bowl”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426744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ivilian Conservation Corps:  CC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young men to do conservation projects:  trails, roads, planting trees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286000" y="2743200"/>
            <a:ext cx="4495680" cy="364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ennessee Valley Authority:  T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hydroelectric dams throughout several states in the Sou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electricity to rural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133720" y="3429000"/>
            <a:ext cx="464796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s Progress Agency:  W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loyed 3.5 million workers in a variety of jo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t construction projects like airports and hospit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s division employed artists, photographers, and playwrigh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038480" y="41911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Deposit Insurance Corporation:  FDI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uaranteed deposits in banks of up to $2,500 (it is $250,000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676760" cy="20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cial Securit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a pension to retired workers, unemployment benefits, and benefits to the disabled or depend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3352680"/>
            <a:ext cx="3657600" cy="27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deral Emergency Relief Act:  FER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ve direct aid to state and local governments for the unemploy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3526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92240"/>
            <a:ext cx="8229600" cy="13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ecurities Exchange Commission:  SEC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ulates the stock market and banks to prevent fra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81480" y="3505320"/>
            <a:ext cx="236232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4:50:30Z</dcterms:created>
  <dc:creator>Dominic Lambek</dc:creator>
  <dc:description/>
  <dc:language>en-US</dc:language>
  <cp:lastModifiedBy>Dominic Lambek</cp:lastModifiedBy>
  <dcterms:modified xsi:type="dcterms:W3CDTF">2010-05-06T02:50:36Z</dcterms:modified>
  <cp:revision>6</cp:revision>
  <dc:subject/>
  <dc:title>The New Deal</dc:title>
</cp:coreProperties>
</file>