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FD79F-F542-4708-AB49-9E0BFB145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936E-FD2E-41D4-970B-AF72CB34F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5499F-496C-46A0-A1EE-CA30C265E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DCB56B-EEBC-4064-A8BB-F399810F9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3034C-C787-4586-B0CD-421CA02EB0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36EF8-8DC0-407C-AEEE-DA3E8BCA9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46E2B-DE9C-4762-9EB3-0E40BD3E5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514AD-11A0-46AC-96B4-D23DF7BA5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D0FCC-05B0-4DC2-AC56-0B63F2B7A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19EAE-44E1-4E45-B745-F06003E5A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74049-D479-4FD8-A163-89C13C6B4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C19EE-BF01-44CD-9129-3EFBE72D7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BDB18-EE02-4ACA-B0FA-0021E9CD9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A1708-E5FB-4DD4-8D20-FC558A5E7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501B5-8CEF-4858-8AAA-800B46E78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AFEEA-1BC7-413D-82C9-C04308BF91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69E691-076A-471A-A04B-CA6BFFC8DE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27BCC-0C1A-4D49-9A4F-6EE8C3A65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6626-5932-41E3-A026-9ED6521F0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CCB42-21E8-4895-9637-5AF663518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8EAB7-5E6E-4C94-BF5B-3DCC326FA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78776-6F75-4634-8C69-51383FF88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C62D-4F43-456F-B8FB-E6A3B5ED2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024D2-8884-43D5-A1CA-D747E8C34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799325-17B7-41AF-8512-3D04FE5C940A}"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62BCDD-9C99-4587-8778-9F188C0C434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76160"/>
            <a:ext cx="876312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urse Thematic Question:</a:t>
            </a:r>
            <a:br>
              <a:rPr sz="4400"/>
            </a:br>
            <a:r>
              <a:rPr b="0" lang="en-US" sz="4400" spc="-1" strike="noStrike">
                <a:solidFill>
                  <a:srgbClr val="e5ffff"/>
                </a:solidFill>
                <a:latin typeface="Tahoma"/>
              </a:rPr>
              <a:t>  Under what conditions is rebellion against the government acceptable?</a:t>
            </a:r>
            <a:endParaRPr b="0" lang="en-US" sz="4400" spc="-1" strike="noStrike">
              <a:solidFill>
                <a:srgbClr val="e5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25520"/>
            <a:ext cx="7772400" cy="253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e5ffff"/>
                </a:solidFill>
                <a:uFillTx/>
                <a:latin typeface="Tahoma"/>
              </a:rPr>
              <a:t>Rebellion</a:t>
            </a:r>
            <a:r>
              <a:rPr b="0" lang="en-US" sz="4000" spc="-1" strike="noStrike">
                <a:solidFill>
                  <a:srgbClr val="e5ffff"/>
                </a:solidFill>
                <a:latin typeface="Tahoma"/>
              </a:rPr>
              <a:t>:  An intentional refusal to obey the recognized authority</a:t>
            </a:r>
            <a:br>
              <a:rPr sz="4000"/>
            </a:br>
            <a:br>
              <a:rPr sz="4000"/>
            </a:br>
            <a:endParaRPr b="0" lang="en-US" sz="4000" spc="-1" strike="noStrike">
              <a:solidFill>
                <a:srgbClr val="e5ffff"/>
              </a:solidFill>
              <a:latin typeface="Tahoma"/>
            </a:endParaRPr>
          </a:p>
        </p:txBody>
      </p:sp>
      <p:sp>
        <p:nvSpPr>
          <p:cNvPr id="84" name="PlaceHolder 2"/>
          <p:cNvSpPr>
            <a:spLocks noGrp="1"/>
          </p:cNvSpPr>
          <p:nvPr>
            <p:ph type="subTitle"/>
          </p:nvPr>
        </p:nvSpPr>
        <p:spPr>
          <a:xfrm>
            <a:off x="1371600" y="2971440"/>
            <a:ext cx="6400800" cy="3095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a:r>
            <a:r>
              <a:rPr b="0" lang="en-US" sz="2400" spc="-1" strike="noStrike">
                <a:solidFill>
                  <a:srgbClr val="ffffff"/>
                </a:solidFill>
                <a:latin typeface="Tahoma"/>
              </a:rPr>
              <a:t>Rebellion” includes a wide range of actions.</a:t>
            </a:r>
            <a:br>
              <a:rPr sz="2400"/>
            </a:b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many different points in history, Americans have rebelled against their government.  As we study rebellions like the Revolutionary War and the Civil War, consider the reasons for and the methods of these rebellions as you evaluate their acceptability.</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80520"/>
            <a:ext cx="86868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Protest</a:t>
            </a:r>
            <a:r>
              <a:rPr b="0" lang="en-US" sz="4400" spc="-1" strike="noStrike">
                <a:solidFill>
                  <a:srgbClr val="e5ffff"/>
                </a:solidFill>
                <a:latin typeface="Tahoma"/>
              </a:rPr>
              <a:t>:  A public expression of opposition to an event or situation</a:t>
            </a:r>
            <a:endParaRPr b="0" lang="en-US" sz="4400" spc="-1" strike="noStrike">
              <a:solidFill>
                <a:srgbClr val="e5ffff"/>
              </a:solidFill>
              <a:latin typeface="Tahoma"/>
            </a:endParaRPr>
          </a:p>
        </p:txBody>
      </p:sp>
      <p:sp>
        <p:nvSpPr>
          <p:cNvPr id="86" name="PlaceHolder 2"/>
          <p:cNvSpPr>
            <a:spLocks noGrp="1"/>
          </p:cNvSpPr>
          <p:nvPr>
            <p:ph/>
          </p:nvPr>
        </p:nvSpPr>
        <p:spPr>
          <a:xfrm>
            <a:off x="457200" y="2971440"/>
            <a:ext cx="8229600" cy="2514600"/>
          </a:xfrm>
          <a:prstGeom prst="rect">
            <a:avLst/>
          </a:prstGeom>
          <a:noFill/>
          <a:ln w="0">
            <a:noFill/>
          </a:ln>
        </p:spPr>
        <p:txBody>
          <a:bodyPr lIns="90000" rIns="90000" tIns="46800" bIns="46800" anchor="t">
            <a:normAutofit/>
          </a:bodyPr>
          <a:p>
            <a:pPr marL="341280" indent="-341280">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are some of the pros and cons of protesting to get your views heard?</a:t>
            </a:r>
            <a:endParaRPr b="0" lang="en-US" sz="3200" spc="-1" strike="noStrike">
              <a:solidFill>
                <a:srgbClr val="ffffff"/>
              </a:solidFill>
              <a:latin typeface="Tahoma"/>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Civil Disobedience</a:t>
            </a:r>
            <a:r>
              <a:rPr b="0" lang="en-US" sz="4400" spc="-1" strike="noStrike">
                <a:solidFill>
                  <a:srgbClr val="e5ffff"/>
                </a:solidFill>
                <a:latin typeface="Tahoma"/>
              </a:rPr>
              <a:t>:  An active refusal to obey a specific law</a:t>
            </a:r>
            <a:endParaRPr b="0" lang="en-US" sz="4400" spc="-1" strike="noStrike">
              <a:solidFill>
                <a:srgbClr val="e5ffff"/>
              </a:solidFill>
              <a:latin typeface="Tahoma"/>
            </a:endParaRPr>
          </a:p>
        </p:txBody>
      </p:sp>
      <p:sp>
        <p:nvSpPr>
          <p:cNvPr id="88" name="PlaceHolder 2"/>
          <p:cNvSpPr>
            <a:spLocks noGrp="1"/>
          </p:cNvSpPr>
          <p:nvPr>
            <p:ph/>
          </p:nvPr>
        </p:nvSpPr>
        <p:spPr>
          <a:xfrm>
            <a:off x="457200" y="1828440"/>
            <a:ext cx="82296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Civil Disobedience has long been considered an “acceptable” form of rebellion.</a:t>
            </a: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To be “civil disobedience,” 5 conditions must be met:</a:t>
            </a:r>
            <a:endParaRPr b="0" lang="en-US" sz="28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situation being protested must be a violation of one’s natural or civil right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All legal means to change the situation have been tried without succes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cannot be self-serving</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must be peaceful</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ers willingly accept the consequences of their actions</a:t>
            </a:r>
            <a:endParaRPr b="0" lang="en-US" sz="24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880"/>
            <a:ext cx="8305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Terrorism</a:t>
            </a:r>
            <a:r>
              <a:rPr b="0" lang="en-US" sz="4400" spc="-1" strike="noStrike">
                <a:solidFill>
                  <a:srgbClr val="e5ffff"/>
                </a:solidFill>
                <a:latin typeface="Tahoma"/>
              </a:rPr>
              <a:t>:  Violent acts meant to create fear among the general public in order to achieve a political goal</a:t>
            </a:r>
            <a:endParaRPr b="0" lang="en-US" sz="4400" spc="-1" strike="noStrike">
              <a:solidFill>
                <a:srgbClr val="e5ffff"/>
              </a:solidFill>
              <a:latin typeface="Tahoma"/>
            </a:endParaRPr>
          </a:p>
        </p:txBody>
      </p:sp>
      <p:sp>
        <p:nvSpPr>
          <p:cNvPr id="90" name="PlaceHolder 2"/>
          <p:cNvSpPr>
            <a:spLocks noGrp="1"/>
          </p:cNvSpPr>
          <p:nvPr>
            <p:ph/>
          </p:nvPr>
        </p:nvSpPr>
        <p:spPr>
          <a:xfrm>
            <a:off x="457200" y="3580920"/>
            <a:ext cx="8229600" cy="2605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2:59:17Z</dcterms:created>
  <dc:creator>Dominic Lambek</dc:creator>
  <dc:description/>
  <dc:language>en-US</dc:language>
  <cp:lastModifiedBy>Dominic Lambek</cp:lastModifiedBy>
  <dcterms:modified xsi:type="dcterms:W3CDTF">2008-11-03T01:31:13Z</dcterms:modified>
  <cp:revision>3</cp:revision>
  <dc:subject/>
  <dc:title>Unit Question:  Under what conditions is rebellion against the government acceptable?</dc:title>
</cp:coreProperties>
</file>